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7.gif" ContentType="image/gif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dt" idx="79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ftr" idx="80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 type="sldNum" idx="81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168CC5F-FB73-41C3-B409-109E73BCFC11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A44BCC-7B99-4176-B42E-FD98DECE5003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6254F36-7615-4761-829A-2A71E5415B9C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7E74044-8C44-4DEC-828A-72B07AE23372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CB16DD-94EB-48C2-965A-A3CBE79287A6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1179622-1478-4508-9AA4-8D1641EB3432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A4DF8B7-7266-4074-B1E3-9EF7FE9470D9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ADCD422-A4D2-4ADD-BD28-2A8A5D760439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72311BB-0D28-4948-AE4E-29F63D391326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A847100-4C63-428C-ACC4-63C4F937EB7B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891-76C6-410E-AEC0-A337BBD7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81C6-ECFF-4B1D-A81F-7601B7D9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9CB9A-E6A0-4C96-9035-B7F4E3A5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AAF75-EE65-4CE1-BEE3-79D21F98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BABEB-F7D1-4CEF-9845-4EB308F2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EA34E-0F53-486A-B2D7-0AE960F3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F8EEA-48CA-42B3-B6E9-9B7C786B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B42BE-D685-4392-90B6-D4434077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23508-9F35-41FC-BA42-B1BC47C1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2ACCC-3414-4EDC-A91F-63E255A2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2BA64-D9AE-46E9-949D-8A9D0D42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4D99E-35CF-4627-AC02-89B200E7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7E56-1BB9-414E-BC70-685A82EE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29D10-6E69-46B6-9301-DFF73E5F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3452E-0B91-49D8-A0E6-AC58DAD5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A685F-8596-43F5-A4A7-8D540E62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FDB72-0F2E-4A70-9A2F-DDECF506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42028-3669-48DA-8F48-0381BA0C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427F6-AD6F-4C51-AC19-1CED1E04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3FF7A-FA1E-412F-8F37-54CD248E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F73E7-CE39-42E3-BC18-4D8C4C58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5D5B7-D356-43F9-AC75-839000EE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BE507-F16A-4B7F-A6CF-0FA15669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467-BC6E-400D-ABD6-AD031CA8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0ED0D-780F-4C35-8315-A910A5BD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177B9-584F-4A84-9D89-5EC6FF06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240B1-150F-43BE-8BA8-69076C8E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FB6C6-9CEC-4683-A2E8-DDCB61A8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D07F7-A76A-4F37-834F-17CDDB61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6F336-93F8-48AE-ADAE-CFC0D4F2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FF10B-0AC6-463B-B6FF-DCD78A79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B4CDD-60E6-4C47-B131-96CA6056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A07CE-FA9E-427C-B44D-9A39A18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CE49F-A01E-47EF-AB3B-4141D726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2A68-3CB8-4A45-A0B6-29DA6CA0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5B3D2-8B17-4E58-831D-2B20A9A5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1DA15-5BAA-44DF-85DB-B75982C7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A4A8E-5825-4DFF-A45B-64DC2CB8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8DF57-0479-4730-9BE1-76FF9E26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99914-C11A-4269-BBCD-19119C3F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B3BE4-2947-47F2-8681-A0325D17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B82E3-717C-482A-B308-963342D9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CD787-D5C1-401F-939A-B94AE1F2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E1259-8429-4D23-94B7-063E8B7F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1B4C2-C196-49C9-B8F6-A223322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8DF9-A359-41E8-9B5B-4B362D3F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45469-3583-40D1-BB2B-CBFFB4D8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F792B-A75E-4D52-BD5B-ECCE50A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7BDEE-DB88-4B29-A054-09CAF135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6C111-98F1-4424-BC10-F13F8F24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406FC-3CB9-4DBF-9AB6-6A403FC8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BEFD4-D444-49AA-8EA0-F9D83D7B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B21C84-3DFF-4310-8201-47DCB64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A0C98-6085-42F4-9716-3A08EE73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08F6D-816E-4221-AF5E-38942AB5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CF198-6DFF-4C96-B79D-4241C720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8D14-E9B7-4EC7-8C18-609E5B61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0A986-E150-4EC0-AC69-1CB44721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925E7-6B14-4EDB-9DF1-7C5EB666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18B28-F12D-4F9E-83DE-A079128C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973EF-B337-44AD-83CF-50189F4F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15B5E-DC45-4E8E-9E15-F9A74392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9CED9-7816-4707-A5D9-34DA26CE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28886-7578-49E9-8D01-C4F21A78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EB7D5-B87C-4D79-81B4-24EA7DAB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7E499-E340-4FE6-B984-A2432D69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06DCF-81D9-4FF3-A0FB-29EFACC2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6D95-66B0-485D-AEDA-99AD3F85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CFF76-2853-4CAB-A346-BE49C644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AD6E42-01B9-4633-96CA-03BC793D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DE6CE6-5EA5-48D1-A13F-915593B4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3B50A-A115-4FF4-A88B-9085A7D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85C5A2-3D5A-4563-9EB4-6A46BB6A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D46D33-2A71-4358-BAC2-A6D7953B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A6AEA-EFEE-4238-89A9-0B4C5D5F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BF1EF-25CD-4FA0-9C19-C0F8E64D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8C2BF-CCBE-446C-B1BE-B3743664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6FB1E-8918-4CDC-8A32-16BF41FD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7C69-4A70-42E5-8351-B4B7385C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4943E5-E4E4-4AEF-91B9-B8C963E8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17D4F1-92B8-4624-9888-8A1943D9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F7C61-8109-4185-84BA-175A0BA9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522C6-42EB-4AAF-BD45-56648E50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44775F-8E33-4EE3-965F-0E8DAB6B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8CA82B-B192-4500-BDF9-CB2DD98F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C3E6E-E395-45F1-934E-B7416CE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A654E-AA5B-4C5C-AA9F-FA7A6246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3D6DE8-FF72-4A8F-8C56-58757D5D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9EDCE-E23E-49CF-A67E-A5F50D6C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1ECF-40C7-4B9D-A3A0-A7A8A9C3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55AA2-8BE0-4610-B999-AF27DE26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9307A-794D-4484-A476-FCB18ECD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630FB-3656-40F1-BA69-E7D658BD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E37B3-999B-41B5-983B-0B1A048B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741DA6-B5AA-4D43-91F8-9230F3FC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FA383-1467-46B9-9548-22293064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0D79F0-578F-41B5-AD15-D5C38A0F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9EDFF-6370-479F-8725-59D25D8F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BA784-B352-46AB-84B2-1D0ADB2C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F50540-0CCA-41B8-A1B1-E2ADE99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9759-EFC9-45A3-8BBD-99EB4506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9549B-66A1-49B3-9EDB-00604DC3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7A901F-0F63-449C-8048-F7EE7021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68956D-6884-42CF-B3B5-41678B62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E773C-B556-4966-84E3-A4562FE0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EF748-82AD-4E77-A6C9-A2363645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C3F94-A344-4B7A-86AB-BD960688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4763E-70ED-41A4-A98A-C9DF1A07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AAFF9-112F-48B0-AA7A-854E47EB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258F9-A580-4C6D-A202-586CDB72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FF0384-220F-44C9-ACD0-7104DBD8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1A2-E1DD-45EB-B57E-3F4CFE95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670E-72D3-48EE-AA07-8CB03C50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03A95-8804-4EEC-BF86-373467A6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00F07-6483-4930-858A-7C00ACFE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9388C-9ADA-45C5-B079-CDC47A77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3ECEE7-B47F-48DE-A684-D29D4C7E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56C571-CE72-4ED2-8244-ACDC720C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B478C-8B73-4214-8AAF-717D5999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C7BB6-52FF-4504-8982-19FFA0A8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6CA720-705C-4A45-B118-C444B4C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DF77FF-09F7-4ED1-80BE-236E2FEA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6A3CE-BA99-4A13-86E6-1C0AD42A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0F60-7B4B-49EC-9C1F-4893F590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AC67EA-3530-43FB-9352-B5860A56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8DA6D-08B6-4102-B88F-70BDFB13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17A41-CB38-42DB-B4EF-ADB88781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AF9A41-757E-42DA-A775-B9470D1B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DFD2D-1691-47F3-A9C3-2DEED536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612E5-AB85-41AB-B9A8-3E857BB9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B293BD-20FA-41C1-BD64-C3A20EC29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D6F7EB-8B7B-445C-B9C4-F7D024A7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8A53FE-9B65-4270-8F7B-445C24B7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E1933-8AAD-46C1-8518-10AB15A4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EC98-009F-4554-AA33-82074D57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AF878D-5EDB-4884-8F94-E104E45F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8DF91-B627-4CA0-89B1-F507F8CB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884E48-849D-4D82-B8EA-F7C09E3D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AF62A6-F1F1-40E2-8840-D64B71C3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6D3DC3-71B6-446F-A916-D04B8041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EE9542-4624-46B1-8CE7-9954717F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9EF79E-D8F4-4A1D-8049-38C77B82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8D5951-0B3D-407A-B5D6-4D571DD5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8F4A6F-0D5E-4604-838B-AF008DBC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840901-39E4-445E-B7BD-E388E890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9560-0BF1-441F-954E-D72EF2C9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5C896C-A053-4AC6-9ECE-8C82D46E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1E471-DA73-4688-8F8E-60885C7F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1BF8DD-F187-426A-B031-02A783BF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29A5AD-A3E7-4B49-8F9C-A4F15C9A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4D25CF-5BD3-44ED-B274-D2A46471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1591B8-FD18-4C2E-B775-AE7D2D66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0D9B44-51BB-41F9-9EF3-17E16EF9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AA81E2-B688-42B6-8D65-C692F916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A8C853-14CB-4BA4-9876-B28C68B8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BBD342-83CE-4E0F-AE78-1312956C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8F1A-CE93-469F-9CF2-07B6A032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91220A-ADB6-4D40-B03E-544AC74B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50DE3F-87EC-400A-AF5F-5E8A3EBF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D31FB-5544-42CE-A44A-6C560EAE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2B033-1539-4566-A0AA-7F5B39F2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E25752-6635-4F0B-A29E-105E7086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AD77CB-F150-4AF8-9E8C-CE1E0020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595E40-0B4E-43D6-B7EB-132B6E7F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317ED1-58D6-495A-B334-905F6B7B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E2D99A-08A0-4265-8286-DEBA588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CFFB41-70FB-40E7-ADF2-F1B37F82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E2260-DE3B-4726-8555-024CB305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41295B-D753-4ED1-880E-07CAC1F3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5B4F76-40EC-4AFB-BE37-1593444C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6D7B0-E64B-4C7A-A4C3-B0BF478B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BBF5B3-D651-4DAC-8DD0-DE04374F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777A05-CB60-47F2-9CEA-8D900F10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1F6394-C3D4-4F86-A920-952865F9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779F67-AA3C-44A9-A59E-A8FBF177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155B2E-69E7-4797-A656-7FE19615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094898-A9F9-4CA9-90F9-48A23C7F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EA1DA6-175C-48B1-B223-9A96C286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D85C-FC66-485E-9664-3F5CFC0C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C205C-40C8-43D2-B9F1-C9426839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7D4292-3301-45D0-AF1E-1463DB3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745AC7-A416-4850-A40A-262A610B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7D745C-FDD5-4940-9ECE-DFA6DC313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94928-9F3D-40F8-B6B5-916251EF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CC3AD9-8E56-4F48-A988-D0E76F3D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81D1D9-0CDA-4415-872F-11605646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141609-8D2F-4C4E-A0E6-52C235B2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FF2830-FAF6-4D1C-9959-68705B6B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3E1E7D-8989-4D76-8741-5A87F7DD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49A0-DF00-4FB0-8EC5-1DF36294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05A40B-1ADB-41B3-8ABE-EDE0F97F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9972F-D981-4EFB-9781-5B725A7E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3FD93F-8113-428A-8B90-73D4D4BF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350EEA-631F-4521-915D-36CC38EA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EEBFCA-26D9-441E-86B8-64582E2A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D99D75-6435-4891-A8E2-F8C70A31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CE4CEB-6E0C-4909-9343-64117C00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307C01-7A32-4801-A50B-7CE714CB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4C747E-34B0-4974-9C9C-86D48C50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18EEE9-E1DA-45DB-9D6F-47F79305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1AB3A-C771-446E-BE9A-48AE5327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64938A-F62D-466F-8BD7-B817C1F8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B5C3FB-25CE-4659-9799-CFA57C1D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1F91D4-0950-4049-941D-797C5599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72C5E4-09DE-4D31-9A00-440DC84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F71FF2-896B-4D16-98E9-F418B15B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3A973F-E4DA-412D-9CB8-7856E994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2C3563-AAC2-4EBC-A177-47DCA667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3411C2-027D-4BF0-A77A-678F4444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6B715F-F357-4B38-9DB4-FB19D97F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028CCA-AE9F-4F91-A517-B73F94B1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8532-3CD7-41E0-83AB-85AA3676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277A74-8441-4E58-B74A-95178615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CE7C0D-B9D9-4332-A30C-650DEFC5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834F4C-4555-4F7A-A45E-17E3919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85C29D-AA14-4BC3-BA74-A7ACA79B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6CA749-EBC5-46E7-9B73-A12F9864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219194-FC30-487C-A2D7-5398538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BEB7E5-8B6C-4603-8AF4-16C350D6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C85DB0-D7C2-45CE-B9F5-537B5055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6B0A41-65F2-4791-9204-817A22D7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49260E-1287-4D00-8D1C-009BCA92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3CF-00E3-43B2-9359-1567CDB1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0DA37-A796-4C75-A3BB-95DD11E1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734268-55BB-4282-9C8F-01F14A16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59D66A-D061-4CC2-98B6-12150647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68D5EB-561B-4428-BB63-AC0AA5D1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085925-9AEB-43AD-834D-EBD64E8F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F7ADC5-28BB-46CD-AF08-23FF1B6D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81E18F-97AD-4039-99E0-0970C5EE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2E31C2-B195-45BE-9B48-328314AC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BBFEE8-1021-4A36-9A8E-FA74DABD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014AAE-5014-4362-AC41-19294A6A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0134BC-C3E4-4B30-94B4-57DD49EC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DE772-27E0-4E75-827B-47970271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26FD51-86D7-429B-96EC-2D9BF314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7A7416-E957-42FC-A963-701B2525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352947-AFFA-4F1A-A59C-5F596C1C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685A-5BBD-4A35-B366-A08FB2BF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328C-935B-4BC5-A254-9CFCCEB5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9554-C35E-4A17-B75F-EA043EF0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58B0-9915-482C-B40E-570BC5FC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26E5-3942-45B2-BE9B-FC594EB0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027C8-A4E8-4065-8883-11E68898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8D2BF-3DED-4331-85CE-05C80832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1D4ED-CD46-4EF9-B8F9-9176BDC6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2B1-B10E-49A4-867B-528B66ED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8A1E5-1E99-4697-A07F-57F813B6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1185B-29D7-4159-BB6B-F9328F1B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54D30-C842-4636-9921-C71E4D8C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DBC41-F3E3-4ED5-B756-551947E1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088AB-4E85-4A6B-85B2-73EF2F94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F7866-B1A1-4D7D-855A-2ADC6AC5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7D416-0D58-46AD-B292-C0734B94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9BCF-D008-44ED-BADD-9DA6B257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60ECD-4904-4969-AA2A-3BA031FC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007E8-CFFD-4B0A-B5E6-2FC3ED0F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027-59F4-4BE7-BE32-D240404B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F34B4-3C8D-44F9-AEE4-B3BA3568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1D777-2BB9-43D7-B368-45564E92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A4038-09A8-4A75-8EAB-9966634C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3230-19D6-48D0-A524-22C20771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CA261-FD5B-4167-9C00-D534F44F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09B29-9E6A-4785-AA11-31B7AA46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603B2-206F-4DA7-B94A-CAB12DFE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0087B-BB00-459C-B5C7-C346FCD8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7CC62-9BD3-4A32-8D86-766F354D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FBB55-1C43-41D7-8C6E-2DA612D2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2DF-A5F8-46CE-A6C0-4527C177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3F0FF-A45B-4FBD-9F97-1F3C23AC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A4E4B-46CF-4157-9205-4B41BED5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31C8C-C485-4394-A203-1B4ED42F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906FA-C4A0-49F7-8AD7-FBF79B54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3F29B-4305-4DDA-83DF-24ECEE90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B4564-7B20-460A-9FC2-094CC6B9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3411C-B394-4468-8C0D-3EDD9047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698FE-A33F-4CF0-B63A-0C354A9B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27843-219D-4DE9-A495-1779C3A1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D4CA2-C1E8-4876-8A85-6F15B880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64B-E99A-4EBC-A2BD-6F84EB66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69742-5873-4EDC-B213-7C67997E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B934B-ED93-4D82-9C06-E7093A4C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0D9FD-D718-4951-80AA-28FCDC75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5287-3155-412E-BB9A-761388F5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130E0-9B65-419A-9986-8FEB1C2C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73C97-617F-49D3-8B2E-8AC0B9BD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0E6CA-7AF4-46EE-AD3B-6FD59C59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7AC8E-C10D-48BC-8DCC-6D153C38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3E8C0-66F7-407B-B2C8-8AA2EB0F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6F5A0-9ECF-4A97-BB55-FCB3D75E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40FC-45BE-4283-ADF1-96A3AF7F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A3666-AC10-4D80-8723-715A4C00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7181-F22F-48F8-856F-96E1603D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7E6B2-6522-48E4-AED4-CE92234E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369C2-16C9-4B28-9F26-D95FB9D4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7E54A-4ABF-496C-A996-8C7A7DE8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A01FE-DD67-460B-AB01-076423F5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AE053-6179-4E6C-94DE-6FACDAC0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22C55-5C84-426D-8752-67F1D503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2C487-ABF2-42C3-8C9F-40BA1627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68619-AAED-448A-8A2B-C70D6240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DA9-0604-45BF-BA0A-DE4A89D9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568CD-DE0E-4AA3-A28D-6D02080A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7C5BB-A19D-4131-836D-E6B8145F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658E-A707-4CD0-ACE5-E0E817FD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34927-44FB-491A-9749-A2C5C276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776F7-D4CD-4B24-9607-0D5C30AB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566CF-C4AD-4A77-9E51-74E58150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99409-D32F-42FA-B8AE-C6C79E74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C2FC5-2F0D-49F7-B6B3-B720D7F4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C22C2-AB2B-4324-A990-AB0B7ACC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7B85E-EB74-4746-BA4D-5D3687CD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21E4-ECE8-4CF1-94AE-943707482696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BE9D-7C6D-4A18-8C90-09A4B9AC7462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2792-CA67-42A4-9FBD-A8FC14A6DAF6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C999-F2D4-4278-A910-2282A6457EA2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3C8-D4DB-41DE-B191-B7F70C6206D3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F43C-6B75-45A3-92BD-F7FDF28EAD45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38F5-A5F9-4EC5-AE11-954BF1484AE3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FBD7-197C-495F-9D8E-5B0AE681E659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A7A7-C904-46CE-9A31-E19D4FF93138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D1C8-0881-406E-AE5C-1F96647207E0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2028-E142-4AF7-9BC2-2305A195E009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6F6A-4BA3-4CE1-9658-012218712481}" type="slidenum">
              <a:rPr b="0" lang="bg-BG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1486-25F6-4CB0-B6B1-E1661DD72CBC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1238-BD30-4716-B329-16B2FD85D0F1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1F9E-7816-4E84-86AC-E0F5DCE22C0B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119F-3A62-4F0A-A7B2-897E216BEC69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C47F-2CDA-4864-B3F9-2BB5EDD60ACE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4BB6-3D40-480B-9A1A-6EEFD8E147E5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0F29-12CC-4CF3-96C4-69FE19573442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C021-3E8A-4713-B4C5-AF4702670070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AB33-53AA-4813-8E50-BA4C745B1FD4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DC08-2EDB-4EA4-8594-ABABC0FAFCAE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0567-B453-4B1C-9AA1-B6D78E987291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F3BA-9D59-4587-81FF-476164567B4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B1B-7A2A-4913-B7E3-238790CF42CC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D79B-DC53-4335-9864-D562689D0837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mrrb.government.bg/" TargetMode="External"/><Relationship Id="rId6" Type="http://schemas.openxmlformats.org/officeDocument/2006/relationships/hyperlink" Target="http://www.bgregio.eu/" TargetMode="External"/><Relationship Id="rId7" Type="http://schemas.openxmlformats.org/officeDocument/2006/relationships/slideLayout" Target="../slideLayouts/slideLayout18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25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1" descr="slide_EU logo.png"/>
          <p:cNvPicPr/>
          <p:nvPr/>
        </p:nvPicPr>
        <p:blipFill>
          <a:blip r:embed="rId2"/>
          <a:stretch/>
        </p:blipFill>
        <p:spPr>
          <a:xfrm>
            <a:off x="7667640" y="18900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7" descr=""/>
          <p:cNvPicPr/>
          <p:nvPr/>
        </p:nvPicPr>
        <p:blipFill>
          <a:blip r:embed="rId4"/>
          <a:stretch/>
        </p:blipFill>
        <p:spPr>
          <a:xfrm>
            <a:off x="395280" y="333360"/>
            <a:ext cx="1084320" cy="1152720"/>
          </a:xfrm>
          <a:prstGeom prst="rect">
            <a:avLst/>
          </a:prstGeom>
          <a:ln w="0">
            <a:noFill/>
          </a:ln>
        </p:spPr>
      </p:pic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 програма “Региони в растеж”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2014 - 20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Line 18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Напредък в процеса на подготовк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перативна програма „Региони в растеж“ 2014-2020г.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www.mrrb.government.bg</a:t>
            </a:r>
            <a:br>
              <a:rPr sz="2400"/>
            </a:b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www.bgregio.eu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085" name="Diagram 11" descr=""/>
          <p:cNvPicPr/>
          <p:nvPr/>
        </p:nvPicPr>
        <p:blipFill>
          <a:blip r:embed="rId3"/>
          <a:stretch/>
        </p:blipFill>
        <p:spPr>
          <a:xfrm>
            <a:off x="176040" y="1627200"/>
            <a:ext cx="8718840" cy="4981680"/>
          </a:xfrm>
          <a:prstGeom prst="rect">
            <a:avLst/>
          </a:prstGeom>
          <a:ln w="0">
            <a:noFill/>
          </a:ln>
        </p:spPr>
      </p:pic>
      <p:sp>
        <p:nvSpPr>
          <p:cNvPr id="1086" name="Rectangle 8"/>
          <p:cNvSpPr/>
          <p:nvPr/>
        </p:nvSpPr>
        <p:spPr>
          <a:xfrm>
            <a:off x="1401840" y="104760"/>
            <a:ext cx="648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Напредък в процеса на програмиране на ОПРР 2014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11" descr="slide_EU logo.png"/>
          <p:cNvPicPr/>
          <p:nvPr/>
        </p:nvPicPr>
        <p:blipFill>
          <a:blip r:embed="rId4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7" descr=""/>
          <p:cNvPicPr/>
          <p:nvPr/>
        </p:nvPicPr>
        <p:blipFill>
          <a:blip r:embed="rId5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  <p:sp>
        <p:nvSpPr>
          <p:cNvPr id="1089" name="Line 18"/>
          <p:cNvSpPr/>
          <p:nvPr/>
        </p:nvSpPr>
        <p:spPr>
          <a:xfrm>
            <a:off x="0" y="134136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2"/>
          <p:cNvSpPr/>
          <p:nvPr/>
        </p:nvSpPr>
        <p:spPr>
          <a:xfrm>
            <a:off x="1282680" y="2732040"/>
            <a:ext cx="16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зпратена официално – 30.05.14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ight Arrow 22"/>
          <p:cNvSpPr/>
          <p:nvPr/>
        </p:nvSpPr>
        <p:spPr>
          <a:xfrm rot="5400000">
            <a:off x="6649560" y="3652920"/>
            <a:ext cx="621000" cy="43956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ight Arrow 23"/>
          <p:cNvSpPr/>
          <p:nvPr/>
        </p:nvSpPr>
        <p:spPr>
          <a:xfrm rot="5400000">
            <a:off x="6677280" y="5031360"/>
            <a:ext cx="619200" cy="4395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ight Arrow 24"/>
          <p:cNvSpPr/>
          <p:nvPr/>
        </p:nvSpPr>
        <p:spPr>
          <a:xfrm rot="1800000">
            <a:off x="5411520" y="2225520"/>
            <a:ext cx="869760" cy="43992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ight Arrow 25"/>
          <p:cNvSpPr/>
          <p:nvPr/>
        </p:nvSpPr>
        <p:spPr>
          <a:xfrm rot="10080000">
            <a:off x="5633640" y="5803200"/>
            <a:ext cx="620640" cy="4395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ight Arrow 26"/>
          <p:cNvSpPr/>
          <p:nvPr/>
        </p:nvSpPr>
        <p:spPr>
          <a:xfrm rot="12060000">
            <a:off x="2878200" y="5754240"/>
            <a:ext cx="619200" cy="4888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ight Arrow 27"/>
          <p:cNvSpPr/>
          <p:nvPr/>
        </p:nvSpPr>
        <p:spPr>
          <a:xfrm rot="16260000">
            <a:off x="1624680" y="4794840"/>
            <a:ext cx="620640" cy="48924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ight Arrow 28"/>
          <p:cNvSpPr/>
          <p:nvPr/>
        </p:nvSpPr>
        <p:spPr>
          <a:xfrm rot="16260000">
            <a:off x="1624680" y="3661200"/>
            <a:ext cx="620640" cy="48924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9"/>
          <p:cNvSpPr/>
          <p:nvPr/>
        </p:nvSpPr>
        <p:spPr>
          <a:xfrm>
            <a:off x="3014640" y="2997360"/>
            <a:ext cx="2943360" cy="2043000"/>
          </a:xfrm>
          <a:prstGeom prst="rect">
            <a:avLst/>
          </a:pr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добрена оперативна програма „Региони в растеж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miley Face 20"/>
          <p:cNvSpPr/>
          <p:nvPr/>
        </p:nvSpPr>
        <p:spPr>
          <a:xfrm>
            <a:off x="3187800" y="3906720"/>
            <a:ext cx="1152360" cy="10684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Curved Down Arrow 3"/>
          <p:cNvSpPr/>
          <p:nvPr/>
        </p:nvSpPr>
        <p:spPr>
          <a:xfrm>
            <a:off x="1763640" y="1700280"/>
            <a:ext cx="2087640" cy="1031760"/>
          </a:xfrm>
          <a:custGeom>
            <a:avLst/>
            <a:gdLst>
              <a:gd name="textAreaLeft" fmla="*/ 426240 w 2087640"/>
              <a:gd name="textAreaRight" fmla="*/ 1537200 w 2087640"/>
              <a:gd name="textAreaTop" fmla="*/ 138240 h 1031760"/>
              <a:gd name="textAreaBottom" fmla="*/ 893520 h 103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23" hR="21600" stAng="10800000" swAng="5400000"/>
                <a:lnTo>
                  <a:pt x="11492" y="0"/>
                </a:lnTo>
                <a:arcTo wR="8823" hR="21600" stAng="-5400000" swAng="3462160"/>
                <a:lnTo>
                  <a:pt x="21320" y="16200"/>
                </a:lnTo>
                <a:lnTo>
                  <a:pt x="18981" y="21600"/>
                </a:lnTo>
                <a:lnTo>
                  <a:pt x="16081" y="16200"/>
                </a:lnTo>
                <a:lnTo>
                  <a:pt x="17366" y="16200"/>
                </a:lnTo>
                <a:arcTo wR="8823" hR="21600" stAng="-1937840" swAng="-3247574"/>
                <a:lnTo>
                  <a:pt x="10158" y="249"/>
                </a:lnTo>
                <a:arcTo wR="8823" hR="21600" stAng="-5614585" swAng="-5185415"/>
                <a:close/>
              </a:path>
              <a:path fill="darkenLess" w="21600" h="21600">
                <a:moveTo>
                  <a:pt x="0" y="21600"/>
                </a:moveTo>
                <a:arcTo wR="8823" hR="21600" stAng="10800000" swAng="5400000"/>
                <a:lnTo>
                  <a:pt x="8823" y="0"/>
                </a:lnTo>
                <a:arcTo wR="8823" hR="21600" stAng="-5400000" swAng="214585"/>
                <a:lnTo>
                  <a:pt x="10158" y="249"/>
                </a:lnTo>
                <a:arcTo wR="8823" hR="21600" stAng="-5614585" swAng="-5185415"/>
                <a:close/>
              </a:path>
            </a:pathLst>
          </a:custGeom>
          <a:solidFill>
            <a:srgbClr val="00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3 до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месе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21" descr="C:\Users\DimovD\AppData\Local\Microsoft\Windows\Temporary Internet Files\Content.IE5\KBIYNC14\MM900041090[1].gif"/>
          <p:cNvPicPr/>
          <p:nvPr/>
        </p:nvPicPr>
        <p:blipFill>
          <a:blip r:embed="rId6"/>
          <a:stretch/>
        </p:blipFill>
        <p:spPr>
          <a:xfrm>
            <a:off x="4788000" y="4013280"/>
            <a:ext cx="10000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104" name="Diagram 23" descr=""/>
          <p:cNvPicPr/>
          <p:nvPr/>
        </p:nvPicPr>
        <p:blipFill>
          <a:blip r:embed="rId3"/>
          <a:stretch/>
        </p:blipFill>
        <p:spPr>
          <a:xfrm>
            <a:off x="328680" y="1700280"/>
            <a:ext cx="6846840" cy="4749840"/>
          </a:xfrm>
          <a:prstGeom prst="rect">
            <a:avLst/>
          </a:prstGeom>
          <a:ln w="0">
            <a:noFill/>
          </a:ln>
        </p:spPr>
      </p:pic>
      <p:sp>
        <p:nvSpPr>
          <p:cNvPr id="1105" name="Rectangle 8"/>
          <p:cNvSpPr/>
          <p:nvPr/>
        </p:nvSpPr>
        <p:spPr>
          <a:xfrm>
            <a:off x="1401840" y="104760"/>
            <a:ext cx="648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Промени в четвърта верс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на ОПРР 2014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1" descr="slide_EU logo.png"/>
          <p:cNvPicPr/>
          <p:nvPr/>
        </p:nvPicPr>
        <p:blipFill>
          <a:blip r:embed="rId4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7" descr=""/>
          <p:cNvPicPr/>
          <p:nvPr/>
        </p:nvPicPr>
        <p:blipFill>
          <a:blip r:embed="rId5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  <p:sp>
        <p:nvSpPr>
          <p:cNvPr id="1108" name="Line 18"/>
          <p:cNvSpPr/>
          <p:nvPr/>
        </p:nvSpPr>
        <p:spPr>
          <a:xfrm>
            <a:off x="0" y="134136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Right Arrow Callout 27"/>
          <p:cNvSpPr/>
          <p:nvPr/>
        </p:nvSpPr>
        <p:spPr>
          <a:xfrm>
            <a:off x="7280280" y="1778040"/>
            <a:ext cx="714240" cy="4600440"/>
          </a:xfrm>
          <a:prstGeom prst="rightArrowCallout">
            <a:avLst>
              <a:gd name="adj1" fmla="val 24991"/>
              <a:gd name="adj2" fmla="val 25019"/>
              <a:gd name="adj3" fmla="val 25000"/>
              <a:gd name="adj4" fmla="val 6497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Rectangle 28" descr=""/>
          <p:cNvPicPr/>
          <p:nvPr/>
        </p:nvPicPr>
        <p:blipFill>
          <a:blip r:embed="rId6"/>
          <a:stretch/>
        </p:blipFill>
        <p:spPr>
          <a:xfrm>
            <a:off x="8021520" y="1755720"/>
            <a:ext cx="5191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1" descr="slide_EU logo.png"/>
          <p:cNvPicPr/>
          <p:nvPr/>
        </p:nvPicPr>
        <p:blipFill>
          <a:blip r:embed="rId2"/>
          <a:stretch/>
        </p:blipFill>
        <p:spPr>
          <a:xfrm>
            <a:off x="179280" y="468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7" descr=""/>
          <p:cNvPicPr/>
          <p:nvPr/>
        </p:nvPicPr>
        <p:blipFill>
          <a:blip r:embed="rId4"/>
          <a:stretch/>
        </p:blipFill>
        <p:spPr>
          <a:xfrm>
            <a:off x="7885080" y="12708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582560" y="333360"/>
            <a:ext cx="5978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а ос 1: „Устойчиво и интегрирано градско развитие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Line 18"/>
          <p:cNvSpPr/>
          <p:nvPr/>
        </p:nvSpPr>
        <p:spPr>
          <a:xfrm>
            <a:off x="0" y="127944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Content Placeholder 2"/>
          <p:cNvSpPr/>
          <p:nvPr/>
        </p:nvSpPr>
        <p:spPr>
          <a:xfrm>
            <a:off x="108000" y="1281240"/>
            <a:ext cx="8955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1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Енергийна ефективност в административни и жилищни сгради и студентски общежития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262 млн. евр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 Съотноше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75%/25% безвъзмездно финансиране/финансови инструменти за жилищните сгради и студентски общеж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ирекция „ОЖС” в МРР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, студентски общежития, финансови инструмен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добряване на градска сред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70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градска сред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191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(10%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финансови инструменти)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они с потенциал за икономическо развитие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79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 (33% финансови инструмен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, финансови инст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3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на инфраструктура (общинска)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07 млн. ев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67 общ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4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63 млн. евр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52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67 общ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рт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48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Финансови инструменти за 39 общини от 1-во до 3-то йерархично ни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лтур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63 млн. евро. 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67 общини и финансови инст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5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ан градски транспорт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43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Aft>
                <a:spcPts val="700"/>
              </a:spcAft>
              <a:buClr>
                <a:srgbClr val="003399"/>
              </a:buClr>
              <a:buFont typeface="Wingdings" charset="2"/>
              <a:buChar char=""/>
              <a:tabLst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39 общини от 1-во до 3-то нив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1" descr="slide_EU logo.png"/>
          <p:cNvPicPr/>
          <p:nvPr/>
        </p:nvPicPr>
        <p:blipFill>
          <a:blip r:embed="rId2"/>
          <a:stretch/>
        </p:blipFill>
        <p:spPr>
          <a:xfrm>
            <a:off x="285840" y="5256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7" descr=""/>
          <p:cNvPicPr/>
          <p:nvPr/>
        </p:nvPicPr>
        <p:blipFill>
          <a:blip r:embed="rId4"/>
          <a:stretch/>
        </p:blipFill>
        <p:spPr>
          <a:xfrm>
            <a:off x="7834320" y="1890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Line 18"/>
          <p:cNvSpPr/>
          <p:nvPr/>
        </p:nvSpPr>
        <p:spPr>
          <a:xfrm flipV="1">
            <a:off x="0" y="1332000"/>
            <a:ext cx="9252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Content Placeholder 2"/>
          <p:cNvSpPr/>
          <p:nvPr/>
        </p:nvSpPr>
        <p:spPr>
          <a:xfrm>
            <a:off x="81000" y="1620720"/>
            <a:ext cx="557064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образованието, уменията и ученето през целия живот –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1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15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 на условия за модерни образователни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Н, МЗХ, МК, ММС, Висши училища, общини за общинска образователна инфраструктура от национално и регионално зна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Методологията за приоритизация на образователната инфраструктура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и Стратегията за висше образовани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, разработени от М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8"/>
          <p:cNvSpPr/>
          <p:nvPr/>
        </p:nvSpPr>
        <p:spPr>
          <a:xfrm>
            <a:off x="882720" y="1341360"/>
            <a:ext cx="7475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2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образовател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Content Placeholder 2"/>
          <p:cNvSpPr/>
          <p:nvPr/>
        </p:nvSpPr>
        <p:spPr>
          <a:xfrm>
            <a:off x="81000" y="4575240"/>
            <a:ext cx="557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84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мл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Подобряване на условията за адекватна спешна медицинска помощ и продължително ле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здравеопазването и общ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съответсвие с Националната здравна стратегия и Концепцията за развитие на спешната медицинска помощ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8"/>
          <p:cNvSpPr/>
          <p:nvPr/>
        </p:nvSpPr>
        <p:spPr>
          <a:xfrm>
            <a:off x="554040" y="4221000"/>
            <a:ext cx="772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3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здрав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Picture 2" descr="C:\Users\StefanovZ\Desktop\КН 27.05\Ehograf-Ruse.JPG"/>
          <p:cNvPicPr/>
          <p:nvPr/>
        </p:nvPicPr>
        <p:blipFill>
          <a:blip r:embed="rId5"/>
          <a:stretch/>
        </p:blipFill>
        <p:spPr>
          <a:xfrm>
            <a:off x="5850000" y="4575240"/>
            <a:ext cx="3039840" cy="21542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2" descr="HTMU-after 3"/>
          <p:cNvPicPr/>
          <p:nvPr/>
        </p:nvPicPr>
        <p:blipFill>
          <a:blip r:embed="rId6"/>
          <a:stretch/>
        </p:blipFill>
        <p:spPr>
          <a:xfrm>
            <a:off x="5850000" y="1697040"/>
            <a:ext cx="2952720" cy="2448000"/>
          </a:xfrm>
          <a:prstGeom prst="rect">
            <a:avLst/>
          </a:prstGeom>
          <a:ln w="19080">
            <a:solidFill>
              <a:srgbClr val="000000">
                <a:alpha val="98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1" descr="slide_EU logo.png"/>
          <p:cNvPicPr/>
          <p:nvPr/>
        </p:nvPicPr>
        <p:blipFill>
          <a:blip r:embed="rId2"/>
          <a:stretch/>
        </p:blipFill>
        <p:spPr>
          <a:xfrm>
            <a:off x="196920" y="6192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7" descr=""/>
          <p:cNvPicPr/>
          <p:nvPr/>
        </p:nvPicPr>
        <p:blipFill>
          <a:blip r:embed="rId4"/>
          <a:stretch/>
        </p:blipFill>
        <p:spPr>
          <a:xfrm>
            <a:off x="7736040" y="189000"/>
            <a:ext cx="1083960" cy="1152360"/>
          </a:xfrm>
          <a:prstGeom prst="rect">
            <a:avLst/>
          </a:prstGeom>
          <a:ln w="0">
            <a:noFill/>
          </a:ln>
        </p:spPr>
      </p:pic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79280" y="182160"/>
            <a:ext cx="504036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Content Placeholder 2"/>
          <p:cNvSpPr/>
          <p:nvPr/>
        </p:nvSpPr>
        <p:spPr>
          <a:xfrm>
            <a:off x="87480" y="1711440"/>
            <a:ext cx="527652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51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Деинституционализация на социалните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ини; Министерство на здравеопазването за медико-социални домове за гри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Визията за деинституционализация на децата и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Националната стратегия за дългосрочна гриж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8"/>
          <p:cNvSpPr/>
          <p:nvPr/>
        </p:nvSpPr>
        <p:spPr>
          <a:xfrm>
            <a:off x="863640" y="1405080"/>
            <a:ext cx="635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4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соци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Content Placeholder 2"/>
          <p:cNvSpPr/>
          <p:nvPr/>
        </p:nvSpPr>
        <p:spPr>
          <a:xfrm>
            <a:off x="87480" y="4076640"/>
            <a:ext cx="527652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храняване, опазване, популяризиране и развитие на природното и културното наследство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27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и 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туристическото предлагане на паметници на културата от национално и световно 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К, религиозни институции, общини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включително в партньорство с НПО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румен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съответствие с Методологията за приоритизиране на обекти на културното наследств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8"/>
          <p:cNvSpPr/>
          <p:nvPr/>
        </p:nvSpPr>
        <p:spPr>
          <a:xfrm>
            <a:off x="1289160" y="3852720"/>
            <a:ext cx="5776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5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ен туризъм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Picture 2" descr="C:\Users\DimovD\Desktop\снимки ОПРР\асенова крепост\18.jpg"/>
          <p:cNvPicPr/>
          <p:nvPr/>
        </p:nvPicPr>
        <p:blipFill>
          <a:blip r:embed="rId5"/>
          <a:stretch/>
        </p:blipFill>
        <p:spPr>
          <a:xfrm>
            <a:off x="5508720" y="4179960"/>
            <a:ext cx="3166920" cy="24987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2" descr=""/>
          <p:cNvPicPr/>
          <p:nvPr/>
        </p:nvPicPr>
        <p:blipFill>
          <a:blip r:embed="rId6"/>
          <a:stretch/>
        </p:blipFill>
        <p:spPr>
          <a:xfrm>
            <a:off x="5508720" y="1711440"/>
            <a:ext cx="316692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1" descr="slide_EU logo.png"/>
          <p:cNvPicPr/>
          <p:nvPr/>
        </p:nvPicPr>
        <p:blipFill>
          <a:blip r:embed="rId2"/>
          <a:stretch/>
        </p:blipFill>
        <p:spPr>
          <a:xfrm>
            <a:off x="250920" y="74520"/>
            <a:ext cx="1103040" cy="12794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7" descr=""/>
          <p:cNvPicPr/>
          <p:nvPr/>
        </p:nvPicPr>
        <p:blipFill>
          <a:blip r:embed="rId4"/>
          <a:stretch/>
        </p:blipFill>
        <p:spPr>
          <a:xfrm>
            <a:off x="7812000" y="2016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582560" y="182160"/>
            <a:ext cx="56534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2"/>
          <p:cNvSpPr/>
          <p:nvPr/>
        </p:nvSpPr>
        <p:spPr>
          <a:xfrm>
            <a:off x="230040" y="1670040"/>
            <a:ext cx="856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Content Placeholder 2"/>
          <p:cNvSpPr/>
          <p:nvPr/>
        </p:nvSpPr>
        <p:spPr>
          <a:xfrm>
            <a:off x="131760" y="1833480"/>
            <a:ext cx="566424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мобилността на регионално равнище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194,5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свързаността и достъпността до TEN-T мреж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ен бенефициент: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ция «Пътна 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: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в 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ъответствие с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Mетодика и критериите за приоритизиране на пътни участъци, разработени от Агенцията „Пътна инфраструктур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8"/>
          <p:cNvSpPr/>
          <p:nvPr/>
        </p:nvSpPr>
        <p:spPr>
          <a:xfrm>
            <a:off x="1177920" y="1438200"/>
            <a:ext cx="6610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6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ът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Content Placeholder 2"/>
          <p:cNvSpPr/>
          <p:nvPr/>
        </p:nvSpPr>
        <p:spPr>
          <a:xfrm>
            <a:off x="131760" y="4491000"/>
            <a:ext cx="5592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Насърчаване на инвестициите за справяне със специфични рискове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0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я на риска от свлачищ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бенефициенти: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и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редефинирани проект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в съответствие с Методика за приоритизиране на свлачищни об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8"/>
          <p:cNvSpPr/>
          <p:nvPr/>
        </p:nvSpPr>
        <p:spPr>
          <a:xfrm>
            <a:off x="1258920" y="4076640"/>
            <a:ext cx="504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7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Превенция на риск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Picture 10" descr="zx480_1139082"/>
          <p:cNvPicPr/>
          <p:nvPr/>
        </p:nvPicPr>
        <p:blipFill>
          <a:blip r:embed="rId5"/>
          <a:stretch/>
        </p:blipFill>
        <p:spPr>
          <a:xfrm>
            <a:off x="5867280" y="4356000"/>
            <a:ext cx="3086280" cy="234972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8"/>
          <p:cNvSpPr/>
          <p:nvPr/>
        </p:nvSpPr>
        <p:spPr>
          <a:xfrm>
            <a:off x="1177920" y="6137280"/>
            <a:ext cx="43210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8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Техническа помощ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Picture 16" descr=""/>
          <p:cNvPicPr/>
          <p:nvPr/>
        </p:nvPicPr>
        <p:blipFill>
          <a:blip r:embed="rId6"/>
          <a:stretch/>
        </p:blipFill>
        <p:spPr>
          <a:xfrm>
            <a:off x="5894280" y="1936800"/>
            <a:ext cx="30592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Picture 9" descr="slide_element.png"/>
          <p:cNvPicPr/>
          <p:nvPr/>
        </p:nvPicPr>
        <p:blipFill>
          <a:blip r:embed="rId1"/>
          <a:stretch/>
        </p:blipFill>
        <p:spPr>
          <a:xfrm>
            <a:off x="8078760" y="6021360"/>
            <a:ext cx="1065240" cy="83664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534000"/>
            <a:ext cx="1041480" cy="135000"/>
          </a:xfrm>
          <a:prstGeom prst="rect">
            <a:avLst/>
          </a:prstGeom>
          <a:ln w="0">
            <a:noFill/>
          </a:ln>
        </p:spPr>
      </p:pic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Индикативен бюджет на Оперативна програма „Региони в растеж“ 2014-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0" name="Picture 7" descr=""/>
          <p:cNvPicPr/>
          <p:nvPr/>
        </p:nvPicPr>
        <p:blipFill>
          <a:blip r:embed="rId3"/>
          <a:stretch/>
        </p:blipFill>
        <p:spPr>
          <a:xfrm>
            <a:off x="7736040" y="115920"/>
            <a:ext cx="1083960" cy="115236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41" descr="slide_EU logo.png"/>
          <p:cNvPicPr/>
          <p:nvPr/>
        </p:nvPicPr>
        <p:blipFill>
          <a:blip r:embed="rId4"/>
          <a:stretch/>
        </p:blipFill>
        <p:spPr>
          <a:xfrm>
            <a:off x="361800" y="189000"/>
            <a:ext cx="1103400" cy="1152360"/>
          </a:xfrm>
          <a:prstGeom prst="rect">
            <a:avLst/>
          </a:prstGeom>
          <a:ln w="0">
            <a:noFill/>
          </a:ln>
        </p:spPr>
      </p:pic>
      <p:sp>
        <p:nvSpPr>
          <p:cNvPr id="1162" name="TextBox 9"/>
          <p:cNvSpPr/>
          <p:nvPr/>
        </p:nvSpPr>
        <p:spPr>
          <a:xfrm>
            <a:off x="250920" y="5589720"/>
            <a:ext cx="129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ff"/>
                </a:solidFill>
                <a:latin typeface="Arial"/>
                <a:ea typeface="Arial"/>
              </a:rPr>
              <a:t>Резултативни сто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3" name=""/>
          <p:cNvGraphicFramePr/>
          <p:nvPr/>
        </p:nvGraphicFramePr>
        <p:xfrm>
          <a:off x="468360" y="1380960"/>
          <a:ext cx="8280360" cy="5059440"/>
        </p:xfrm>
        <a:graphic>
          <a:graphicData uri="http://schemas.openxmlformats.org/drawingml/2006/table">
            <a:tbl>
              <a:tblPr/>
              <a:tblGrid>
                <a:gridCol w="3730680"/>
                <a:gridCol w="1109520"/>
                <a:gridCol w="511200"/>
                <a:gridCol w="897120"/>
                <a:gridCol w="560160"/>
                <a:gridCol w="909720"/>
                <a:gridCol w="561960"/>
              </a:tblGrid>
              <a:tr h="535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иоритетни оси и инвестиционни приоритет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пейски средства + национално съфинансиран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Безвъзмездна финансова помо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и инструмен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с национално съфинансиране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9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1 "Устойчиво и интегрирано градско развитие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6 153 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9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 970 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9,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 183 3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20,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 Енерг. eф-ст в админ. и жилищни сград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2 226 2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6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 521 9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3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 704 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6,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 Градска сред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 175 0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7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 616 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3,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558 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6,8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3067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адска ср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 711 8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 640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9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071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067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они с потенциал за икономическо развит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463 2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975 5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6,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487 7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3,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 Образовател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 339 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6,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 339 5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 Социал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 380 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915 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1,3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465 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48,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3067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129 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129 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3067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орт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 679 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 679 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30672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лтурна инфраструкту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067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 572 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4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786 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786 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 Интегриран градски трансп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 032 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9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 577 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454 8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5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2 "Регионална образовател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 896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7,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 896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3 "Регионална здрав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597 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,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 597 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4 "Регионална социал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857 6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857 6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5 "Регионален туризъм"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 141 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 570 6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 570 6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5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6 "Регионална път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 526 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2,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4 526 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7 "Превенция на риск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704 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,2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704 7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. ос 8 "Техническа помощ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394 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3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 394 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0,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589 272 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68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6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35 518 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84,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 753 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15,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БЩ БЮДЖЕТ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589 272 239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6609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Content Placeholder 2"/>
          <p:cNvSpPr/>
          <p:nvPr/>
        </p:nvSpPr>
        <p:spPr>
          <a:xfrm>
            <a:off x="590400" y="1428840"/>
            <a:ext cx="82296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  <a:ea typeface="Arial"/>
              </a:rPr>
              <a:t>Иван П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  <a:ea typeface="Arial"/>
              </a:rPr>
              <a:t>Началник на отдел „Програмиране, оценка, информация и публичност“, Главна дирекция „Програмиране на регионално развитие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24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24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www.bgregio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24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oprd@mrrb.government.b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11" descr="slide_EU logo.png"/>
          <p:cNvPicPr/>
          <p:nvPr/>
        </p:nvPicPr>
        <p:blipFill>
          <a:blip r:embed="rId3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7" descr=""/>
          <p:cNvPicPr/>
          <p:nvPr/>
        </p:nvPicPr>
        <p:blipFill>
          <a:blip r:embed="rId4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  <p:sp>
        <p:nvSpPr>
          <p:cNvPr id="1170" name="Line 18"/>
          <p:cNvSpPr/>
          <p:nvPr/>
        </p:nvSpPr>
        <p:spPr>
          <a:xfrm>
            <a:off x="0" y="134136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1:22:21Z</dcterms:created>
  <dc:creator>Zlatko Stefanov</dc:creator>
  <dc:description/>
  <dc:language>en-US</dc:language>
  <cp:lastModifiedBy>IPopov</cp:lastModifiedBy>
  <cp:lastPrinted>2014-03-20T17:15:04Z</cp:lastPrinted>
  <dcterms:modified xsi:type="dcterms:W3CDTF">2014-06-05T13:06:51Z</dcterms:modified>
  <cp:revision>510</cp:revision>
  <dc:subject/>
  <dc:title>Оперативна програма “Региони в растеж” 2014 - 2020</dc:title>
</cp:coreProperties>
</file>