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80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81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8C2DDD-1A13-4500-9D90-752ACBBCEF0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9346A2-E556-4183-AD3D-8B6AB4F0B68F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6B444A-6318-4C8D-9D5D-FD4DB0234037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819F64-36BE-4AA1-B686-625AB35772ED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9F2CDA-9C84-4982-AE0C-9F8435102D31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424162-A06F-4498-8B7B-45C0107D5F73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799B8B-38D0-4BF1-8CBE-A8E180477398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E7EB74-FD98-450A-96D4-AC9200E49395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076D8E-290D-4BEA-BB11-055908B2064A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A0102D-375B-4D85-BC87-A12D6745143F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63B-B5A5-49C2-8730-7AA4108E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587-BF51-467B-9B1D-67D2155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9A13-F827-47D0-9ED3-4620C028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70CA-68C9-4C18-86AD-45B945F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3F9D-35B6-45ED-AC77-D026AA2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195B6-00D7-4989-8A93-B26B451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BFAB2-57A2-4511-8981-CB759A62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0695-98F4-4E26-BC98-00B6FE13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2F4FF-F712-4053-9FFD-99EA1F7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C7A6-39AD-45C4-B572-29D2DC5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9761-B794-4649-B998-A4931BD6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919D-C4C4-4C47-91C8-CF2F1604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927-028D-45D9-A121-9F484FE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5625-F6D2-4493-95F7-AC822A2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B4486-7E7A-4C8E-997C-2B4BE658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D6A89-9C22-4D99-A3B1-A031B0F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C0B96-E736-454D-A1DD-9C638E14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F1FE5-D1EB-468B-B970-071A149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9840E-4FD6-449B-80B2-48A5392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55E41-2632-4B0D-B11F-6F76B0C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0979B-BFCE-4688-B177-9576F56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E52A9-668F-48EB-9023-41FC5EE8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EAAB-9E2E-40B4-9956-457A5102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582-F9F1-4440-BB58-EED0F38E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2776-C02F-4DCE-8532-48B9421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8987E-4D08-4A67-94A1-C8C44100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BEE42-B909-42CE-A5BE-854F521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EA92-2ED9-47E3-96A2-4E84146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372C-D4F1-4106-B6B9-0FFA6C7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8889-56CA-4952-91C0-9ABFA03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A5A3-20FA-4D82-A03C-2977E82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4A680-069A-40C1-981A-64E8D8C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43850-64BA-4C99-8FA5-8EDFA5C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FF4F-4D0D-4341-A728-26B152B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389-7E99-40D2-A878-75440C71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461D-2DA1-4222-900D-C6DAE160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F35E-E3DC-49AC-8289-4175E73D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8CE3-90FE-4B9B-9E56-77AE792A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115DE-3A3C-4D39-B675-308D3255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F980-ADEC-4EB9-B254-89F19B36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299A9-83E6-4365-9F3E-A96EAF0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FEF55-C71B-4D71-BC5E-B03E8C3D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C1021-C573-439B-9F3E-01C44851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CEB56-1ADF-481F-A048-938C42E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D0D39-7294-4FB8-9B81-F31C9BE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F5C0-771F-4544-AFC3-4BD04B6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878E-3A99-4FF8-9B83-E31B467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DA3F6-F1EB-4627-AD55-05F136B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FEA22-8729-4B07-B25F-B5A4121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B8A62-BF04-410B-9948-46C47D45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E7FC4-F6B5-4A02-9555-B8124181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27776-E05A-489B-B0F6-380D91AE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35335-26C9-48F2-9F7D-7BC00093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F26BF-E496-4679-898C-FA1F3704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76345-C708-40A0-AD73-B69B349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A8FC0-B397-4147-8184-2C9EF9BF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F3E6-F65F-4D9A-A100-C1B6BEA7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C9EF3-C98D-44D0-B938-EE9AB12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4614C-C56C-4772-AB98-BD27F5F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4F82E-FA74-48A9-9FF3-13892D7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E4591-7719-459B-A5E3-2162238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49542-58A9-4D8C-8F98-4CAE27B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3C90B-82B9-4455-B93C-89DAC86D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D0646-A284-4EE0-B338-58B4A576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89B78-D6B8-4B88-81F8-A557A3D4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920D8-A7B1-4A87-8B44-063E33FD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C5F12-CE2D-4C80-89BC-41B863CE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ABE2-A830-48E6-80ED-283EF290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0D86F-DBD7-4B74-A8DD-A10F99D5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B378D-2049-4B93-9261-B572536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514E1-9FAC-45E3-8C80-C6FDCE4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C19DD-2A01-450C-A3B7-AFA9FE9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3BAD2-6CA6-446F-8E27-D546F58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396D2-3A6B-4814-97A2-E96EB063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7ED16-6D9D-4ED5-969F-EE0168C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B75D7-E9C6-4693-A017-3637D32D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97C55-0FEC-40CB-951C-AEB367AE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9E59A-4272-459E-A49D-C8AB176F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3D46-479E-4667-89DE-37A88941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31F30-5900-4119-8AE4-83748085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F5731-AB41-4AA3-9FD1-0754BA8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F3A69-E3E5-4F14-B245-A520B6C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F48F7-0139-4E43-8255-3074904E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874BB-819D-4E76-BA2B-EF2D7818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00B81-B51D-4F91-A812-882CC8F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FD2FE-510C-4704-93C8-9B5021E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2C587-7588-4377-9531-081F3FA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F29BE-D41C-41ED-B189-C3368E7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058AD-0909-4072-99EB-9880981C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204-B6D1-4967-BB44-4E8D412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2034F-111D-4A49-8864-8F8182DE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355A2-E2BA-41CE-BF87-44A26E77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3C005-6E0D-4539-9E07-2EC5F340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79CC6-1AE5-434D-B0E7-5ED05478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1E63B-0027-40E4-B45E-0F7B0CCE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3E5CE-41DB-44D8-A48C-EAF288D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D8A80-F4C9-4DED-B5A2-D5B8A52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64ECA-A141-4994-A3BB-A811DE5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88E45-2B4F-4A72-B90A-B965B5B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5480B-3A5A-436E-8A36-2EEE29B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74B2-EB5D-4609-858E-645B635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82C29-2EBF-47ED-976A-F4D0A73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3C059-C238-4F01-8DC5-20A755D3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BD9FB-8D11-48C8-8E91-7DFBB9A1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10165-5498-4BE8-8163-81D0C807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2A9D6-A87A-4464-A41E-47F8524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0C1EE-ED98-4415-B6AA-7CB8835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3A540-5D45-45AE-81AE-52743C06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91648-8903-4A69-B0B8-CC70BAA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CCF58-00DA-43F4-88F6-755C705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2F4DA-31FD-474D-A013-515C5B4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100-AA78-4529-90CC-16E5E4B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1B3-79A0-495D-A748-5D1C797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ABC0B-34E7-4795-8764-B268AA5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90DF3-C1C2-493F-905C-F3BAF4F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6B02F-D7A0-425C-94B0-7917AE18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3F615-93B6-4F97-813A-8767F47B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6FBBA-F872-4B98-9734-7A6ADFC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3EC46-2ADD-4924-A67D-41E1E424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84032-3D76-4D38-928F-1268015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9BC98-D226-4A27-A2B7-0912CECA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AA1C2-8389-40C3-B067-62C6C8E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A34ED-8976-467F-BAED-7BA8DF1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8122-3C49-4770-9E24-33896FD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803D9-723A-4C32-8988-618757E8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3D4EF-3251-4BE5-BBC0-4E3FCB3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59DDD-7833-4E98-94A7-C8533875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797FE-17B9-47AF-88C6-D6CECA3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6AADA-D9A8-4688-B155-2CB14CB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E8438-6AB9-4A51-8FCE-7F9DA0BA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D76BC-82C0-49F3-B495-9DB123A5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AC0AB-B7FB-4586-B5B0-9CC0DCAF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243C7-F230-44C3-BCC2-B2A7EF39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03A41-DF84-43D2-B0E2-A193EB57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9313-CDE6-4EFA-8B50-0C7543B7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DBFCA-B87A-401A-A643-EEA6166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00E5B-9428-4EA5-BDCE-D2AD19EE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049E6-BA01-4165-BCE4-1935ED4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94B3B-2DD6-472F-9165-3F9B9EB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72EE4-150E-497E-8FB9-FE6EB63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1E5C5-A522-4FAF-8457-DF0C668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A4C93-9430-4DE6-8543-DFB477D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43C35-391E-4AD8-AC97-D99AC817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79307-0710-4091-ADEF-2605286D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C6C09-4BBB-407B-817F-FB8EB82B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0F0-F81E-486F-915E-40A09F2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C961D-C52C-4FB9-8B76-BA993938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B0045-2968-4CAA-90D9-0CE3D351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933BB-B28B-4A93-9FA2-3838F0A7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FC840-36A6-49EF-B6AA-508415DB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4EE25-FCC9-4101-9EAE-25E7E5D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D7C4F-7AC7-4270-A85B-5AE3560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8A4B9-D5E9-4286-A801-118F598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F46BE-EACE-4410-A090-6F130687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A2808-D141-4F78-837D-71ECB70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04195-6B92-4EB9-8AEA-9204C7B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489-538E-47A7-A613-AC6FC735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6CD0A-D790-4BB1-A66A-433AF2ED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EF0A5-A707-485F-B980-903CCEB9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598D7-8B24-4769-BB7D-97BF74F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27C5E-12AF-49A3-9F68-9096AD57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0A633-3F02-4D4A-99BB-9624225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2AED4-1D21-49B1-83B3-027B818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1A831-4B1B-48B1-B055-0AB17169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0125B-4C23-44FF-82DC-75D2F3E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756B7-2713-41AB-A48A-238367E3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F7803-A9E1-4B35-B060-0B66182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9DA8-96FB-4926-A388-053A6AB9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FAD4D-E2B7-4BE5-8230-F0F5442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DEAC3-27F9-4950-89E5-467D3DDF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FA073-5E4F-4B78-AAD7-FAC3A1E1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FA7C7-AFE1-456C-A052-70B569C3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573110-3D49-4E3A-A922-EB06FC6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A4C95-5757-401B-A792-1C46D62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18600-7AEE-48EE-AABA-6E89840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B206E-AF96-49D9-B6D3-CDFC1B4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A5FE0-78D3-408F-8893-0C0801C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CB350-FA47-41D5-9BC3-8EC476F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6C94-7457-41D2-86A9-7D21A18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2B0F6-122E-45E5-B784-B3F4A6D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4ABED-C334-4DDB-816A-3D72A04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E9E04-5828-4912-BC9B-5B522C0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2EEDF-8802-47F0-B526-7F57AB01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7FC8A-E39E-45CE-B2E3-60CC7442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80A68-C1A0-4CD7-B0E2-1D3B095B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2F5544-1F22-4163-89CC-FE7C31B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D2395-BBF6-4E33-B57E-4761D5A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8AF81D-4D68-46C0-8750-6C5A549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CFA41-BC4D-433B-AC6F-81CEB42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4CE0-9AE4-4C2F-809C-81230A1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2C20EC-21D4-4FA8-834F-D0622AE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1AFF6-B7AE-4C24-8E39-30CCECE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F7D29-CD4B-409A-B7C8-88F53F7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DD18C4-A94A-4A89-B155-806BD1F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1D7A84-FC83-45FC-BFCD-676921B1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E53DD-DE3A-49D0-94FC-3AA90CDA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0A70ED-D6B4-47CE-93D1-FBA699BD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59F03-7453-4025-BE5B-D7631ABD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B87267-0A11-4B74-A815-F01F08B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598449-779D-4C7A-95A5-88620102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12E2-6784-4642-9D7D-427C3F4D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13530-623F-4822-AF01-C787DC20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8BB232-0159-43F0-9328-ACC33DF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8BBE3-7FFD-432A-9D02-D3FCC00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4F03D-0D5D-48B6-B040-6EF307F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A0F101-AEB6-449D-B936-AA69CC0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45322E-B030-400C-BADE-F25261B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2AB73-C9CF-4175-8C76-74419B95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6A7B5-EAB9-40E9-B832-A143E6D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C0F6C-8B99-4C50-8922-7C1F0D6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7A387B-720A-4794-8C2A-189D58E1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5DF4-B82F-4885-9E3F-49281B05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315E1-1D46-4ECF-AC71-8E4B243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9CABC-E398-4A1D-8558-2C73184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062EA6-E223-420D-96B0-1C312A4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7263D-4687-41C6-9E15-26CA120A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49FCE5-3019-405C-90B5-8C4BD48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D69DE0-7F64-43C4-A189-6A30812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19387B-5B2F-4B64-9B10-073B666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6CFA4D-2447-473E-B9A2-8A8FEE8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4DFCF8-6F52-4355-99A1-2C5AA73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F08360-2273-45CF-8B97-7BA9BFF6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500-AEA9-4AC0-BC6C-4D8DC255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C4A9-BC77-4FB0-805A-E16BFAB3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C46B00-8540-4253-984F-FA4C1962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E6096-66EF-4E34-87E8-0304AB8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BC1F6E-6E1B-460E-A89C-6E6545C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FE5F1-7025-4CD5-894A-5821CEC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F65630-6F4A-4610-82C2-6AF766AC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3D495C-DBA0-4FAE-919E-88C4A2C4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60B56-8984-43FB-8C04-91BF5A4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8A33E-C52E-4BF9-AC96-D94F25E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7C05CC-0171-443F-B5D0-1F9757B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B15D7B-6753-402C-9A45-C64414A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4FEB-452B-4A45-8F7E-F869C79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A0EC52-CE68-4377-B133-FFDD947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53F1DE-C441-4866-B5BE-AE0F3915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CCBE28-AE24-4633-B44E-362523F7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2BAA-444B-4A8C-85E6-3C40C179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CA9C-2517-4A7D-B659-289FDA9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9938-D2E5-4E53-B2F6-79C26D6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1B2C-0A47-45BB-B241-D9DD898F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CB72-A66E-4A5C-A517-4D9F3641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DB1D-CFB0-4127-BFAB-28A4BE8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1951-A69D-4FB8-A2B4-367ED9F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368E-4A46-4C86-8CBB-5AEB6C4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9A8-70C8-4CF6-8982-6DB130E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BB64-DEF4-4CF1-AD5C-75DBA871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B607-A229-4CAC-B392-0B0315A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A070-7C69-4931-B635-431247D4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4EB4-4AE9-4A83-B464-4489173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5067-8068-4DB1-BFC0-57ABF1A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5367-4AAC-4377-8EC7-F319470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5B76-A47F-4DEF-980A-A75E7AAD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DF15-1FB6-490A-9A5B-27EB512F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9470-D540-4778-A355-409434F2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1ABB-B91B-4D50-A73F-5B935D8F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313-087A-4ECA-9F02-2C18FEA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FB43-B44B-43D8-BFB7-E7EDDC05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6F7F-31CC-47CD-BFAB-C3F7853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8C84-A70F-4E39-BFAF-DC2D632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6E10-94F6-4DAB-8EAD-234FF77F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A8C2-7F81-4F12-8D39-C56E619B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0B68-C046-4712-8EB6-C2F4B52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D096-4195-4BAF-B530-E4BBE01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2B71-D6EF-4C09-B3EB-9C3F6A5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8117-056A-41D5-A6B5-8BED336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CE02-9C99-41D3-BCFC-59C9B09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DC8-6D27-48BC-BA31-FF018D6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DC9B-DD66-4661-8291-A71A4282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4FF7-36A0-4987-8865-A69F3CC6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ADC0-9386-49D2-80F1-4F1F871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284A-1976-4612-BBF8-B434135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5996-409E-425B-9955-77A45A75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77CD-D612-4EB2-A992-D641D07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7766-B7E7-4D08-A286-A42579F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434B-294C-4002-9DAA-4598ED2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6A90-86A2-4C35-AEC5-3A5B883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EFEC-DE41-432C-8240-F04236E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1CB-E3EA-4E44-8268-101651A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37018-BF8C-4FF2-ADE1-9A6A75C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BD1A-6E05-4A8C-95F3-D09AB0F3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8A2C-427F-4B39-B83A-AE7E4A34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897A-E810-4580-84FF-995E9BC4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872C-9C34-4967-BD2D-3FB8767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150B6-F80C-4672-81DB-115892A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9A8A-C368-4FBB-9F5C-81780E4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D3E8-FEBE-433D-B740-DF70932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F7E79-B85F-45CA-918A-C351ABB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7105C-218C-4224-A182-A187ABBF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3AD-B0C8-46C8-818F-CBE6D11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01FE-0317-4D2E-8E04-06A5D40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36CA-4773-4696-903F-FCB89BF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E921-E1B8-43E4-80E5-ACC77B0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E634-D5F1-4C30-AA04-CFC36B4E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FAE9-7C2C-441E-8AF4-9B5186B1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CA8A-C913-43F7-AF46-C556A443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AD783-8406-49BF-84E6-E703416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356E-4F62-4EED-A871-E37F871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74A4-E6B1-4075-B22B-DDD9E1E6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9FDE-6857-42C6-8281-BFFCD64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0A9-EB56-4EA0-8828-CCAC6D2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16E9-8F1F-4929-BE03-82E25F5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7DE5-A567-402B-ABC5-A56C183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C2EE-0CBB-44A2-BA00-05023F4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FB22-8B33-41D6-925E-0E5578E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DD4D-8527-4816-9E50-22732F2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14D6-63F2-4DE5-95F6-60325AC1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0207-8EC1-429D-9A5A-C0A9292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D81B6-C529-4891-B831-C1D81612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2D80-24D5-413C-AEAE-0B94EF5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E4DBB-E4F8-46D1-A3EE-C436B562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F11-478A-42EA-9696-F1C52879001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5C5D-FA5B-42F4-B2E4-6810BC6179E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E83C-61A4-43DD-B1D2-D4C97B853B59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7FB4-8B9E-40FB-8B97-AE33C2699AA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202-C50C-4EE7-8600-3E89065139BA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F6A-D9BA-4A9C-A501-1D42F8349118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AE9-9C85-47BB-945D-A1455B6AF15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47EC-931C-4FE2-91AE-D000BA05DB7E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A9D-89B7-4AD3-91FE-A06D08F032CD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625-DDAB-4AE6-9C52-7C1B7965563C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845-E6F8-41B0-AB13-ED56ECBE967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412-23D1-4063-84CE-EF97DDDC9150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ADD-59F6-4B7C-90E4-31217816108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BE8-102B-4017-A425-BB0CE350AC9A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E84-D0D4-4795-BE4C-CD7A0A0755FF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E10-EA10-413B-9623-365BA726F5F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792-68C5-49B7-B52F-F4D42576C022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41E6-78EF-4F6B-85CD-67D024291FDB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3B0-CFC2-4A01-A983-85E76DBEFAEA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F04-C2D7-4DF8-8A10-1DD741D08FF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EBE-D4C6-47F8-8677-3D612E4C9DC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2D6-86DC-41C8-A09A-BC10DE04AFD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FD68-DB9D-471A-BDC2-0F946C27104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286-995C-4C45-9B99-FDE9E27C292D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D36E-4140-4F5C-BA20-E1174965971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422-7186-46D8-9228-7449D5C8D2D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mrrb.government.bg/" TargetMode="External"/><Relationship Id="rId6" Type="http://schemas.openxmlformats.org/officeDocument/2006/relationships/hyperlink" Target="http://www.bgregio.eu/" TargetMode="External"/><Relationship Id="rId7" Type="http://schemas.openxmlformats.org/officeDocument/2006/relationships/slideLayout" Target="../slideLayouts/slideLayout18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5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1" descr="slide_EU logo.png"/>
          <p:cNvPicPr/>
          <p:nvPr/>
        </p:nvPicPr>
        <p:blipFill>
          <a:blip r:embed="rId2"/>
          <a:stretch/>
        </p:blipFill>
        <p:spPr>
          <a:xfrm>
            <a:off x="7667640" y="18900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084320" cy="115272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2014 - 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апредък в процеса на подготовк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 „Региони в растеж“ 2014-2020г.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www.mrrb.government.bg</a:t>
            </a:r>
            <a:br>
              <a:rPr sz="2400"/>
            </a:b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bgregio.eu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085" name="Diagram 11" descr=""/>
          <p:cNvPicPr/>
          <p:nvPr/>
        </p:nvPicPr>
        <p:blipFill>
          <a:blip r:embed="rId3"/>
          <a:stretch/>
        </p:blipFill>
        <p:spPr>
          <a:xfrm>
            <a:off x="176040" y="1627200"/>
            <a:ext cx="8718840" cy="498168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8"/>
          <p:cNvSpPr/>
          <p:nvPr/>
        </p:nvSpPr>
        <p:spPr>
          <a:xfrm>
            <a:off x="1401840" y="104760"/>
            <a:ext cx="648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предък в процеса на програмиране на ОПРР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11" descr="slide_EU logo.png"/>
          <p:cNvPicPr/>
          <p:nvPr/>
        </p:nvPicPr>
        <p:blipFill>
          <a:blip r:embed="rId4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7" descr=""/>
          <p:cNvPicPr/>
          <p:nvPr/>
        </p:nvPicPr>
        <p:blipFill>
          <a:blip r:embed="rId5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089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2"/>
          <p:cNvSpPr/>
          <p:nvPr/>
        </p:nvSpPr>
        <p:spPr>
          <a:xfrm>
            <a:off x="1282680" y="2732040"/>
            <a:ext cx="16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пратена официално – 30.05.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ight Arrow 22"/>
          <p:cNvSpPr/>
          <p:nvPr/>
        </p:nvSpPr>
        <p:spPr>
          <a:xfrm rot="5400000">
            <a:off x="6649560" y="3652920"/>
            <a:ext cx="621000" cy="4395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ight Arrow 23"/>
          <p:cNvSpPr/>
          <p:nvPr/>
        </p:nvSpPr>
        <p:spPr>
          <a:xfrm rot="5400000">
            <a:off x="6677280" y="5031360"/>
            <a:ext cx="619200" cy="4395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ight Arrow 24"/>
          <p:cNvSpPr/>
          <p:nvPr/>
        </p:nvSpPr>
        <p:spPr>
          <a:xfrm rot="1800000">
            <a:off x="5411520" y="2225520"/>
            <a:ext cx="869760" cy="4399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ight Arrow 25"/>
          <p:cNvSpPr/>
          <p:nvPr/>
        </p:nvSpPr>
        <p:spPr>
          <a:xfrm rot="10080000">
            <a:off x="5633640" y="5803200"/>
            <a:ext cx="620640" cy="439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ight Arrow 26"/>
          <p:cNvSpPr/>
          <p:nvPr/>
        </p:nvSpPr>
        <p:spPr>
          <a:xfrm rot="12060000">
            <a:off x="2878200" y="5754240"/>
            <a:ext cx="619200" cy="4888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ight Arrow 27"/>
          <p:cNvSpPr/>
          <p:nvPr/>
        </p:nvSpPr>
        <p:spPr>
          <a:xfrm rot="16260000">
            <a:off x="1624680" y="4794840"/>
            <a:ext cx="620640" cy="4892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ight Arrow 28"/>
          <p:cNvSpPr/>
          <p:nvPr/>
        </p:nvSpPr>
        <p:spPr>
          <a:xfrm rot="16260000">
            <a:off x="1624680" y="3661200"/>
            <a:ext cx="620640" cy="4892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9"/>
          <p:cNvSpPr/>
          <p:nvPr/>
        </p:nvSpPr>
        <p:spPr>
          <a:xfrm>
            <a:off x="3014640" y="2997360"/>
            <a:ext cx="2943360" cy="2043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обрена оперативна програма „Региони в растеж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iley Face 20"/>
          <p:cNvSpPr/>
          <p:nvPr/>
        </p:nvSpPr>
        <p:spPr>
          <a:xfrm>
            <a:off x="3187800" y="3906720"/>
            <a:ext cx="1152360" cy="1068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Curved Down Arrow 3"/>
          <p:cNvSpPr/>
          <p:nvPr/>
        </p:nvSpPr>
        <p:spPr>
          <a:xfrm>
            <a:off x="1763640" y="1700280"/>
            <a:ext cx="2087640" cy="1031760"/>
          </a:xfrm>
          <a:custGeom>
            <a:avLst/>
            <a:gdLst>
              <a:gd name="textAreaLeft" fmla="*/ 426240 w 2087640"/>
              <a:gd name="textAreaRight" fmla="*/ 1537200 w 2087640"/>
              <a:gd name="textAreaTop" fmla="*/ 138240 h 1031760"/>
              <a:gd name="textAreaBottom" fmla="*/ 8935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23" hR="21600" stAng="10800000" swAng="5400000"/>
                <a:lnTo>
                  <a:pt x="11492" y="0"/>
                </a:lnTo>
                <a:arcTo wR="8823" hR="21600" stAng="-5400000" swAng="3462160"/>
                <a:lnTo>
                  <a:pt x="21320" y="16200"/>
                </a:lnTo>
                <a:lnTo>
                  <a:pt x="18981" y="21600"/>
                </a:lnTo>
                <a:lnTo>
                  <a:pt x="16081" y="16200"/>
                </a:lnTo>
                <a:lnTo>
                  <a:pt x="17366" y="16200"/>
                </a:lnTo>
                <a:arcTo wR="8823" hR="21600" stAng="-1937840" swAng="-3247574"/>
                <a:lnTo>
                  <a:pt x="10158" y="249"/>
                </a:lnTo>
                <a:arcTo wR="8823" hR="21600" stAng="-5614585" swAng="-5185415"/>
                <a:close/>
              </a:path>
              <a:path fill="darkenLess" w="21600" h="21600">
                <a:moveTo>
                  <a:pt x="0" y="21600"/>
                </a:moveTo>
                <a:arcTo wR="8823" hR="21600" stAng="10800000" swAng="5400000"/>
                <a:lnTo>
                  <a:pt x="8823" y="0"/>
                </a:lnTo>
                <a:arcTo wR="8823" hR="21600" stAng="-5400000" swAng="214585"/>
                <a:lnTo>
                  <a:pt x="10158" y="249"/>
                </a:lnTo>
                <a:arcTo wR="8823" hR="21600" stAng="-5614585" swAng="-5185415"/>
                <a:close/>
              </a:path>
            </a:pathLst>
          </a:cu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3 до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21" descr="C:\Users\DimovD\AppData\Local\Microsoft\Windows\Temporary Internet Files\Content.IE5\KBIYNC14\MM900041090[1].gif"/>
          <p:cNvPicPr/>
          <p:nvPr/>
        </p:nvPicPr>
        <p:blipFill>
          <a:blip r:embed="rId6"/>
          <a:stretch/>
        </p:blipFill>
        <p:spPr>
          <a:xfrm>
            <a:off x="4788000" y="401328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04" name="Diagram 23" descr=""/>
          <p:cNvPicPr/>
          <p:nvPr/>
        </p:nvPicPr>
        <p:blipFill>
          <a:blip r:embed="rId3"/>
          <a:stretch/>
        </p:blipFill>
        <p:spPr>
          <a:xfrm>
            <a:off x="328680" y="1700280"/>
            <a:ext cx="6846840" cy="4749840"/>
          </a:xfrm>
          <a:prstGeom prst="rect">
            <a:avLst/>
          </a:prstGeom>
          <a:ln w="0">
            <a:noFill/>
          </a:ln>
        </p:spPr>
      </p:pic>
      <p:sp>
        <p:nvSpPr>
          <p:cNvPr id="1105" name="Rectangle 8"/>
          <p:cNvSpPr/>
          <p:nvPr/>
        </p:nvSpPr>
        <p:spPr>
          <a:xfrm>
            <a:off x="1401840" y="104760"/>
            <a:ext cx="648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Промени в четвърта 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 ОПРР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1" descr="slide_EU logo.png"/>
          <p:cNvPicPr/>
          <p:nvPr/>
        </p:nvPicPr>
        <p:blipFill>
          <a:blip r:embed="rId4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"/>
          <p:cNvPicPr/>
          <p:nvPr/>
        </p:nvPicPr>
        <p:blipFill>
          <a:blip r:embed="rId5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108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ight Arrow Callout 27"/>
          <p:cNvSpPr/>
          <p:nvPr/>
        </p:nvSpPr>
        <p:spPr>
          <a:xfrm>
            <a:off x="7280280" y="1778040"/>
            <a:ext cx="714240" cy="4600440"/>
          </a:xfrm>
          <a:prstGeom prst="rightArrowCallout">
            <a:avLst>
              <a:gd name="adj1" fmla="val 24991"/>
              <a:gd name="adj2" fmla="val 25019"/>
              <a:gd name="adj3" fmla="val 25000"/>
              <a:gd name="adj4" fmla="val 6497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Rectangle 28" descr=""/>
          <p:cNvPicPr/>
          <p:nvPr/>
        </p:nvPicPr>
        <p:blipFill>
          <a:blip r:embed="rId6"/>
          <a:stretch/>
        </p:blipFill>
        <p:spPr>
          <a:xfrm>
            <a:off x="8021520" y="1755720"/>
            <a:ext cx="5191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Content Placeholder 2"/>
          <p:cNvSpPr/>
          <p:nvPr/>
        </p:nvSpPr>
        <p:spPr>
          <a:xfrm>
            <a:off x="108000" y="1281240"/>
            <a:ext cx="8955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и студентски общежития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62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 Съотнош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75%/25% безвъзмездно финансиране/финансови инструменти за жилищните сгради и студентски общеж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ОЖС” в МРР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студентски общежития, финансови инструмен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70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91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79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(общинска)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0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63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52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8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и инструменти за 39 общини от 1-во до 3-то йерархично н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63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 и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3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39 общини от 1-во до 3-то ни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Content Placeholder 2"/>
          <p:cNvSpPr/>
          <p:nvPr/>
        </p:nvSpPr>
        <p:spPr>
          <a:xfrm>
            <a:off x="81000" y="1620720"/>
            <a:ext cx="55706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условия за модерни образователн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Методологията за приоритизация на образователната инфраструктур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и Стратегията за висше образов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разработени от 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Content Placeholder 2"/>
          <p:cNvSpPr/>
          <p:nvPr/>
        </p:nvSpPr>
        <p:spPr>
          <a:xfrm>
            <a:off x="81000" y="457524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одобряване на условията за адекватна спешна медицинска помощ и продължително ле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вие с Националната здравна стратегия и Концепцията за развитие на спешната медицинска пом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8"/>
          <p:cNvSpPr/>
          <p:nvPr/>
        </p:nvSpPr>
        <p:spPr>
          <a:xfrm>
            <a:off x="5540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850000" y="4575240"/>
            <a:ext cx="3039840" cy="21542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2" descr="HTMU-after 3"/>
          <p:cNvPicPr/>
          <p:nvPr/>
        </p:nvPicPr>
        <p:blipFill>
          <a:blip r:embed="rId6"/>
          <a:stretch/>
        </p:blipFill>
        <p:spPr>
          <a:xfrm>
            <a:off x="5850000" y="1697040"/>
            <a:ext cx="2952720" cy="24480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Content Placeholder 2"/>
          <p:cNvSpPr/>
          <p:nvPr/>
        </p:nvSpPr>
        <p:spPr>
          <a:xfrm>
            <a:off x="87480" y="1711440"/>
            <a:ext cx="527652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Деинституционализация на социалнит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; Министерство на здравеопазването за медико-социални домове за гри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Визията за деинституционализация на децата 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ата стратегия за дългосрочна гри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Content Placeholder 2"/>
          <p:cNvSpPr/>
          <p:nvPr/>
        </p:nvSpPr>
        <p:spPr>
          <a:xfrm>
            <a:off x="87480" y="4076640"/>
            <a:ext cx="5276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храняване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туристическото предлагане н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ително в партньорство с НП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Методологията за приоритизиране на обекти на културното насле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8"/>
          <p:cNvSpPr/>
          <p:nvPr/>
        </p:nvSpPr>
        <p:spPr>
          <a:xfrm>
            <a:off x="128916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508720" y="4179960"/>
            <a:ext cx="3166920" cy="24987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" descr=""/>
          <p:cNvPicPr/>
          <p:nvPr/>
        </p:nvPicPr>
        <p:blipFill>
          <a:blip r:embed="rId6"/>
          <a:stretch/>
        </p:blipFill>
        <p:spPr>
          <a:xfrm>
            <a:off x="5508720" y="1711440"/>
            <a:ext cx="3166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Content Placeholder 2"/>
          <p:cNvSpPr/>
          <p:nvPr/>
        </p:nvSpPr>
        <p:spPr>
          <a:xfrm>
            <a:off x="131760" y="1833480"/>
            <a:ext cx="5664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свързаността и достъпността до TEN-T 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Mетодика и критериите за приоритизиране на пътни участъци, разработени от Агенцията „Пътна инфраструктур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8"/>
          <p:cNvSpPr/>
          <p:nvPr/>
        </p:nvSpPr>
        <p:spPr>
          <a:xfrm>
            <a:off x="1177920" y="143820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Content Placeholder 2"/>
          <p:cNvSpPr/>
          <p:nvPr/>
        </p:nvSpPr>
        <p:spPr>
          <a:xfrm>
            <a:off x="131760" y="4491000"/>
            <a:ext cx="5592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в съответствие с Методика за приоритизиране на свлачищни об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258920" y="4076640"/>
            <a:ext cx="504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0" descr="zx480_1139082"/>
          <p:cNvPicPr/>
          <p:nvPr/>
        </p:nvPicPr>
        <p:blipFill>
          <a:blip r:embed="rId5"/>
          <a:stretch/>
        </p:blipFill>
        <p:spPr>
          <a:xfrm>
            <a:off x="5867280" y="4356000"/>
            <a:ext cx="3086280" cy="23497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"/>
          <p:cNvSpPr/>
          <p:nvPr/>
        </p:nvSpPr>
        <p:spPr>
          <a:xfrm>
            <a:off x="1177920" y="6137280"/>
            <a:ext cx="432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16" descr=""/>
          <p:cNvPicPr/>
          <p:nvPr/>
        </p:nvPicPr>
        <p:blipFill>
          <a:blip r:embed="rId6"/>
          <a:stretch/>
        </p:blipFill>
        <p:spPr>
          <a:xfrm>
            <a:off x="5894280" y="1936800"/>
            <a:ext cx="3059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9" descr="slide_element.png"/>
          <p:cNvPicPr/>
          <p:nvPr/>
        </p:nvPicPr>
        <p:blipFill>
          <a:blip r:embed="rId1"/>
          <a:stretch/>
        </p:blipFill>
        <p:spPr>
          <a:xfrm>
            <a:off x="8078760" y="6021360"/>
            <a:ext cx="1065240" cy="8366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53400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на Оперативна програма „Региони в растеж“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7" descr=""/>
          <p:cNvPicPr/>
          <p:nvPr/>
        </p:nvPicPr>
        <p:blipFill>
          <a:blip r:embed="rId3"/>
          <a:stretch/>
        </p:blipFill>
        <p:spPr>
          <a:xfrm>
            <a:off x="7736040" y="115920"/>
            <a:ext cx="1083960" cy="1152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41" descr="slide_EU logo.png"/>
          <p:cNvPicPr/>
          <p:nvPr/>
        </p:nvPicPr>
        <p:blipFill>
          <a:blip r:embed="rId4"/>
          <a:stretch/>
        </p:blipFill>
        <p:spPr>
          <a:xfrm>
            <a:off x="361800" y="189000"/>
            <a:ext cx="1103400" cy="1152360"/>
          </a:xfrm>
          <a:prstGeom prst="rect">
            <a:avLst/>
          </a:prstGeom>
          <a:ln w="0">
            <a:noFill/>
          </a:ln>
        </p:spPr>
      </p:pic>
      <p:sp>
        <p:nvSpPr>
          <p:cNvPr id="1162" name="TextBox 9"/>
          <p:cNvSpPr/>
          <p:nvPr/>
        </p:nvSpPr>
        <p:spPr>
          <a:xfrm>
            <a:off x="250920" y="558972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"/>
              </a:rPr>
              <a:t>Резултативни сто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468360" y="1380960"/>
          <a:ext cx="8280360" cy="5059440"/>
        </p:xfrm>
        <a:graphic>
          <a:graphicData uri="http://schemas.openxmlformats.org/drawingml/2006/table">
            <a:tbl>
              <a:tblPr/>
              <a:tblGrid>
                <a:gridCol w="3730680"/>
                <a:gridCol w="1109520"/>
                <a:gridCol w="511200"/>
                <a:gridCol w="897120"/>
                <a:gridCol w="560160"/>
                <a:gridCol w="909720"/>
                <a:gridCol w="561960"/>
              </a:tblGrid>
              <a:tr h="53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оритетни оси и инвестиционни приоритет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пейски средства + национално съфинансира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звъзмездна финансова помо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и инструм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 национално съфинансиране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1 "Устойчиво и интегрирано градско развитие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6 153 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9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 970 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9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183 3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2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 Енерг. eф-ст в админ. и жилищни сгра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 226 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 521 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3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704 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Градска сред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 175 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 616 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3,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558 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дска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711 8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 640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071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ни с потенциал за икономическо разви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3 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975 5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6,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87 7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3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Образовате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39 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39 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 Социа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 380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915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1,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5 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8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9 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9 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9 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9 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тур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2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786 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786 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Интегриран градски 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 032 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 577 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454 8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2 "Регионална образовате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96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,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96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3 "Регионална здрав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7 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7 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4 "Регионална социа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7 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7 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5 "Регионален туризъм"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 141 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6 "Регионална път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7 "Превенция на риск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4 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4 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8 "Техническа помощ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394 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394 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89 272 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6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35 518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4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 753 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5,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БЩ БЮДЖЕ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589 272 23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Content Placeholder 2"/>
          <p:cNvSpPr/>
          <p:nvPr/>
        </p:nvSpPr>
        <p:spPr>
          <a:xfrm>
            <a:off x="590400" y="1428840"/>
            <a:ext cx="82296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  <a:ea typeface="Arial"/>
              </a:rPr>
              <a:t>Иван П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  <a:ea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170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IPopov</cp:lastModifiedBy>
  <cp:lastPrinted>2014-03-20T17:15:04Z</cp:lastPrinted>
  <dcterms:modified xsi:type="dcterms:W3CDTF">2014-06-05T13:06:51Z</dcterms:modified>
  <cp:revision>510</cp:revision>
  <dc:subject/>
  <dc:title>Оперативна програма “Региони в растеж” 2014 - 2020</dc:title>
</cp:coreProperties>
</file>