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5A9-C0FF-42CD-9FB1-3A160A0F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C9CF-1793-40BC-85F1-80190823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A78-CFA8-467A-AE15-66295026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271-9849-43EB-9D6B-12A9DC90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886-FD34-475B-83C4-F7F1B27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262-9D8D-4BE1-A9F5-6F571E85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AA62-0E41-4FD6-B97A-B3A77563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252-85DD-4F15-B9CA-A9A4671D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335-2C54-427F-AD07-FEA4B918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BF1-0A6F-4D3D-881D-CC944BD2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417-BA7B-4C22-A04C-A6160D2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A8F-F54C-46C1-A257-FFCEF31D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5AEA-BFC5-4BC9-892F-BD8D13DB77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39640" y="597708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етнадесет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09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4920" y="3933720"/>
            <a:ext cx="64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Н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апредък в изпълнението на Приоритетна ос 5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Техническа помощ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5100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4920" y="4067280"/>
          <a:ext cx="9001080" cy="2017440"/>
        </p:xfrm>
        <a:graphic>
          <a:graphicData uri="http://schemas.openxmlformats.org/drawingml/2006/table">
            <a:tbl>
              <a:tblPr/>
              <a:tblGrid>
                <a:gridCol w="2436840"/>
                <a:gridCol w="1530360"/>
                <a:gridCol w="1886040"/>
                <a:gridCol w="1612800"/>
                <a:gridCol w="15350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нансов ресур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оворени средства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средства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боден ресурс, 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488 224,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442 294,10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392 739,30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45 930,39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902 624,85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06 343,70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02 105,34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281,15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406 623,67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814 853,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450 851,27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91 770,5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20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97 473,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663 490,8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445 695,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33 982,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56" name="Chart 10" descr=""/>
          <p:cNvPicPr/>
          <p:nvPr/>
        </p:nvPicPr>
        <p:blipFill>
          <a:blip r:embed="rId3"/>
          <a:stretch/>
        </p:blipFill>
        <p:spPr>
          <a:xfrm>
            <a:off x="42840" y="1189080"/>
            <a:ext cx="9028080" cy="2938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176480" y="54000"/>
            <a:ext cx="685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Arial"/>
              </a:rPr>
              <a:t>Финансово изпълнение на ПО 5 „Техническа помощ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87280" y="2048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Компонент 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ограмиране, управление, мониторинг, оценка и контрол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9" descr=""/>
          <p:cNvPicPr/>
          <p:nvPr/>
        </p:nvPicPr>
        <p:blipFill>
          <a:blip r:embed="rId3"/>
          <a:stretch/>
        </p:blipFill>
        <p:spPr>
          <a:xfrm>
            <a:off x="36360" y="1414440"/>
            <a:ext cx="4572000" cy="4541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4284720" y="1557360"/>
            <a:ext cx="47880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нкретни бенефициенти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 УО на ОПРР и Дирекция “Вътрешен одит“, МРР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бщо 50 проек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свързани с укрепване капацитета на УО на ОПРР за закупуване на оборудване, обезпечаване работата на оценителните комисии, специализирани обучения на служителите, оценки на изпълнението на ОПРР, мониторинг и проверки на място на проектите, подготовката на документи за програмен период 2014-2020 г., специализирани юридически услуги, наемане на външни специалисти, размножаване на документи, наем на сграда за УО и помещения за архи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hart 9" descr=""/>
          <p:cNvPicPr/>
          <p:nvPr/>
        </p:nvPicPr>
        <p:blipFill>
          <a:blip r:embed="rId3"/>
          <a:stretch/>
        </p:blipFill>
        <p:spPr>
          <a:xfrm>
            <a:off x="176040" y="1487520"/>
            <a:ext cx="4969080" cy="4395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1224000" y="79200"/>
            <a:ext cx="68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мпонент 2 "Комуникация, информация и публичност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844880" y="1557360"/>
            <a:ext cx="418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кретен бенефициент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о 6 про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вързани с осигуряване на информация и публичност и изпълнение на Комуникационния план по ОПРР,  организиране на събития, публикации в електронни и печатни медии, рекламни материали, поддръжка на интернет сай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187280" y="20484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мпонент 3 "Изграждане капацитет на бенефициентите на ОПРР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4920" y="1319040"/>
            <a:ext cx="89298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Схема BG161РО001/5-01/2008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подобряване на капацитета на бенефициентите-държавни институции - МЗ, МК, МОМН, АСП, АЗ, МВР, АПИ МИЕТ, Дирекция "Обновяване на жилищни сгради", МРРБ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66"/>
                </a:solidFill>
                <a:latin typeface="Arial"/>
              </a:rPr>
              <a:t>Схема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BG161PO001/5-02/2012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разработване на 700 бр. готови продукти от 35 общини, които да бъдат финансирани по ОП „Региони в растеж“ 2014-2020 г.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До момента са получени в УО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бр.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готови инвестиционни проекта на общините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Добрич, Казанлък и Търговище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</a:rPr>
              <a:t>Схема BG161PO001/5-03/2013 –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</a:rPr>
              <a:t>насочена към </a:t>
            </a:r>
            <a:r>
              <a:rPr b="0" lang="bg-BG" sz="1700" spc="-1" strike="noStrike">
                <a:solidFill>
                  <a:srgbClr val="0d0d0d"/>
                </a:solidFill>
                <a:latin typeface="Arial"/>
              </a:rPr>
              <a:t>разработване на интегрирани планове за градско възстановяване и развитие (ИПГВР) за градовете от 3-то и 4-то ниво</a:t>
            </a:r>
            <a:r>
              <a:rPr b="0" lang="bg-BG" sz="1700" spc="-1" strike="noStrike">
                <a:solidFill>
                  <a:srgbClr val="422c16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1160" y="4076640"/>
          <a:ext cx="9002520" cy="1943280"/>
        </p:xfrm>
        <a:graphic>
          <a:graphicData uri="http://schemas.openxmlformats.org/drawingml/2006/table">
            <a:tbl>
              <a:tblPr/>
              <a:tblGrid>
                <a:gridCol w="1549440"/>
                <a:gridCol w="2052720"/>
                <a:gridCol w="2112840"/>
                <a:gridCol w="3287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РРБ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и 5-02 и 5-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кретни бенефициенти, държавни институции </a:t>
                      </a: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(Схема 5-0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е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79 948,4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203 333,4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31 571,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ен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33 429,8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987 801,5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29 619,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Petya Dimova</cp:lastModifiedBy>
  <cp:lastPrinted>2014-11-28T10:22:11Z</cp:lastPrinted>
  <dcterms:modified xsi:type="dcterms:W3CDTF">2014-12-01T12:26:24Z</dcterms:modified>
  <cp:revision>792</cp:revision>
  <dc:subject/>
  <dc:title>Diapositiva 1</dc:title>
</cp:coreProperties>
</file>