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58A-FC42-420D-AFDF-94CF9411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9DD-B1EA-46CF-9E02-5E0CF477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6FD-9934-411D-82F0-E93FE199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76D-A8DB-4B46-B736-D644876A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9A7-BE56-4D6F-8787-7085B241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8BF-160E-4EC0-B61C-840E51C8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DE3-6E34-4DF9-AC65-B248EE65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223-2C5E-42DF-93B2-81175C79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7D1-673C-4AE1-964B-0B1348A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EFC-2A0E-42D8-BFA0-78D92B9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3E8-C0D4-433A-B770-DC60D77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C52-BEE7-484B-8382-6A29BD3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343-A020-4D14-AF7F-9439BC68D5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етнадесет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4920" y="393372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предък в изпълнението на Приоритетна ос 5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Техническа помощ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5100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920" y="4067280"/>
          <a:ext cx="9001080" cy="2017440"/>
        </p:xfrm>
        <a:graphic>
          <a:graphicData uri="http://schemas.openxmlformats.org/drawingml/2006/table">
            <a:tbl>
              <a:tblPr/>
              <a:tblGrid>
                <a:gridCol w="2436840"/>
                <a:gridCol w="1530360"/>
                <a:gridCol w="1886040"/>
                <a:gridCol w="1612800"/>
                <a:gridCol w="15350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ресур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ворени средства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средства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ен ресурс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488 224,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442 294,10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392 739,30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5 930,39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02 624,85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06 343,70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02 105,34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281,15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406 623,67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814 853,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450 851,27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91 770,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97 473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663 490,8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445 695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33 982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6" name="Chart 10" descr=""/>
          <p:cNvPicPr/>
          <p:nvPr/>
        </p:nvPicPr>
        <p:blipFill>
          <a:blip r:embed="rId3"/>
          <a:stretch/>
        </p:blipFill>
        <p:spPr>
          <a:xfrm>
            <a:off x="42840" y="1189080"/>
            <a:ext cx="9028080" cy="2938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176480" y="54000"/>
            <a:ext cx="68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Arial"/>
              </a:rPr>
              <a:t>Финансово изпълнение на ПО 5 „Техническа помощ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Компонент 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грамиране, управление, мониторинг, оценка и контрол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9" descr=""/>
          <p:cNvPicPr/>
          <p:nvPr/>
        </p:nvPicPr>
        <p:blipFill>
          <a:blip r:embed="rId3"/>
          <a:stretch/>
        </p:blipFill>
        <p:spPr>
          <a:xfrm>
            <a:off x="36360" y="1414440"/>
            <a:ext cx="4572000" cy="4541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284720" y="1557360"/>
            <a:ext cx="4788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кретни бенефициенти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 УО на ОПРР и Дирекция “Вътрешен одит“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бщо 50 проек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вързани с укрепване капацитета на УО на ОПРР за закупуване на оборудване, обезпечаване работата на оценителните комисии, специализирани обучения на служителите, оценки на изпълнението на ОПРР, мониторинг и проверки на място на проектите, подготовката на документи за програмен период 2014-2020 г., специализирани юридически услуги, наемане на външни специалисти, размножаване на документи, наем на сграда за УО и помещения за архи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hart 9" descr=""/>
          <p:cNvPicPr/>
          <p:nvPr/>
        </p:nvPicPr>
        <p:blipFill>
          <a:blip r:embed="rId3"/>
          <a:stretch/>
        </p:blipFill>
        <p:spPr>
          <a:xfrm>
            <a:off x="176040" y="1487520"/>
            <a:ext cx="4969080" cy="4395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224000" y="7920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мпонент 2 "Комуникация, информация и публичност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844880" y="1557360"/>
            <a:ext cx="418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ен бенефициент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о 6 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вързани с осигуряване на информация и публичност и изпълнение на Комуникационния план по ОПРР,  организиране на събития, публикации в електронни и печатни медии, рекламни материали, поддръжка на интернет сай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мпонент 3 "Изграждане капацитет на бенефициентите на ОПРР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4920" y="1319040"/>
            <a:ext cx="89298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РО001/5-01/2008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подобряване на капацитета на бенефициентите-държавни институции - МЗ, МК, МОМН, АСП, АЗ, МВР, АПИ МИЕТ, Дирекция "Обновяване на жилищни сгради"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66"/>
                </a:solidFill>
                <a:latin typeface="Arial"/>
              </a:rPr>
              <a:t>Схема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BG161PO001/5-02/2012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700 бр. готови продукти от 35 общини, които да бъдат финансирани по ОП „Региони в растеж“ 2014-2020 г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До момента са получени в УО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бр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готови инвестиционни проекта на общините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Добрич, Казанлък и Търговище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PO001/5-03/2013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интегрирани планове за градско възстановяване и развитие (ИПГВР) за градовете от 3-то и 4-то ниво</a:t>
            </a:r>
            <a:r>
              <a:rPr b="0" lang="bg-BG" sz="1700" spc="-1" strike="noStrike">
                <a:solidFill>
                  <a:srgbClr val="422c16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160" y="4076640"/>
          <a:ext cx="9002520" cy="1943280"/>
        </p:xfrm>
        <a:graphic>
          <a:graphicData uri="http://schemas.openxmlformats.org/drawingml/2006/table">
            <a:tbl>
              <a:tblPr/>
              <a:tblGrid>
                <a:gridCol w="1549440"/>
                <a:gridCol w="2052720"/>
                <a:gridCol w="2112840"/>
                <a:gridCol w="3287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и 5-02 и 5-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държавни институции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79 948,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03 333,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31 571,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33 429,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87 801,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29 619,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Petya Dimova</cp:lastModifiedBy>
  <cp:lastPrinted>2014-11-28T10:22:11Z</cp:lastPrinted>
  <dcterms:modified xsi:type="dcterms:W3CDTF">2014-12-01T12:26:24Z</dcterms:modified>
  <cp:revision>792</cp:revision>
  <dc:subject/>
  <dc:title>Diapositiva 1</dc:title>
</cp:coreProperties>
</file>