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D75-2D3E-41CB-BFF0-6927169E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9C5-C731-4EB6-A3A9-A47DB3D6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D9D-75F3-4574-A814-90036D15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E06-EA71-4F8E-8AEF-A618823D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1CB52-188B-4337-B9F6-97D4075F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63FC9-56DB-4492-B5BA-DE4A0DB0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4BC35-77C4-450D-9C0C-26D4E371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39D16-0BA2-4DD7-981A-7C4A649B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491F2-5219-4A29-9D12-1A8F96E8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BCC74-DD7C-4F36-9A67-DDF17FE1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C4343-92F9-4CDF-8EAB-58BA6D7A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4245-22D7-4677-BAC3-571CDBDA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D0E78-BCF4-42BC-A124-C166E058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6B29D-47C3-4977-9EF3-AA5950FE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6A12C-5220-46F0-98B3-D71F06DD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9B9D9-5815-45D0-A1AB-51117000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83940-2116-47EA-AF7F-9BAEFA49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2F7-FDA2-40BD-B427-DB636682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9220-CF8B-4DA1-8F03-CB6827EF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2CC-6A88-4F5C-A545-F0B49935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E48-4D6D-447D-B7CA-C32340E2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940-08C7-43BE-B52E-3B51F23F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147-050E-455E-8E43-32A09BE3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825-7A72-4731-987B-610B81BE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E0B1-5168-4FB4-83A6-8223D1459498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9C69-33DD-4602-9689-04E4B440D7BC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79280" y="2060640"/>
            <a:ext cx="878544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800000"/>
                </a:solidFill>
                <a:latin typeface="Tahoma"/>
              </a:rPr>
              <a:t>Информация за о</a:t>
            </a:r>
            <a:r>
              <a:rPr b="1" lang="ru-RU" sz="3000" spc="-1" strike="noStrike">
                <a:solidFill>
                  <a:srgbClr val="800000"/>
                </a:solidFill>
                <a:latin typeface="Tahoma"/>
              </a:rPr>
              <a:t>съществени реалокации на средства по </a:t>
            </a:r>
            <a:r>
              <a:rPr b="1" lang="en-US" sz="3000" spc="-1" strike="noStrike">
                <a:solidFill>
                  <a:srgbClr val="800000"/>
                </a:solidFill>
                <a:latin typeface="Tahoma"/>
              </a:rPr>
              <a:t>O</a:t>
            </a:r>
            <a:r>
              <a:rPr b="1" lang="bg-BG" sz="3000" spc="-1" strike="noStrike">
                <a:solidFill>
                  <a:srgbClr val="800000"/>
                </a:solidFill>
                <a:latin typeface="Tahoma"/>
              </a:rPr>
              <a:t>ПРР</a:t>
            </a:r>
            <a:r>
              <a:rPr b="1" lang="ru-RU" sz="3000" spc="-1" strike="noStrike">
                <a:solidFill>
                  <a:srgbClr val="800000"/>
                </a:solidFill>
                <a:latin typeface="Tahoma"/>
              </a:rPr>
              <a:t> 2007-2013г .</a:t>
            </a:r>
            <a:br>
              <a:rPr sz="2000"/>
            </a:b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 юни 2014 г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гр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Помор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179280" y="2060640"/>
            <a:ext cx="878544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1547640" y="1557360"/>
            <a:ext cx="75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Te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кущи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реалокации в ОПР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79280" y="2205000"/>
            <a:ext cx="878544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8200" indent="-26820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Решени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е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от 13-то заседание на КН (19.11.2013г.)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268200" indent="-2682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 мандат на Ръководителя на УО на ОПРР да направи промени в ОПРР 2007-2013г., като отрази взетите решения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в нея при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ледващото ревизиране на програмата и при необходимост да променя стойността на индикаторите, както и да изппрати ревизираната програма на ЕК за одобр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268200" indent="-268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Към 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.2014 г. размерът на договорените средства възлиза на 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3,2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 млрд. лв. (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1,686 млрд. евро</a:t>
            </a:r>
            <a:r>
              <a:rPr b="1" lang="bg-BG" sz="1800" spc="-1" strike="noStrike">
                <a:solidFill>
                  <a:srgbClr val="000066"/>
                </a:solidFill>
                <a:latin typeface="Tahoma"/>
              </a:rPr>
              <a:t>)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– 105% от бюджета на програма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268200" indent="-2682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 периода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след 13-то заседание на КН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2014 г. се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наблюдава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вободен финансов ресурс по текущите схеми за БФП съгласно Решенията на КН –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7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9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млн. лв. 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(2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 млн. евр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268200" indent="-2682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ъгласн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зетите решения на 13-то заседание на КН освободеният ресурс от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7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9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млн. лв. 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(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,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5 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млн. евро)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 пренасочен към схемата за АПИ за финансиране на големия проект за изграждане на Северна скоростна танген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179280" y="2060640"/>
            <a:ext cx="878544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"/>
          <p:cNvSpPr/>
          <p:nvPr/>
        </p:nvSpPr>
        <p:spPr>
          <a:xfrm>
            <a:off x="1547640" y="1557360"/>
            <a:ext cx="75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РЕАЛОКАЦИЯ МЕЖДУ ПРИОРИТЕТНИ ОСИ (1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62000" y="2085840"/>
            <a:ext cx="87850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насочване на финансов ресур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жду Приоритетни оси 1, 2, 3 и 4 към сх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 бенефициент АП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сочването на средства (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24,5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млн. евр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към схемата за АПИ е в две направления – пренасочване между приоритетни оси (</a:t>
            </a: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24 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млн. евр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и пренасочване в рамките на Приоритетна ос 2 „Регионална и местна достъпност” (</a:t>
            </a: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482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 хил. евр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1" lang="bg-BG" sz="20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9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млн. евро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в рамките на Приоритетна ос 1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ойчиво и интегрирано градск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лн. евро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 Операция 1.1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на инфраструктур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00280" indent="-343080" algn="just"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4,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9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млн. евр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т Операция 1.4 „Подобряване на физическата среда и превенция на риска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79280" y="2060640"/>
            <a:ext cx="878544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1547640" y="1484280"/>
            <a:ext cx="75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РЕАЛОКАЦИЯ МЕЖДУ ПРИОРИТЕТНИ ОСИ (2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79280" y="1911240"/>
            <a:ext cx="878544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насочване на финансов ресурс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жду Приоритетни оси 1, 2, 3 и 4 към схема с бенефициент АП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Tahoma"/>
              </a:rPr>
              <a:t>482 хил. евро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в рамките  на Приоритетна ос 2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Регионална и местна достъпност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479 хил. евро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Tahoma"/>
              </a:rPr>
              <a:t>в рамките на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Операция 2.1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Регионална и местна пътна инфраструктура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3 хил. евро от Операция 2.3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Достъп до устойчиви и ефективни енергийни ресурси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Tahoma"/>
              </a:rPr>
              <a:t>4,1</a:t>
            </a:r>
            <a:r>
              <a:rPr b="1" lang="ru-RU" sz="1700" spc="-1" strike="noStrike">
                <a:solidFill>
                  <a:srgbClr val="000066"/>
                </a:solidFill>
                <a:latin typeface="Tahoma"/>
              </a:rPr>
              <a:t> млн. евро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от Приоритетна ос 3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Устойчиво развитие на туризма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3,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млн. евро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от Операция 3.1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Подобряване на туристическите атракции и свързаната с тях инфраструктура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731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хил. евро от Операция 3.2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Развитие на регионалния туристически продукт и маркетинг на дестинациите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Tahoma"/>
              </a:rPr>
              <a:t>3,</a:t>
            </a:r>
            <a:r>
              <a:rPr b="1" lang="en-US" sz="1700" spc="-1" strike="noStrike">
                <a:solidFill>
                  <a:srgbClr val="000066"/>
                </a:solidFill>
                <a:latin typeface="Tahoma"/>
              </a:rPr>
              <a:t>8</a:t>
            </a:r>
            <a:r>
              <a:rPr b="1" lang="ru-RU" sz="1700" spc="-1" strike="noStrike">
                <a:solidFill>
                  <a:srgbClr val="000066"/>
                </a:solidFill>
                <a:latin typeface="Tahoma"/>
              </a:rPr>
              <a:t> млн. евро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от Приоритетна ос 4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Местно развитие и сътрудничество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3,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млн. евро от Операция 4.1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Дребномащабни местни инвестиции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89 хил. евро от Операция 4.2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Междурегионално сътрудничество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179280" y="2060640"/>
            <a:ext cx="878544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1547640" y="1484280"/>
            <a:ext cx="75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ahoma"/>
              </a:rPr>
              <a:t>РЕАЛОКАЦИЯ МЕЖДУ ПРИОРИТЕТНИ ОСИ (3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93680" y="2276640"/>
            <a:ext cx="8785080" cy="40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Tahoma"/>
              </a:rPr>
              <a:t>Наличен свободен ресурс за насочване към проекта за изграждане на Северна скоростна танген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Към 3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.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.2014 г. 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след приключване, прекратяване и/или анексиране на договори в рамките на схема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BG161PO001/2.1-01/2007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Подкрепа за рехабилитация и реконструкция на второкласни и третокласни пътища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Tahoma"/>
              </a:rPr>
              <a:t>общо е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 реализиран свободен ресурс в размер на 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16,3 </a:t>
            </a:r>
            <a:r>
              <a:rPr b="1" lang="bg-BG" sz="1700" spc="-1" strike="noStrike">
                <a:solidFill>
                  <a:srgbClr val="000000"/>
                </a:solidFill>
                <a:latin typeface="Tahoma"/>
              </a:rPr>
              <a:t>млн. 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лв. (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8,3 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млн. евро)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Към 3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.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.2014 г. пренасоченият свободен ресурс 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от другите приоритетни оси </a:t>
            </a:r>
            <a:r>
              <a:rPr b="0" lang="ru-RU" sz="1700" spc="-1" strike="noStrike">
                <a:solidFill>
                  <a:srgbClr val="000000"/>
                </a:solidFill>
                <a:latin typeface="Tahoma"/>
              </a:rPr>
              <a:t>за финансиране изграждането на Северна скоростна тангента е в размер на 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млн. лв. (2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 млн. евро).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Общият наличен ресурс към 3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.0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.2014 г. за финансиране на Северна скоростна тангента е в размер на </a:t>
            </a:r>
            <a:r>
              <a:rPr b="1" lang="ru-RU" sz="1700" spc="-1" strike="noStrike">
                <a:solidFill>
                  <a:srgbClr val="a50021"/>
                </a:solidFill>
                <a:latin typeface="Tahoma"/>
              </a:rPr>
              <a:t>6</a:t>
            </a:r>
            <a:r>
              <a:rPr b="1" lang="en-US" sz="17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1" lang="ru-RU" sz="1700" spc="-1" strike="noStrike">
                <a:solidFill>
                  <a:srgbClr val="a50021"/>
                </a:solidFill>
                <a:latin typeface="Tahoma"/>
              </a:rPr>
              <a:t>,</a:t>
            </a:r>
            <a:r>
              <a:rPr b="1" lang="en-US" sz="17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1" lang="ru-RU" sz="1700" spc="-1" strike="noStrike">
                <a:solidFill>
                  <a:srgbClr val="a50021"/>
                </a:solidFill>
                <a:latin typeface="Tahoma"/>
              </a:rPr>
              <a:t> млн. лв. (3</a:t>
            </a:r>
            <a:r>
              <a:rPr b="1" lang="en-US" sz="17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ru-RU" sz="1700" spc="-1" strike="noStrike">
                <a:solidFill>
                  <a:srgbClr val="a50021"/>
                </a:solidFill>
                <a:latin typeface="Tahoma"/>
              </a:rPr>
              <a:t>,9 млн. евро)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0" y="1989000"/>
          <a:ext cx="4427640" cy="4869000"/>
        </p:xfrm>
        <a:graphic>
          <a:graphicData uri="http://schemas.openxmlformats.org/drawingml/2006/table">
            <a:tbl>
              <a:tblPr/>
              <a:tblGrid>
                <a:gridCol w="2771640"/>
                <a:gridCol w="1656000"/>
              </a:tblGrid>
              <a:tr h="6490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ОПРР към 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то заседание на КН от 19 ноември 2013 г. (евр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2808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2808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1: Устойчиво и интегрирано градско развит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7 768 6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85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2: Регионална и местна достъпн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1 087 6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837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3: Устойчиво развитие на тур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 385 0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86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4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Местно развитие и сътрудниче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 940 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598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5: Техническа помо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28080">
                      <a:solidFill>
                        <a:srgbClr val="003366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 093 3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28080">
                      <a:solidFill>
                        <a:srgbClr val="003366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500720" y="1989000"/>
          <a:ext cx="4643280" cy="4810320"/>
        </p:xfrm>
        <a:graphic>
          <a:graphicData uri="http://schemas.openxmlformats.org/drawingml/2006/table">
            <a:tbl>
              <a:tblPr/>
              <a:tblGrid>
                <a:gridCol w="2735280"/>
                <a:gridCol w="1908000"/>
              </a:tblGrid>
              <a:tr h="728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 на реалокациите (евро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на ОПРР към 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014 г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 w="2808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2808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1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Устойчиво и интегрирано градско развит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41 779 48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-1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989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81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87660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2:           Регионална и местна достъпн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55 145 7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+ 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058 078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  <a:tr h="79236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3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Устойчиво развитие на   тур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52 201 0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-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84 013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88452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4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Местно развитие и сътрудниче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8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55 1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(- 3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84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884</a:t>
                      </a:r>
                      <a:r>
                        <a:rPr b="1" lang="bg-BG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554760">
                <a:tc>
                  <a:txBody>
                    <a:bodyPr lIns="0" rIns="0" tIns="0" bIns="0" anchor="b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Приоритетна ос 5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Sylfaen"/>
                          <a:ea typeface="Arial"/>
                        </a:rPr>
                        <a:t>Техническа помощ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>
                    <a:lnL w="2808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28080">
                      <a:solidFill>
                        <a:srgbClr val="003366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 093 3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18720">
                      <a:solidFill>
                        <a:srgbClr val="003366"/>
                      </a:solidFill>
                    </a:lnL>
                    <a:lnR w="2808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28080">
                      <a:solidFill>
                        <a:srgbClr val="003366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4" name="Rectangle 47"/>
          <p:cNvSpPr/>
          <p:nvPr/>
        </p:nvSpPr>
        <p:spPr>
          <a:xfrm>
            <a:off x="1798560" y="1413000"/>
            <a:ext cx="734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РЕАЛОКАЦИЯ МЕЖДУ ПРИОРИТЕТНИ ОСИ (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648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1619280" y="1989000"/>
            <a:ext cx="752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628640"/>
            <a:ext cx="7596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Tahoma"/>
              </a:rPr>
              <a:t>ПРЕДЛОЖЕНИЕ ЗА РЕШ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206280" y="3091320"/>
            <a:ext cx="878544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Н дава мандат на Ръководителя на Управляващия орган на ОПРР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да направи промени в ОП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Регионално развитие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”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 2007-201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г. съгласно извършените реалокации при иницииране на последната ревизия на програма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СНЕЖИНА СЛАВЧЕ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Arial"/>
              </a:rPr>
              <a:t>Ръководител на УО на ОПР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3300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1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юни 2014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Помор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ww.mrrb.government.b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ww.bgregio.e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SS</cp:lastModifiedBy>
  <cp:lastPrinted>2014-05-26T13:55:53Z</cp:lastPrinted>
  <dcterms:modified xsi:type="dcterms:W3CDTF">2014-06-10T21:41:51Z</dcterms:modified>
  <cp:revision>448</cp:revision>
  <dc:subject/>
  <dc:title>Slide 1</dc:title>
</cp:coreProperties>
</file>