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F4A-3370-429A-BE6B-EF545FE0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932-9485-4AE4-984B-61C6A5BA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142-BF2F-4F4B-9C46-4E509399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47D-F577-46D1-BFBB-917D8FA1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6152D-32A2-446D-97B2-579CE082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FF570-041D-4317-8D4B-705FBB34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1CEBD-094A-4A9F-8169-AB08250A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A885A-6B74-4586-889A-676F6671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AF385-E605-4913-8DCB-9F4C80B9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ABEAE-E5F5-4F01-B999-5496C2B9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4D5F3-AE2D-45AF-AE0D-5F2C8E0D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493-64F8-4288-85BE-DAF537D7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615F5-2C9A-4B68-9CCA-FFAFC915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93F3C-62E9-45F6-A386-17CD1427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9EB4E-0DDD-46A7-9A31-15419F8D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0F257-3C46-4C54-904D-68ACBFC0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F0558-7F8E-4078-BC71-4629DAFD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5AD-FB12-40EB-A5DA-2E2EAB17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650-443B-48C9-A412-8F0F54F8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E6E-0E7A-4466-B024-D42DCEC1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675-CC8A-4BDF-81B6-E4D73FB9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174-369C-4B59-B431-8F5D1CB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66A-D281-419C-A662-BD7F0EA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96C-B720-4D2F-A904-367ED6B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7885-C8BB-4C71-9328-CF274E23D37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3A49-43AE-4C7C-B6F3-048D61C7329E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800000"/>
                </a:solidFill>
                <a:latin typeface="Tahoma"/>
              </a:rPr>
              <a:t>Информация за о</a:t>
            </a:r>
            <a:r>
              <a:rPr b="1" lang="ru-RU" sz="3000" spc="-1" strike="noStrike">
                <a:solidFill>
                  <a:srgbClr val="800000"/>
                </a:solidFill>
                <a:latin typeface="Tahoma"/>
              </a:rPr>
              <a:t>съществени реалокации на средства по </a:t>
            </a:r>
            <a:r>
              <a:rPr b="1" lang="en-US" sz="30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bg-BG" sz="3000" spc="-1" strike="noStrike">
                <a:solidFill>
                  <a:srgbClr val="800000"/>
                </a:solidFill>
                <a:latin typeface="Tahoma"/>
              </a:rPr>
              <a:t>ПРР</a:t>
            </a:r>
            <a:r>
              <a:rPr b="1" lang="ru-RU" sz="3000" spc="-1" strike="noStrike">
                <a:solidFill>
                  <a:srgbClr val="800000"/>
                </a:solidFill>
                <a:latin typeface="Tahoma"/>
              </a:rPr>
              <a:t> 2007-2013г .</a:t>
            </a:r>
            <a:br>
              <a:rPr sz="2000"/>
            </a:b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юни 2014 г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гр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Помор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1547640" y="155736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Te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кущи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реалокации в ОПР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79280" y="2205000"/>
            <a:ext cx="87854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8200" indent="-268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ешени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е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от 13-то заседание на КН (19.11.2013г.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268200" indent="-268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 мандат на Ръководителя на УО на ОПРР да направи промени в ОПРР 2007-2013г., като отрази взетите решения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в нея при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ващото ревизиране на програмата и при необходимост да променя стойността на индикаторите, както и да изппрати ревизираната програма на ЕК за одоб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268200" indent="-268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Към 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.2014 г. размерът на договорените средства възлиза на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,2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 млрд. лв. (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1,686 млрд. евро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– 105% от бюджета на програма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268200" indent="-268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 периода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лед 13-то заседание на КН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2014 г. се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наблюдав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боден финансов ресурс по текущите схеми за БФП съгласно Решенията на КН –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7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(2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 млн. евр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268200" indent="-268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ъгласн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зетите решения на 13-то заседание на КН освободеният ресурс от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7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5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млн. евро)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пренасочен към схемата за АПИ за финансиране на големия проект за изграждане на Северна скоростна танге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1547640" y="155736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РЕАЛОКАЦИЯ МЕЖДУ ПРИОРИТЕТНИ ОСИ (1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62000" y="2085840"/>
            <a:ext cx="8785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насочване на финансов ресур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 Приоритетни оси 1, 2, 3 и 4 към сх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 бенефициент АП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сочването на средства (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24,5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млн. евр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към схемата за АПИ е в две направления – пренасочване между приоритетни оси (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24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млн. евр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и пренасочване в рамките на Приоритетна ос 2 „Регионална и местна достъпност” (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482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хил. евр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млн. евро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в рамките на Приоритетна ос 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ойчиво и интегрирано градск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лн. евро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 Операция 1.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на инфра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4,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млн. евр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т Операция 1.4 „Подобряване на физическата среда и превенция на риска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1547640" y="148428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РЕАЛОКАЦИЯ МЕЖДУ ПРИОРИТЕТНИ ОСИ (2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79280" y="1911240"/>
            <a:ext cx="878544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насочване на финансов ресур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 Приоритетни оси 1, 2, 3 и 4 към схема с бенефициент АП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Tahoma"/>
              </a:rPr>
              <a:t>482 хил. евро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в рамките  на Приоритетна ос 2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Регионална и местна достъпност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479 хил. евро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Tahoma"/>
              </a:rPr>
              <a:t>в рамките на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Операция 2.1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Регионална и местна пътна инфраструктура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3 хил. евро от Операция 2.3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Достъп до устойчиви и ефективни енергийни ресурси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Tahoma"/>
              </a:rPr>
              <a:t>4,1</a:t>
            </a:r>
            <a:r>
              <a:rPr b="1" lang="ru-RU" sz="1700" spc="-1" strike="noStrike">
                <a:solidFill>
                  <a:srgbClr val="000066"/>
                </a:solidFill>
                <a:latin typeface="Tahoma"/>
              </a:rPr>
              <a:t> млн. евро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от Приоритетна ос 3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Устойчиво развитие на туризма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3,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млн. евро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от Операция 3.1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Подобряване на туристическите атракции и свързаната с тях инфраструктура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31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хил. евро от Операция 3.2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Развитие на регионалния туристически продукт и маркетинг на дестинациите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Tahoma"/>
              </a:rPr>
              <a:t>3,</a:t>
            </a:r>
            <a:r>
              <a:rPr b="1" lang="en-US" sz="1700" spc="-1" strike="noStrike">
                <a:solidFill>
                  <a:srgbClr val="000066"/>
                </a:solidFill>
                <a:latin typeface="Tahoma"/>
              </a:rPr>
              <a:t>8</a:t>
            </a:r>
            <a:r>
              <a:rPr b="1" lang="ru-RU" sz="1700" spc="-1" strike="noStrike">
                <a:solidFill>
                  <a:srgbClr val="000066"/>
                </a:solidFill>
                <a:latin typeface="Tahoma"/>
              </a:rPr>
              <a:t> млн. евро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от Приоритетна ос 4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Местно развитие и сътрудничество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3,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млн. евро от Операция 4.1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Дребномащабни местни инвестиции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89 хил. евро от Операция 4.2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Междурегионално сътрудничество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1547640" y="148428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РЕАЛОКАЦИЯ МЕЖДУ ПРИОРИТЕТНИ ОСИ (3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93680" y="2276640"/>
            <a:ext cx="8785080" cy="40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ahoma"/>
              </a:rPr>
              <a:t>Наличен свободен ресурс за насочване към проекта за изграждане на Северна скоростна танг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Към 3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.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.2014 г.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след приключване, прекратяване и/или анексиране на договори в рамките на схема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BG161PO001/2.1-01/2007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Подкрепа за рехабилитация и реконструкция на второкласни и третокласни пътища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Tahoma"/>
              </a:rPr>
              <a:t>общо е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реализиран свободен ресурс в размер на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16,3 </a:t>
            </a:r>
            <a:r>
              <a:rPr b="1" lang="bg-BG" sz="1700" spc="-1" strike="noStrike">
                <a:solidFill>
                  <a:srgbClr val="000000"/>
                </a:solidFill>
                <a:latin typeface="Tahoma"/>
              </a:rPr>
              <a:t>млн.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лв. (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8,3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млн. евро)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Към 3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.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.2014 г. пренасоченият свободен ресурс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от другите приоритетни оси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за финансиране изграждането на Северна скоростна тангента е в размер на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млн. лв. (2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млн. евро)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Общият наличен ресурс към 3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.0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.2014 г. за финансиране на Северна скоростна тангента е в размер на </a:t>
            </a:r>
            <a:r>
              <a:rPr b="1" lang="ru-RU" sz="17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en-US" sz="17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ru-RU" sz="1700" spc="-1" strike="noStrike">
                <a:solidFill>
                  <a:srgbClr val="a50021"/>
                </a:solidFill>
                <a:latin typeface="Tahoma"/>
              </a:rPr>
              <a:t>,</a:t>
            </a:r>
            <a:r>
              <a:rPr b="1" lang="en-US" sz="17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ru-RU" sz="1700" spc="-1" strike="noStrike">
                <a:solidFill>
                  <a:srgbClr val="a50021"/>
                </a:solidFill>
                <a:latin typeface="Tahoma"/>
              </a:rPr>
              <a:t> млн. лв. (3</a:t>
            </a:r>
            <a:r>
              <a:rPr b="1" lang="en-US" sz="17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ru-RU" sz="1700" spc="-1" strike="noStrike">
                <a:solidFill>
                  <a:srgbClr val="a50021"/>
                </a:solidFill>
                <a:latin typeface="Tahoma"/>
              </a:rPr>
              <a:t>,9 млн. евро)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0" y="1989000"/>
          <a:ext cx="4427640" cy="4869000"/>
        </p:xfrm>
        <a:graphic>
          <a:graphicData uri="http://schemas.openxmlformats.org/drawingml/2006/table">
            <a:tbl>
              <a:tblPr/>
              <a:tblGrid>
                <a:gridCol w="2771640"/>
                <a:gridCol w="1656000"/>
              </a:tblGrid>
              <a:tr h="649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ОПРР към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о заседание на КН от 19 ноември 2013 г. (евр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2808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1: 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7 768 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5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2: Регионална и местна достъпн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 087 6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3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3: Устойчиво развитие на 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 385 0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6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 940 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98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5: Техническа помо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00720" y="1989000"/>
          <a:ext cx="4643280" cy="4810320"/>
        </p:xfrm>
        <a:graphic>
          <a:graphicData uri="http://schemas.openxmlformats.org/drawingml/2006/table">
            <a:tbl>
              <a:tblPr/>
              <a:tblGrid>
                <a:gridCol w="2735280"/>
                <a:gridCol w="1908000"/>
              </a:tblGrid>
              <a:tr h="728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 на реалокациите (евр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на ОПРР към 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14 г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2808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1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1 779 4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-1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89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81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766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2:           Регионална и местна достъпн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55 145 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+ 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58 078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79236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3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Устойчиво развитие на   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2 201 0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-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84 013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88452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8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55 1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- 3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84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84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55476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5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Техническа помо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4" name="Rectangle 47"/>
          <p:cNvSpPr/>
          <p:nvPr/>
        </p:nvSpPr>
        <p:spPr>
          <a:xfrm>
            <a:off x="1798560" y="1413000"/>
            <a:ext cx="734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РЕАЛОКАЦИЯ МЕЖДУ ПРИОРИТЕТНИ ОСИ (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48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1619280" y="1989000"/>
            <a:ext cx="75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628640"/>
            <a:ext cx="7596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ПРЕДЛОЖЕНИЕ ЗА РЕШ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06280" y="3091320"/>
            <a:ext cx="878544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Н дава мандат на Ръководителя на Управляващия орган на ОПРР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да направи промени в ОП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Регионално развитие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”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 2007-201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г. съгласно извършените реалокации при иницииране на последната ревизия на програма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СНЕЖИНА СЛАВЧ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3300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юни 201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Помор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SS</cp:lastModifiedBy>
  <cp:lastPrinted>2014-05-26T13:55:53Z</cp:lastPrinted>
  <dcterms:modified xsi:type="dcterms:W3CDTF">2014-06-10T21:41:51Z</dcterms:modified>
  <cp:revision>448</cp:revision>
  <dc:subject/>
  <dc:title>Slide 1</dc:title>
</cp:coreProperties>
</file>