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DADA-51DA-4CDD-9D6A-24589E62494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00E7-D56B-4916-A743-19E13FF1F91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1791-31A5-43E8-9A92-876987D8C7C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B24F-5EEB-40C8-A5C5-A0BD5C1DD65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28.08.2013 г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съствието на министъра на регионалното развитие Десислава Терзиева и министъра на здравеопазването д-р Таня Андреева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е подписах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договора за технологично обновяване и модернизация на МБАЛ "Проф. Д-р Стоян Киркович" АД, гр. Стара Загора и на МБАЛ „Габрово” АД, гр. Габр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оведени са 39 официални церемонии, от които 10 начални пресконференции и 29 заключителни пресконферен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2060"/>
                </a:solidFill>
                <a:latin typeface="Calibri"/>
                <a:ea typeface="Times New Roman"/>
              </a:rPr>
              <a:t>Във връзка с Актуализация на указанията за изпълнение на договори по ОПРР се 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ведоха 3 обучения на бенефициенти, в които се включиха 434 участници. На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юли в гр. Ст. Загора се проведе обучение, насочено към ръководителите на проекти, а на 10 и 11 юли в гр. София се проведоха обучения, насочени към финансовите експерти  и юристите в екип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16 септември 2013г. се проведе Деветото заседание на Тематична работна група за разработване на Оперативна програма "Региони в растеж" 2014-2020г., на което беше взето решение да бъде допуснато финансиране на бенефициентите от 1-во до 3-то ниво по схема за безвъзмездна финансова помощ BG161PO001/1.4-07/2010 "Подкрепа за интегрирани планове за градско възстановяване и развитие" в размер до 20% от определените по Приоритетна ос 1 "Устойчиво и интегрирано градско развитие" на ОПРР 2014-2020 индикативни бюдж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33CE-4687-452D-82A9-D15A595B6A9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775D-5EDC-45DD-9CA3-660DD976F17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E0F5-C42C-44A5-9A22-81E94F025DB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40A4-724B-4E59-AA1E-1733955F06B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DBE4-3FD4-4430-A086-C30DF13ACF4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B56B-E0F8-492F-993C-AA86E067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C05-75BD-4BC1-A965-7B268DE4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B0F-D82E-4870-BC68-8907D993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11C-39DD-4E6B-9C58-54C0C37A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F66DA-4B8B-4C34-B019-CA8A1772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FF6B7-843B-4348-86FA-67B92998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3F7C2-BA97-48F3-8C49-F721A527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F7FBD-05F4-415D-9FED-FBB4D343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0B2C8-92CB-4511-8DBE-3C405E8A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5A9A5-3FA9-4FD5-B01E-B57F9BAA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1CA1F-2C3E-4026-80A8-19452DD0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608-ED84-4830-BCEB-66A5D64D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2B1CE-083F-445B-856F-D7E5D665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89B75-74A7-4307-94E1-63CC565B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1EA29-575D-4D24-81F3-A2EF2A9D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5D01C-D684-4603-B150-CF237127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20B72-FDDF-4545-87D2-31E6CF9C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1428-3E3E-43BA-A2BE-F6930A61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5AB0-940D-4FB8-A810-ADF45412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D34-C3DA-40BB-B4B6-1195A414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AE4-4AE3-4D94-B362-6969DC59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C13-ACAD-4D99-8115-7AF5DEFF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5154-AC83-487B-9A38-09FA9F0B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FC0-3671-4203-BF31-20CD0B89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6A4C-DB5A-4E99-BA84-9132EA8F9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5B15-6284-422A-8589-99F8607F7D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0" y="1916280"/>
            <a:ext cx="914400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Tahoma"/>
              </a:rPr>
              <a:t>Аналитичен преглед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на напредъка п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ОП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“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Регионално развитие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”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 2007-2013г.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изпълнение на правилото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+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11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юни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4 г.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гр. Помор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www.mrrb.government.b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www.bgregio.e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54" name="Content Placeholder 2"/>
          <p:cNvSpPr/>
          <p:nvPr/>
        </p:nvSpPr>
        <p:spPr>
          <a:xfrm>
            <a:off x="250920" y="2236680"/>
            <a:ext cx="8642160" cy="46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ahoma"/>
                <a:ea typeface="Aharoni"/>
              </a:rPr>
              <a:t>Получено писмо на 03.06.14г. от ГД “Регионална и градска политика” на ЕК за временно спиране на плащанията по приоритетни оси 1 и 3 на ОПР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800000"/>
                </a:solidFill>
                <a:latin typeface="Tahoma"/>
              </a:rPr>
              <a:t>Изготвен план за действие от УО на ОПРР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Актуализирани/допълнени контролни листи за предварителен и последващ контрол за процедурите за възлагане на обществени поръч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Вътрешно обучение на служителите на УО отговорни за предварителния и последващ контрол на обществените поръч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Допълване на издадените и публикувани на сайта на програмата инструкции към бенефициентите за провеждане на обществени поръчки за най-често срещани наруш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Провеждане на обучение за бенефициенти относно най-често срещаните нарушения при възлагане на обществени поръчки – срок 25.07.2014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Повторна проверка на представителна извадка на проведените обществени поръчки по оси 1 и 3 за договорите със сертифицирани разходи през 2012г. и 2013г. – срок 25.07.2014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547640" y="1484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Предизвикателства при изпълнение на ОП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7"/>
          <p:cNvSpPr/>
          <p:nvPr/>
        </p:nvSpPr>
        <p:spPr>
          <a:xfrm>
            <a:off x="1547640" y="1268280"/>
            <a:ext cx="7596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ahoma"/>
              </a:rPr>
              <a:t>Успешни примери на ключови инвестиц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79280" y="2708280"/>
            <a:ext cx="8748720" cy="46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spcBef>
                <a:spcPts val="1375"/>
              </a:spcBef>
              <a:buClr>
                <a:srgbClr val="02090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2090e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Интегриран градски транспор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1375"/>
              </a:spcBef>
              <a:buClr>
                <a:srgbClr val="02090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2090e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2090e"/>
                </a:solidFill>
                <a:latin typeface="Tahoma"/>
              </a:rPr>
              <a:t>Инициатива </a:t>
            </a:r>
            <a:r>
              <a:rPr b="0" lang="en-US" sz="2200" spc="-1" strike="noStrike">
                <a:solidFill>
                  <a:srgbClr val="02090e"/>
                </a:solidFill>
                <a:latin typeface="Tahoma"/>
              </a:rPr>
              <a:t>JESS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1375"/>
              </a:spcBef>
              <a:buClr>
                <a:srgbClr val="02090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2090e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Рехабилитация/реконструкция на второкласна и третокласна пътна мреж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1375"/>
              </a:spcBef>
              <a:buClr>
                <a:srgbClr val="02090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2090e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02090e"/>
                </a:solidFill>
                <a:latin typeface="Tahoma"/>
              </a:rPr>
              <a:t>Деинституционализация на децата в Българ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1375"/>
              </a:spcBef>
              <a:buClr>
                <a:srgbClr val="02090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2090e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Изграждане на социални жилища за маргинализирани групи, вкл. ро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090e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1619280" y="981000"/>
            <a:ext cx="75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2060640"/>
            <a:ext cx="5580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Общ брой приключени проекти – </a:t>
            </a:r>
            <a:r>
              <a:rPr b="0" lang="en-US" sz="1600" spc="-1" strike="noStrike">
                <a:solidFill>
                  <a:srgbClr val="a50021"/>
                </a:solidFill>
                <a:latin typeface="Tahoma"/>
              </a:rPr>
              <a:t>6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9</a:t>
            </a:r>
            <a:r>
              <a:rPr b="0" lang="en-US" sz="1600" spc="-1" strike="noStrike">
                <a:solidFill>
                  <a:srgbClr val="a50021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Обновени/реконструирани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сгради на образователна, социална и културна инфраструктура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0" lang="en-US" sz="1600" spc="-1" strike="noStrike">
                <a:solidFill>
                  <a:srgbClr val="a50021"/>
                </a:solidFill>
                <a:latin typeface="Tahoma"/>
              </a:rPr>
              <a:t>9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училища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- 3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97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сград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детски ясли и градин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- 3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57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сград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сгради на културната инфраструктура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- 6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8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(55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читалища 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3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сгради на държавни културни институци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- 3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училища в сферата на културата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3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театр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, 3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опер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, 3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музея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1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концертна зала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социална инфраструктура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- 80 ( 45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социални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институции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35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бюра по труда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- 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Обновени/реконструирани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сгради на университети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-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43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5" descr="blok9-sega"/>
          <p:cNvPicPr/>
          <p:nvPr/>
        </p:nvPicPr>
        <p:blipFill>
          <a:blip r:embed="rId2"/>
          <a:srcRect l="0" t="0" r="0" b="7529"/>
          <a:stretch/>
        </p:blipFill>
        <p:spPr>
          <a:xfrm>
            <a:off x="5580000" y="4653000"/>
            <a:ext cx="3564000" cy="2205000"/>
          </a:xfrm>
          <a:prstGeom prst="rect">
            <a:avLst/>
          </a:prstGeom>
          <a:ln w="25560">
            <a:solidFill>
              <a:srgbClr val="006600"/>
            </a:solidFill>
            <a:miter/>
          </a:ln>
        </p:spPr>
      </p:pic>
      <p:pic>
        <p:nvPicPr>
          <p:cNvPr id="163" name="Picture 12" descr="IMG_0547_DxO"/>
          <p:cNvPicPr/>
          <p:nvPr/>
        </p:nvPicPr>
        <p:blipFill>
          <a:blip r:embed="rId3"/>
          <a:srcRect l="0" t="0" r="0" b="5351"/>
          <a:stretch/>
        </p:blipFill>
        <p:spPr>
          <a:xfrm>
            <a:off x="5580000" y="1773360"/>
            <a:ext cx="3564000" cy="2879640"/>
          </a:xfrm>
          <a:prstGeom prst="rect">
            <a:avLst/>
          </a:prstGeom>
          <a:ln w="25560">
            <a:solidFill>
              <a:srgbClr val="006600"/>
            </a:solidFill>
            <a:miter/>
          </a:ln>
        </p:spPr>
      </p:pic>
      <p:sp>
        <p:nvSpPr>
          <p:cNvPr id="164" name="Text Box 14"/>
          <p:cNvSpPr/>
          <p:nvPr/>
        </p:nvSpPr>
        <p:spPr>
          <a:xfrm>
            <a:off x="5796000" y="1916280"/>
            <a:ext cx="2881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800000"/>
                </a:solidFill>
                <a:latin typeface="Arial"/>
              </a:rPr>
              <a:t>Драматичен театър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 - </a:t>
            </a:r>
            <a:r>
              <a:rPr b="0" lang="bg-BG" sz="1600" spc="-1" strike="noStrike">
                <a:solidFill>
                  <a:srgbClr val="800000"/>
                </a:solidFill>
                <a:latin typeface="Arial"/>
              </a:rPr>
              <a:t>Вар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5867280" y="4797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ТУ- Соф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4932360" y="3860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усенска оп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580000" y="6093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ърджа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"/>
          <p:cNvSpPr/>
          <p:nvPr/>
        </p:nvSpPr>
        <p:spPr>
          <a:xfrm>
            <a:off x="5076720" y="3645000"/>
            <a:ext cx="21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SFTH-Sevli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435640" y="357012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Карлово – рехабилитация на пъ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5356080" y="648972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Пещера – градска сре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79280" y="2133720"/>
            <a:ext cx="4824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Подкрепа за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еинституционализация на децата в България – </a:t>
            </a:r>
            <a:r>
              <a:rPr b="0" lang="ru-RU" sz="1600" spc="-1" strike="noStrike">
                <a:solidFill>
                  <a:srgbClr val="800000"/>
                </a:solidFill>
                <a:latin typeface="Tahoma"/>
              </a:rPr>
              <a:t>изградени 45 ЦНСТ и 1</a:t>
            </a:r>
            <a:r>
              <a:rPr b="0" lang="en-US" sz="16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800000"/>
                </a:solidFill>
                <a:latin typeface="Tahoma"/>
              </a:rPr>
              <a:t> защитени жилищ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Рехабилитиран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/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реконструирани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пътища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971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к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Подобрена градска среда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зелени площи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детски площадк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над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3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млн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.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кв.м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Население, облагодетелствано от подобрената градска среда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над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3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,</a:t>
            </a:r>
            <a:r>
              <a:rPr b="0" lang="en-US" sz="16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млн.ду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Изграден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/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рехабилитиран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пешеходни зон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велоалеи, тротоар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над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8</a:t>
            </a:r>
            <a:r>
              <a:rPr b="0" lang="en-US" sz="16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хил.</a:t>
            </a:r>
            <a:r>
              <a:rPr b="0" lang="en-US" sz="16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кв.м</a:t>
            </a:r>
            <a:r>
              <a:rPr b="0" lang="en-US" sz="1600" spc="-1" strike="noStrike">
                <a:solidFill>
                  <a:srgbClr val="a50021"/>
                </a:solidFill>
                <a:latin typeface="Tahoma"/>
              </a:rPr>
              <a:t>.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619280" y="981000"/>
            <a:ext cx="75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(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1" descr="C:\Users\PetrovaSn\Documents\n+3 dokladna i pisma\DSC00902.JPG"/>
          <p:cNvPicPr/>
          <p:nvPr/>
        </p:nvPicPr>
        <p:blipFill>
          <a:blip r:embed="rId2"/>
          <a:stretch/>
        </p:blipFill>
        <p:spPr>
          <a:xfrm>
            <a:off x="5651640" y="4400640"/>
            <a:ext cx="3492360" cy="245736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175" name="Picture 11" descr="C:\Users\PetrovaSn\Documents\P1140821.jpg"/>
          <p:cNvPicPr/>
          <p:nvPr/>
        </p:nvPicPr>
        <p:blipFill>
          <a:blip r:embed="rId3"/>
          <a:stretch/>
        </p:blipFill>
        <p:spPr>
          <a:xfrm>
            <a:off x="5651640" y="1700280"/>
            <a:ext cx="3492360" cy="266544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sp>
        <p:nvSpPr>
          <p:cNvPr id="176" name="Text Box 15"/>
          <p:cNvSpPr/>
          <p:nvPr/>
        </p:nvSpPr>
        <p:spPr>
          <a:xfrm>
            <a:off x="5796000" y="393372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Червената църква - Перущиц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5796000" y="638172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Хасково – Градска сре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7"/>
          <p:cNvSpPr/>
          <p:nvPr/>
        </p:nvSpPr>
        <p:spPr>
          <a:xfrm>
            <a:off x="4932360" y="3860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усенска оп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580000" y="6093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ърджа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003640" y="35733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Friedrich-Schiller-Rou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5724360" y="602136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Karlovo - road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2"/>
          <a:stretch/>
        </p:blipFill>
        <p:spPr>
          <a:xfrm>
            <a:off x="5651640" y="1916280"/>
            <a:ext cx="3492360" cy="240336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5651640" y="4311720"/>
            <a:ext cx="3492360" cy="254628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sp>
        <p:nvSpPr>
          <p:cNvPr id="185" name="Text Box 12"/>
          <p:cNvSpPr/>
          <p:nvPr/>
        </p:nvSpPr>
        <p:spPr>
          <a:xfrm>
            <a:off x="5778360" y="3882960"/>
            <a:ext cx="32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Градът е сцена“-Разгр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5778360" y="6469200"/>
            <a:ext cx="32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800000"/>
                </a:solidFill>
                <a:latin typeface="Arial"/>
              </a:rPr>
              <a:t>Самоков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– </a:t>
            </a:r>
            <a:r>
              <a:rPr b="0" lang="bg-BG" sz="1800" spc="-1" strike="noStrike">
                <a:solidFill>
                  <a:srgbClr val="800000"/>
                </a:solidFill>
                <a:latin typeface="Arial"/>
              </a:rPr>
              <a:t>Цари Мали гр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0" y="1916280"/>
            <a:ext cx="5724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Брой подобрени туристически обекти/атракции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6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рой проведени иновативни културни събит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17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Брой посетители на иновативните културни събития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над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945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хил.ду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Линейни метри изграден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съоръжения за превенция от наводнения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над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103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х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ил.л.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Дължина на почистени/коригирани речни корита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над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57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хил.л.м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лощ на укрепени свлачищ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над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1,1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800000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кв.м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Население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облагодетелствано от укрепени свлачища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над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624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хил.ду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1619280" y="981000"/>
            <a:ext cx="75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(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1"/>
          <p:cNvSpPr/>
          <p:nvPr/>
        </p:nvSpPr>
        <p:spPr>
          <a:xfrm>
            <a:off x="0" y="1989000"/>
            <a:ext cx="40384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0" y="1989000"/>
            <a:ext cx="4356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0" y="1989000"/>
            <a:ext cx="40384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4"/>
          <p:cNvSpPr/>
          <p:nvPr/>
        </p:nvSpPr>
        <p:spPr>
          <a:xfrm>
            <a:off x="1547640" y="1413000"/>
            <a:ext cx="759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Tahoma"/>
              </a:rPr>
              <a:t>Действия за информация и публичнос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0" y="1989000"/>
            <a:ext cx="4356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179280" y="2133720"/>
            <a:ext cx="5472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шна конференция за представяне на напредъка по изпълнение на ОПРР през 2013 г.“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 „Нов подход на Одитния орган при възлагане на обществени поръчки от бенефициентите по ОПРР 2007-20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на среща и тематични групи за  оптимизиране на процедурите на УО по приключване на ОПРР 2007-2013 г., напредък и планирани процедури по ОПРР 2014-2020 г.”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"/>
          <p:cNvSpPr/>
          <p:nvPr/>
        </p:nvSpPr>
        <p:spPr>
          <a:xfrm>
            <a:off x="3267000" y="4373640"/>
            <a:ext cx="5877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на среща с експерти от екипите на проекти по ОПР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излъчвания в електронни медии и 12 публикации в печатни медии на национално и регионално ниво за осигуряване на прозрачност на процеса на изпълнение на ОПР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 официални церемонии за стартиране и приключване на  обекти по ОПР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ето заседание на ТРГ за подготовка на ОП „Региони в растеж“ 2014-2020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2"/>
          <a:stretch/>
        </p:blipFill>
        <p:spPr>
          <a:xfrm>
            <a:off x="5651640" y="2006640"/>
            <a:ext cx="3168360" cy="2379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"/>
          <p:cNvPicPr/>
          <p:nvPr/>
        </p:nvPicPr>
        <p:blipFill>
          <a:blip r:embed="rId3"/>
          <a:stretch/>
        </p:blipFill>
        <p:spPr>
          <a:xfrm>
            <a:off x="279360" y="4386240"/>
            <a:ext cx="3479760" cy="23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7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Снежина Славче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Ръководител на УО на ОП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3300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1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юн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4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Помор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ww.mrrb.government.b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ww.bgregio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547640" y="141300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Общ преглед на изпълнението на ОПРР към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05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.0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.2014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24000" y="2276640"/>
            <a:ext cx="849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Публикувани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8 схеми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за предоставяне на БФП на обща стойност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3,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131 млрд. лв.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или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100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%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 от бюджета на ОПРР </a:t>
            </a: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(3,131 млрд.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лв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Общ брой сключени договори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–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1104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с общ размер на предоставената БФП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–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3,29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2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млрд. лв.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или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105 %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от бюджета на ОП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Общ размер на плащанията по договори –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,100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  млрд.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лв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. 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или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64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%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 от размера на договорираните средства и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67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%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 от бюджета на ОП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Към края на 201</a:t>
            </a:r>
            <a:r>
              <a:rPr b="0" lang="en-US" sz="2000" spc="-1" strike="noStrike">
                <a:solidFill>
                  <a:srgbClr val="02090e"/>
                </a:solidFill>
                <a:latin typeface="Tahoma"/>
              </a:rPr>
              <a:t>4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 г. очакван размер на плащанията –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2,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65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 млрд.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лв.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 или </a:t>
            </a:r>
            <a:r>
              <a:rPr b="0" lang="bg-BG" sz="2000" spc="-1" strike="noStrike">
                <a:solidFill>
                  <a:srgbClr val="8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% 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от размера на договорените средства и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79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%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 от бюджета на ОП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1547640" y="134136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Финансово изпълнение на ОПРР към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05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.0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.2014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Object 1"/>
          <p:cNvGraphicFramePr/>
          <p:nvPr/>
        </p:nvGraphicFramePr>
        <p:xfrm>
          <a:off x="179280" y="1916280"/>
          <a:ext cx="8796600" cy="468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916280"/>
                    <a:ext cx="8796600" cy="4681440"/>
                  </a:xfrm>
                  <a:prstGeom prst="rect">
                    <a:avLst/>
                  </a:prstGeom>
                  <a:ln w="1908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79280" y="227664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79280" y="227664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179280" y="227664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179280" y="227664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79280" y="227664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9280" y="227664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79280" y="227664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179280" y="227664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Tahoma"/>
              </a:rPr>
              <a:t>Изпълнение на Приоритетна ос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1 </a:t>
            </a:r>
            <a:r>
              <a:rPr b="1" lang="bg-BG" sz="2000" spc="-1" strike="noStrike">
                <a:solidFill>
                  <a:srgbClr val="800000"/>
                </a:solidFill>
                <a:latin typeface="Tahoma"/>
              </a:rPr>
              <a:t>в агломерационните ареали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(</a:t>
            </a:r>
            <a:r>
              <a:rPr b="1" lang="bg-BG" sz="2000" spc="-1" strike="noStrike">
                <a:solidFill>
                  <a:srgbClr val="800000"/>
                </a:solidFill>
                <a:latin typeface="Tahoma"/>
              </a:rPr>
              <a:t>в млн. евро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) </a:t>
            </a:r>
            <a:r>
              <a:rPr b="1" lang="bg-BG" sz="2000" spc="-1" strike="noStrike">
                <a:solidFill>
                  <a:srgbClr val="800000"/>
                </a:solidFill>
                <a:latin typeface="Tahoma"/>
              </a:rPr>
              <a:t>към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05</a:t>
            </a:r>
            <a:r>
              <a:rPr b="1" lang="bg-BG" sz="2000" spc="-1" strike="noStrike">
                <a:solidFill>
                  <a:srgbClr val="800000"/>
                </a:solidFill>
                <a:latin typeface="Tahoma"/>
              </a:rPr>
              <a:t>.0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6</a:t>
            </a:r>
            <a:r>
              <a:rPr b="1" lang="bg-BG" sz="2000" spc="-1" strike="noStrike">
                <a:solidFill>
                  <a:srgbClr val="800000"/>
                </a:solidFill>
                <a:latin typeface="Tahoma"/>
              </a:rPr>
              <a:t>.</a:t>
            </a: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2014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Chart 35" descr=""/>
          <p:cNvPicPr/>
          <p:nvPr/>
        </p:nvPicPr>
        <p:blipFill>
          <a:blip r:embed="rId1"/>
          <a:stretch/>
        </p:blipFill>
        <p:spPr>
          <a:xfrm>
            <a:off x="109440" y="981000"/>
            <a:ext cx="8926560" cy="57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1547640" y="1484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Изпълнение на правилото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N+2 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към 31.12.2014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08000" y="2041560"/>
            <a:ext cx="9036000" cy="50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Минимална цел за сертифициран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равило N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2)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от началото на програмата към края на 2014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г. –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960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млн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вро</a:t>
            </a:r>
            <a:r>
              <a:rPr b="0" i="1" lang="ru-RU" sz="1800" spc="-1" strike="noStrike">
                <a:solidFill>
                  <a:srgbClr val="800000"/>
                </a:solidFill>
                <a:latin typeface="Tahoma"/>
              </a:rPr>
              <a:t>-</a:t>
            </a:r>
            <a:r>
              <a:rPr b="0" i="1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ФРР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Обща стойност на сертифицираните разходи към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05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.0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6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.2014 г. –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712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 млн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вро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–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ФРР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или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52 %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от бюджета на ОПРР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Реалистична прогноза за сертифицирани разходи къ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31.12.2014 г.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– 95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8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 млн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вро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– ЕФРР или 70 % от бюджета на програмата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Потенциален риск от загуба на средств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2,5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млн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вро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–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ФР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ри одобрения на големия проект на МВР на стойност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51 млн.евро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– намаление на целта по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+2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с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34 млн.евро - ЕФРР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не се очаква загуба на сред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остигане на прогнозния размер на сертифицирани разходи към 31.12.2014 г.  - възможно при средномесечен темп на верификация за периода юни –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ноември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38 млн. евро.–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ФР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1547640" y="126828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Анализ на изпълнението на проектно ниво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(1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79280" y="2041560"/>
            <a:ext cx="871380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ъм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5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20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актуализиран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ътрешен анализ относно изпълнението на ОПРР на проектно нив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Цел на анализа:</a:t>
            </a: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2090e"/>
                </a:solidFill>
                <a:latin typeface="Arial"/>
              </a:rPr>
              <a:t>да се гарантира максималното усвояване на средствата по ОПРР и постигане на целите на програма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Заключения от анали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говори за БФП с висок риск за изпълнение на обща стойност около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142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млн.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л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, т.е.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9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т общия обем договори в изпълнение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0" lang="bg-BG" sz="2000" spc="-1" strike="noStrike">
                <a:solidFill>
                  <a:srgbClr val="800000"/>
                </a:solidFill>
                <a:latin typeface="Arial"/>
              </a:rPr>
              <a:t>26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бр. </a:t>
            </a:r>
            <a:r>
              <a:rPr b="0" lang="bg-BG" sz="2000" spc="-1" strike="noStrike">
                <a:solidFill>
                  <a:srgbClr val="800000"/>
                </a:solidFill>
                <a:latin typeface="Arial"/>
              </a:rPr>
              <a:t>на стойност 1,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0" lang="bg-BG" sz="2000" spc="-1" strike="noStrike">
                <a:solidFill>
                  <a:srgbClr val="800000"/>
                </a:solidFill>
                <a:latin typeface="Arial"/>
              </a:rPr>
              <a:t> млрд.лв.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сновна причина за случаите на висок рис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липса на сключени договори с изпълнители за основните дейности – строителство и/или строителен надзор, достав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14200" y="2163600"/>
            <a:ext cx="8715600" cy="40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   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Високо рискови проект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– без сключени договори с основни изпълнители повече от 10 месеца след сключване на договор за БФП –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4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0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 бр. на стойност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142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 млн.лв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ff3300"/>
                </a:solidFill>
                <a:latin typeface="Arial"/>
                <a:ea typeface="Arial"/>
              </a:rPr>
              <a:t>Средно-рискови проекти </a:t>
            </a:r>
            <a:r>
              <a:rPr b="0" lang="bg-BG" sz="2000" spc="-1" strike="noStrike">
                <a:solidFill>
                  <a:srgbClr val="ff3300"/>
                </a:solidFill>
                <a:latin typeface="Arial"/>
                <a:ea typeface="Arial"/>
              </a:rPr>
              <a:t>– без сключен договор с един основен изпълнител (напр.доставка)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ff3300"/>
                </a:solidFill>
                <a:latin typeface="Arial"/>
                <a:ea typeface="Arial"/>
              </a:rPr>
              <a:t>–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8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  <a:ea typeface="Arial"/>
              </a:rPr>
              <a:t> на обща стойност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711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  <a:ea typeface="Arial"/>
              </a:rPr>
              <a:t>млн.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  <a:ea typeface="Arial"/>
              </a:rPr>
              <a:t>лв.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080808"/>
                </a:solidFill>
                <a:latin typeface="Arial"/>
                <a:ea typeface="Arial"/>
              </a:rPr>
              <a:t>Проекти със сключени основни договори, но без подадени искания за междинно плащане или със забава в графика на изпълнение –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  <a:ea typeface="Arial"/>
              </a:rPr>
              <a:t>40 на стойност</a:t>
            </a:r>
            <a:r>
              <a:rPr b="0" lang="bg-BG" sz="20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3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  <a:ea typeface="Arial"/>
              </a:rPr>
              <a:t>78 млн.лв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006600"/>
                </a:solidFill>
                <a:latin typeface="Arial"/>
                <a:ea typeface="Arial"/>
              </a:rPr>
              <a:t>Проекти с добро изпълнение </a:t>
            </a:r>
            <a:r>
              <a:rPr b="0" lang="bg-BG" sz="2000" spc="-1" strike="noStrike">
                <a:solidFill>
                  <a:srgbClr val="080808"/>
                </a:solidFill>
                <a:latin typeface="Arial"/>
                <a:ea typeface="Arial"/>
              </a:rPr>
              <a:t>и регулярно подавани искания за плащане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80808"/>
                </a:solidFill>
                <a:latin typeface="Arial"/>
                <a:ea typeface="Arial"/>
              </a:rPr>
              <a:t>–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1</a:t>
            </a:r>
            <a:r>
              <a:rPr b="1" lang="bg-BG" sz="2000" spc="-1" strike="noStrike">
                <a:solidFill>
                  <a:srgbClr val="006600"/>
                </a:solidFill>
                <a:latin typeface="Arial"/>
                <a:ea typeface="Arial"/>
              </a:rPr>
              <a:t>18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006600"/>
                </a:solidFill>
                <a:latin typeface="Arial"/>
                <a:ea typeface="Arial"/>
              </a:rPr>
              <a:t>бр.</a:t>
            </a:r>
            <a:r>
              <a:rPr b="0" lang="bg-BG" sz="2000" spc="-1" strike="noStrike">
                <a:solidFill>
                  <a:srgbClr val="080808"/>
                </a:solidFill>
                <a:latin typeface="Arial"/>
                <a:ea typeface="Arial"/>
              </a:rPr>
              <a:t> на обща стойност </a:t>
            </a:r>
            <a:r>
              <a:rPr b="1" lang="bg-BG" sz="2000" spc="-1" strike="noStrike">
                <a:solidFill>
                  <a:srgbClr val="006600"/>
                </a:solidFill>
                <a:latin typeface="Arial"/>
                <a:ea typeface="Arial"/>
              </a:rPr>
              <a:t>372 млн.л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47640" y="126828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Анализ на изпълнението на проектно ниво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8713800" cy="40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24000" y="1876320"/>
            <a:ext cx="424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Проекти на общи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333399"/>
                </a:solidFill>
                <a:latin typeface="Arial"/>
              </a:rPr>
              <a:t>Общо 172 проек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Високо рискови – 33 проекта на стойност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11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1 млн.л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общинска образователна инфраструктура, иновативни събития, 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лена и достъпна градска сред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превенция от наводнения, туристически атракции, туристически маркетинг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3300"/>
                </a:solidFill>
                <a:latin typeface="Arial"/>
                <a:ea typeface="Arial"/>
              </a:rPr>
              <a:t>Средно рискови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(без един основен договор) – </a:t>
            </a:r>
            <a:r>
              <a:rPr b="1" lang="bg-BG" sz="1600" spc="-1" strike="noStrike">
                <a:solidFill>
                  <a:srgbClr val="ff3300"/>
                </a:solidFill>
                <a:latin typeface="Arial"/>
                <a:ea typeface="Arial"/>
              </a:rPr>
              <a:t>7 проекта на стойност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bg-BG" sz="1600" spc="-1" strike="noStrike">
                <a:solidFill>
                  <a:srgbClr val="ff3300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bg-BG" sz="1600" spc="-1" strike="noStrike">
                <a:solidFill>
                  <a:srgbClr val="ff3300"/>
                </a:solidFill>
                <a:latin typeface="Arial"/>
                <a:ea typeface="Arial"/>
              </a:rPr>
              <a:t> млн.лв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общински болници, градски транспорт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екти без подадени искания за плащане или със забава в графика на изпълнение – </a:t>
            </a:r>
            <a:r>
              <a:rPr b="1" lang="bg-BG" sz="1600" spc="-1" strike="noStrike">
                <a:solidFill>
                  <a:srgbClr val="ff3300"/>
                </a:solidFill>
                <a:latin typeface="Arial"/>
                <a:ea typeface="Arial"/>
              </a:rPr>
              <a:t>34 проекта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bg-BG" sz="1600" spc="-1" strike="noStrike">
                <a:solidFill>
                  <a:srgbClr val="ff3300"/>
                </a:solidFill>
                <a:latin typeface="Arial"/>
                <a:ea typeface="Arial"/>
              </a:rPr>
              <a:t>на стойност 329 млн.лв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716360" y="1844640"/>
            <a:ext cx="4248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Проекти на конкретни бенефициен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333399"/>
                </a:solidFill>
                <a:latin typeface="Arial"/>
              </a:rPr>
              <a:t>Общо 54 проек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Високо рискови –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 проекта на стойност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29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 млн.л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1 проект на АСП, 1 на МК, национален туристически маркетинг на МИЕ -5 проек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 1 проект на АП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3300"/>
                </a:solidFill>
                <a:latin typeface="Arial"/>
                <a:ea typeface="Arial"/>
              </a:rPr>
              <a:t>Средно рискови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(без един основен договор) – </a:t>
            </a:r>
            <a:r>
              <a:rPr b="1" lang="bg-BG" sz="1600" spc="-1" strike="noStrike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1</a:t>
            </a:r>
            <a:r>
              <a:rPr b="1" lang="bg-BG" sz="1600" spc="-1" strike="noStrike">
                <a:solidFill>
                  <a:srgbClr val="ff3300"/>
                </a:solidFill>
                <a:latin typeface="Arial"/>
                <a:ea typeface="Arial"/>
              </a:rPr>
              <a:t> проекта на стойност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509</a:t>
            </a:r>
            <a:r>
              <a:rPr b="1" lang="bg-BG" sz="1600" spc="-1" strike="noStrike">
                <a:solidFill>
                  <a:srgbClr val="ff3300"/>
                </a:solidFill>
                <a:latin typeface="Arial"/>
                <a:ea typeface="Arial"/>
              </a:rPr>
              <a:t> млн.л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пътна инфраструктура, държавна културна, държавни болници, жилищно обновяван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екти без подадени искания за плащане или със забава в графика на изпълнение – </a:t>
            </a:r>
            <a:r>
              <a:rPr b="1" lang="bg-BG" sz="1600" spc="-1" strike="noStrike">
                <a:solidFill>
                  <a:srgbClr val="ff3300"/>
                </a:solidFill>
                <a:latin typeface="Arial"/>
                <a:ea typeface="Arial"/>
              </a:rPr>
              <a:t>6 проекта на стойност 49 млн.л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547640" y="98100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Анализ на изпълнението на проектно ниво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920" y="2236320"/>
            <a:ext cx="864216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  <a:ea typeface="Aharoni"/>
              </a:rPr>
              <a:t>Констатирани нарушения при възлагане на обществени поръчк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За периода от началото на програмат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5.11.2007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до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5.06.2014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са обработени 1478 сигнали за неред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Регистрирани са –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7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28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 бр. неред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Определени са финансови корекции на обща стойност –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39 млн. л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Съотношение на общата стойност на определените от УО на ОПРР финансови корекции спрямо бюджета на ОПРР –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1,3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Съотношение на определените финансови корекции спрямо сертифицираните средства по програмата –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1,4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1547640" y="1484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Трудности при изпълнение на проектите по ОП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48:26Z</dcterms:created>
  <dc:creator>MikovaD</dc:creator>
  <dc:description/>
  <dc:language>en-US</dc:language>
  <cp:lastModifiedBy>SS</cp:lastModifiedBy>
  <cp:lastPrinted>2014-06-06T11:21:44Z</cp:lastPrinted>
  <dcterms:modified xsi:type="dcterms:W3CDTF">2014-06-12T21:05:25Z</dcterms:modified>
  <cp:revision>612</cp:revision>
  <dc:subject/>
  <dc:title>Slide 1</dc:title>
</cp:coreProperties>
</file>