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A413-1C46-4780-A686-9E765C2591E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рокът за физическо изпълнение на проектите до 31 октомври 2015 г. е съгласно Указания на министъра на финансите за приключване на оперативните програми, съфинансирани от Структурните и Кохезионния фондове на ЕС през програмния период 2007-2013 г. (ДНФ №1/ 29.08.2013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BD71-B1AA-44DD-88A7-A0EBBDF777A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на решението на КН от страна на АПИ са подадени 5 проектни фиша и 1 голям проект за изграждане на Северна скоростна оценка. След извършване на оценка от страна на УО на ОПРР са одобрени за финансиране 3 проектни фиша и големия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682E-4254-4AF0-BFEB-1821FA74905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в връзка с минимизиране на риска от загуба на средства по ОПРР към 31.12.2014 г. на 24.07.2014 г. с решение на Комитета за наблюдение по ОПРР е одобрено финансирането на изпълнени или в процес на изпълнение проекти, допустими по схема BG161PO001/2.1-01/2007 „Подкрепа за рехабилитация и реконструкция на второкласни и третокласни пътища“, за които има реална възможност за приключване на всички дейности, включително подаване на искане за окончателно плащане до 31 октомври 2014 г. Средствата, необходими за тяхното финансиране в размер на до 10 млн.евро (20 млн.лв.), да бъдат осигурени от спестените към момента средства за Северна скоростна танг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на решението от страна на АПИ са подадени 5 проектни фиша. След извършване на оценка от страна на УО на ОПРР са одобрени за финансиране 3 проектни фиша, като впоследствие е сключен 1 договор за БФП по който е подадено окончателно плащане в рамките на определения срок – 31.10.2014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Съгласно решението на КН на ОПРР на Ръководителя на УО е даден мандат проектите на общините Тунджа, Столична, Казанлък, Лом и Варна да бъдат одобрени под условие, като към сключване на договор за предоставяне на безвъзмездна финансова помощ се пристъпи след като е налице влязло в сила решение за определяне на изпълнители на обществените поръчки за основните дейности по проектите в срок до края на месец декември 2014 г., а в случая на Община Казанлък - до края на месец март 2015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решението, също така е даден мандат на Ръководителя на УО да насочи допълнителен финансов ресурс към схема BG161PO001/1.2-02/2011 „Подкрепа за осигуряване на съвременни социални жилища за настаняване  на уязвими, малцинствени и социално слаби групи от населението и други групи в неравностойно положение” след уточняване на бюджета, необходим за изпълнението на проектите на общините Тунджа, Столична, Казанлък, Лом и Варна и след преценка на реалната готовност да се изпълнят проектите, която да се извърши към края на месец декември 2014 г., а в случая на Община Казанлък - до края на месец март 2015 г.  Допълнителният финансов ресурс да бъде насочен от регулярно освобождаващия се ресурс по текущи схеми за безвъзмездна финансова помощ по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AA33-DF23-4716-8163-CF17E302510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решението на КН чрез писмена процедура от 24.07.2014 г., 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ериода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от август до ноември 2014 г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аблюдава 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ен финансов ресурс по текущите схеми за БФП съгласн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шенията на КН –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,4 млн. лв.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bg-BG" sz="1200" spc="-1" strike="noStrike">
                <a:solidFill>
                  <a:srgbClr val="a50021"/>
                </a:solidFill>
                <a:latin typeface="Arial"/>
              </a:rPr>
              <a:t>3,3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млн. евро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йто не е пренасочен към Северна скоростна тангента и е задържан с оглед осигуряване на бюджет за проектите за социални жилища на 5-те общи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гласно същото решението на КН, преценка за реалната готовност да се изпълнят проектите за социални жилища ще се извърши към края на месец декември 2014 г., а в случая на Община Казанлък - до края на месец март 2015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29A9-AA7D-4C1B-A2D3-AE9016C1C39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834-9CA2-474B-9221-DB7605BF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480-CA95-4F21-BAD9-BA9C9F6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105-8E01-4C1E-B719-BFE05888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529-B7CF-4027-B880-979F97B4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6D5-B014-47B4-BEFB-255FD31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F2B-E044-4B58-8270-5E8F015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D9D-96D9-4FC9-9206-F3B4187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358-DEB1-42C8-815D-AC6A553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35B-1B45-41AA-A4B5-9E6345E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B91-BF00-4411-868A-3BD68E3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A63-F998-435F-A25A-3CC7B4A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3E5-B7BE-4BEF-8551-8427303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0B3-924F-4E07-ABBE-2939623E37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4920" y="3933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осъществени реалокации на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1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4680" y="1460520"/>
            <a:ext cx="85914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Отменя Решение на К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ОПРР 2007-2013 г. от 24.07.2014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за насочване на финансов ресурс за финансиране на допълнителни проекти на общините Варна, Тунджа, Столична, Казанлък и Лом по схема BG161PO001/1.2-02/201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редвид високия риск физическото изпълнение на проектите да се реализира до 31.10.2015г. в съответствие с изискванията за ДНФ № 1/ 29.08.2013 г. за приключване на оперативните програми, съфинансирани от Структурните и Кохезионния фондове на ЕС през програмния период 2007-2013 г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след сформиране на целия финансов ресурс за финансиране на големия проект за изграждане на Северна скоростна танген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насочва регулярно освобождаващия се ресурс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програмата по всички схеми за БФП за финансирането на проекти на конкретни бенефициенти, за които има реална възможност физическото им изпълнение да приключи до 31 октомври 2015 г. в следната последователно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2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3120" y="1663560"/>
            <a:ext cx="85917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5 млн. лв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 финансиране на допълнителни обекти, одобрени по схема „Зелена и достъпна градска сред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0 млн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купуване на 55 бр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изелови автобуса висок екологичен клас за нуждите на обществения градски транспорт в град Стара Загора, като част от проек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G161PO001/1.5-03/2011/00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„Модернизация и развитие на устойчив градски транспорт за град Стара Загора" с бенефициент Община Стара Загор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,9 млн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в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за закупуване на допълнителна апаратура за лъчелечение, включваща уредба за хеликална терапия за нуждите на СБАЛ по Онкология, гр. София и роботизирана система за стереотактична радиохирургия за нуждите УМБАЛ „Св. Георги", гр. Пловдив, с бенефициент Министерство на здравеопазване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3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70000" y="1557360"/>
            <a:ext cx="8591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 определи общините Горна Оряховица, Асеновград и Димитровград за конкретни бенефициенти в рамките на компонент 3 „Общини на средно-големите градове, центрове на агломерационни ареали“ по схема BG161PO001/5-02/2012 "В подкрепа за следващия програмен период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 измени Изискванията за кандидатстване по схема BG161PO001/5-02/2012 "В подкрепа за следващия програмен период" и покани общините Горна Оряховица, Асеновград и Димитровград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да подадат проектни предложения по схемата. Предвид крайния срок за допустимост на разходите по ОПРР – 31.12.2015 г.,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ектите да бъдат одобрени под условие,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като към сключване на договор за предоставяне на безвъзмездна финансова помощ по схемата се пристъпи след като е налице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лязло в сила решение за определяне на изпълнители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 обществените поръчки за основните дейности по проектите в срок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о края на месец април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4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03120" y="1663560"/>
            <a:ext cx="85917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да направи промени в ОП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Регионално развити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2007-201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332000" y="95400"/>
            <a:ext cx="655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Предпоставки за реалокации по ОПРР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шение на КН чрез писмена 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(14.08.2013 г.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8480" indent="-1742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андат на Ръководителя на УО на ОПРР да пренасочва регулярно освобождаващия се ресурс по всички схеми за БФП с изключение на схе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схемите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о приоритетна ос 5 „Техническа помощ“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лед подсигуряване на необходимия ресурс за схемата за противопожарни ав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мобили и тех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бенефициент МВР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за финансиране на изпълнени или в процес на изпълнение про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допустими за финансиране по схема 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“, с конкретен бенефициент АП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з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инансирането на голям проект за изграждане на Северната скоростна танген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  <a:ea typeface="Arial"/>
              </a:rPr>
              <a:t>като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ддоговори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финансовия ресурс по Операция 2.1 „Регионална и местна пътна инфраструктура” с конкретен бенефициент АПИ в размер до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80 млн. л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87280" y="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по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1424160"/>
            <a:ext cx="8353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шения на КН чрез писмени процедури (24.07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Н дава мандат на Ръководителя на У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 договори в размер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 10 млн. евро (20 млн. лв.) финансирането на изпълнени или в процес на изпълнение проек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хемата с бенефициент АПИ с оглед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аване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ончателно плащане до 31 октомври 2014 г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редств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необходими за тяхното финанси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а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ъдат осигурени от спестените към момента средства за Северна скоростна танг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 насоч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пълнителен финансов ресурс към схемата з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изграждане 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и жилищ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 уточняване на бюджетите и след преценка на реалната готовност да се изпълнят проектите на общините Лом, Варна, Тунджа, Столична и Казанлък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еобходимият финансов ресурс да бъде осигурен от освобождаващите се средства по текущи схеми за БФП по ОПР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в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след 14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85760" y="1557360"/>
            <a:ext cx="869616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.11.2014 г. размерът на договорените средства възлиза на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3,274 млрд. лв.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(1,67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 млрд. евро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– 105% от бюджета на програ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перио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 14-то заседание на К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222268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222268"/>
                </a:solidFill>
                <a:latin typeface="Arial"/>
                <a:ea typeface="Arial"/>
              </a:rPr>
              <a:t>07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.2014 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блюда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финансов ресурс по текущите схеми за БФП съгласн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шенията на КН –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7,4 млн. лв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3,8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йто е пренасочен към схемата за АПИ за финансиране на големия проект за изграждане на Северна скоростна танг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189080" y="2376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в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след 14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04840" y="1628640"/>
            <a:ext cx="862488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36036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период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т август до ноември 2014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блюдав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финансов ресурс по текущите схеми за БФП съгласн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шенията на КН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4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3,3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360360" algn="just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В изпълнение на решение на КН за осигуряване на ресурс за финансиране на проектите за социални жилища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8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9,2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 решение на РУО освободените средства по Приоритетна ос 1 за този период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6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8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е са пренасочвани за финансиране на Северна скоростна танг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360360" algn="just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станалите приоритетни оси е освобод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2,8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4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средно по около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 млн. лв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на месец. Поради сравнително малкия размер, с решение на РУО средствата за този период не са пренасочвани за финансиране на Северна скоростна танг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0000" y="1557360"/>
            <a:ext cx="862488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Приоритетни оси 1, 3 и 4 към схема с бенефициент 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сочването на средства 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3,8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към схемата за АПИ е след пренасочване между приоритетни 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,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 от Операция 1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9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ил. евро от Операция 1.4 „Подобряване на физическата среда и превенция на риск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6520" y="1557360"/>
            <a:ext cx="862488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риоритетни оси 1, 3 и 4 към схема с бенефициент 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,041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3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ойчиво развитие на туриз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 и свързаната с тях инфраструктур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я туристически продукт и маркетинг на дестинации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5 хил. евро от Операция 3.3 “Национален туристически маркетинг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715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хил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4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715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4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ребномащабни местни инвести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3920" y="1401840"/>
            <a:ext cx="872784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личен свободен ресурс за финансиране на проект за изграждане на 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14-то заседа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К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ният ресурс за Северна скоростна танген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64,3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2,9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2014 г. допълнително освободеният и насочен към Северна скоростна тангента ресурс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,9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,6 млн. евро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които след приключване, прекратяване и/или анексиран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амките на сх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1,8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станалите приоритетни ос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1.07.2014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 освободен и пренасоч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7,4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3,8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ят наличен ресурс 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11.2014 г., насочен за финансиране на Северна скоростна тангента, е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75,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5 млн. евро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 необходим ресурс за проек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59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81,6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5260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4-то заседание на КН от 11 юни 2014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41 779 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355 145 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52 201 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8 055 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38800" y="1452600"/>
          <a:ext cx="4643280" cy="454176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778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0.11.2014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9 744 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2 035 2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50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8 938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792 4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1 159 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4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7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7 339 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 715 6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4-12-04T12:07:08Z</dcterms:modified>
  <cp:revision>786</cp:revision>
  <dc:subject/>
  <dc:title>Diapositiva 1</dc:title>
</cp:coreProperties>
</file>