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C912-7838-4A92-A73A-23BC2B8A5CC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рокът за физическо изпълнение на проектите до 31 октомври 2015 г. е съгласно Указания на министъра на финансите за приключване на оперативните програми, съфинансирани от Структурните и Кохезионния фондове на ЕС през програмния период 2007-2013 г. (ДНФ №1/ 29.08.2013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4D6F-766A-442F-9651-037E3460ACA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на решението на КН от страна на АПИ са подадени 5 проектни фиша и 1 голям проект за изграждане на Северна скоростна оценка. След извършване на оценка от страна на УО на ОПРР са одобрени за финансиране 3 проектни фиша и големия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2662-DD7B-4DBB-938D-A44842F38F0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ъв връзка с минимизиране на риска от загуба на средства по ОПРР към 31.12.2014 г. на 24.07.2014 г. с решение на Комитета за наблюдение по ОПРР е одобрено финансирането на изпълнени или в процес на изпълнение проекти, допустими по схема BG161PO001/2.1-01/2007 „Подкрепа за рехабилитация и реконструкция на второкласни и третокласни пътища“, за които има реална възможност за приключване на всички дейности, включително подаване на искане за окончателно плащане до 31 октомври 2014 г. Средствата, необходими за тяхното финансиране в размер на до 10 млн.евро (20 млн.лв.), да бъдат осигурени от спестените към момента средства за Северна скоростна танг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резултат на решението от страна на АПИ са подадени 5 проектни фиша. След извършване на оценка от страна на УО на ОПРР са одобрени за финансиране 3 проектни фиша, като впоследствие е сключен 1 договор за БФП по който е подадено окончателно плащане в рамките на определения срок – 31.10.2014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2. Съгласно решението на КН на ОПРР на Ръководителя на УО е даден мандат проектите на общините Тунджа, Столична, Казанлък, Лом и Варна да бъдат одобрени под условие, като към сключване на договор за предоставяне на безвъзмездна финансова помощ се пристъпи след като е налице влязло в сила решение за определяне на изпълнители на обществените поръчки за основните дейности по проектите в срок до края на месец декември 2014 г., а в случая на Община Казанлък - до края на месец март 2015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 решението, също така е даден мандат на Ръководителя на УО да насочи допълнителен финансов ресурс към схема BG161PO001/1.2-02/2011 „Подкрепа за осигуряване на съвременни социални жилища за настаняване  на уязвими, малцинствени и социално слаби групи от населението и други групи в неравностойно положение” след уточняване на бюджета, необходим за изпълнението на проектите на общините Тунджа, Столична, Казанлък, Лом и Варна и след преценка на реалната готовност да се изпълнят проектите, която да се извърши към края на месец декември 2014 г., а в случая на Община Казанлък - до края на месец март 2015 г.  Допълнителният финансов ресурс да бъде насочен от регулярно освобождаващия се ресурс по текущи схеми за безвъзмездна финансова помощ по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6096-5E22-44E7-B192-98E5246E3CB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лед решението на КН чрез писмена процедура от 24.07.2014 г., 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периода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от август до ноември 2014 г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аблюдава 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ен финансов ресурс по текущите схеми за БФП съгласн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шенията на КН –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,4 млн. лв.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bg-BG" sz="1200" spc="-1" strike="noStrike">
                <a:solidFill>
                  <a:srgbClr val="a50021"/>
                </a:solidFill>
                <a:latin typeface="Arial"/>
              </a:rPr>
              <a:t>3,3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млн. евро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йто не е пренасочен към Северна скоростна тангента и е задържан с оглед осигуряване на бюджет за проектите за социални жилища на 5-те общи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гласно същото решението на КН, преценка за реалната готовност да се изпълнят проектите за социални жилища ще се извърши към края на месец декември 2014 г., а в случая на Община Казанлък - до края на месец март 2015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DDF2-D85D-405C-9F91-2595CF03CDB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F88-A647-42A7-9076-8A277F56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50F8-E624-49FD-BEE2-7EA43B80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4E8C-1705-4C21-88B1-BE409A2E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0A6-F8D8-440A-BAF7-E0999F46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0ED-4D26-4454-A4A2-EEEA5464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005-315F-4BB1-A76A-FF508B64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8B6-3CD9-4D61-935B-BAA4B5CB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044-32E2-4BC7-9496-B159D07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3CB-7BEC-423C-9DBB-81DC55B0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B47-DDC4-4629-A13E-668CBDE7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201-534D-4F17-AB85-F3D74BBE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40E7-0ED5-4DC8-A6F9-562F0A6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BC2A-CC4D-4F69-B5BE-B23A7A2C3A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  <a:ea typeface="Arial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  <a:ea typeface="Arial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  <a:ea typeface="Arial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4920" y="3933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Информация за осъществени реалокации на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по OПРР 2007-2013 г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1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74680" y="1460520"/>
            <a:ext cx="85914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Отменя Решение на К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ОПРР 2007-2013 г. от 24.07.2014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за насочване на финансов ресурс за финансиране на допълнителни проекти на общините Варна, Тунджа, Столична, Казанлък и Лом по схема BG161PO001/1.2-02/2011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редвид високия риск физическото изпълнение на проектите да се реализира до 31.10.2015г. в съответствие с изискванията за ДНФ № 1/ 29.08.2013 г. за приключване на оперативните програми, съфинансирани от Структурните и Кохезионния фондове на ЕС през програмния период 2007-2013 г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след сформиране на целия финансов ресурс за финансиране на големия проект за изграждане на Северна скоростна танген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насочва регулярно освобождаващия се ресурс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програмата по всички схеми за БФП за финансирането на проекти на конкретни бенефициенти, за които има реална възможност физическото им изпълнение да приключи до 31 октомври 2015 г. в следната последователно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2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3120" y="1663560"/>
            <a:ext cx="85917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5 млн. лв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 финансиране на допълнителни обекти, одобрени по схема „Зелена и достъпна градска среда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0 млн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купуване на 55 бр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изелови автобуса висок екологичен клас за нуждите на обществения градски транспорт в град Стара Загора, като част от проек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G161PO001/1.5-03/2011/00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„Модернизация и развитие на устойчив градски транспорт за град Стара Загора" с бенефициент Община Стара Загор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366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9,9 млн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в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за закупуване на допълнителна апаратура за лъчелечение, включваща уредба за хеликална терапия за нуждите на СБАЛ по Онкология, гр. София и роботизирана система за стереотактична радиохирургия за нуждите УМБАЛ „Св. Георги", гр. Пловдив, с бенефициент Министерство на здравеопазване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3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70000" y="1557360"/>
            <a:ext cx="859140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 определи общините Горна Оряховица, Асеновград и Димитровград за конкретни бенефициенти в рамките на компонент 3 „Общини на средно-големите градове, центрове на агломерационни ареали“ по схема BG161PO001/5-02/2012 "В подкрепа за следващия програмен период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а измени Изискванията за кандидатстване по схема BG161PO001/5-02/2012 "В подкрепа за следващия програмен период" и покани общините Горна Оряховица, Асеновград и Димитровград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да подадат проектни предложения по схемата. Предвид крайния срок за допустимост на разходите по ОПРР – 31.12.2015 г.,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ектите да бъдат одобрени под условие,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 като към сключване на договор за предоставяне на безвъзмездна финансова помощ по схемата се пристъпи след като е налице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влязло в сила решение за определяне на изпълнители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на обществените поръчки за основните дейности по проектите в срок 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о края на месец април 201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187280" y="12852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ЛОЖЕНИЕ ЗА РЕШЕНИЕ (4)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03120" y="1663560"/>
            <a:ext cx="85917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Н дава мандат на Ръководителя на УО на ОПР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4880" indent="-342720" algn="just">
              <a:spcBef>
                <a:spcPts val="18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да направи промени в ОП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Регионално развитие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 2007-2013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Arial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Ръководител на УО на ОП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  <a:ea typeface="Arial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  <a:ea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332000" y="95400"/>
            <a:ext cx="655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Arial"/>
              </a:rPr>
              <a:t>Предпоставки за реалокации по ОПРР (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шение на КН чрез писмена 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(14.08.2013 г.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8480" indent="-17424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мандат на Ръководителя на УО на ОПРР да пренасочва регулярно освобождаващия се ресурс по всички схеми за БФП с изключение на схем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”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схемите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по приоритетна ос 5 „Техническа помощ“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лед подсигуряване на необходимия ресурс за схемата за противопожарни ав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мобили и тех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 бенефициент МВР,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за финансиране на изпълнени или в процес на изпълнение про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допустими за финансиране по схема 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“, с конкретен бенефициент АП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з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инансирането на голям проект за изграждане на Северната скоростна танген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d0d0d"/>
                </a:solidFill>
                <a:latin typeface="Arial"/>
                <a:ea typeface="Arial"/>
              </a:rPr>
              <a:t>като</a:t>
            </a:r>
            <a:r>
              <a:rPr b="0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ддоговори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финансовия ресурс по Операция 2.1 „Регионална и местна пътна инфраструктура” с конкретен бенефициент АПИ в размер до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280 млн. л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187280" y="0"/>
            <a:ext cx="684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по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24000" y="1424160"/>
            <a:ext cx="835344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шения на КН чрез писмени процедури (24.07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Н дава мандат на Ръководителя на У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 договори в размер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 10 млн. евро (20 млн. лв.) финансирането на изпълнени или в процес на изпълнение проек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хемата с бенефициент АПИ с оглед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аване 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кончателно плащане до 31 октомври 2014 г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редств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необходими за тяхното финанси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да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ъдат осигурени от спестените към момента средства за Северна скоростна танг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а насоч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пълнителен финансов ресурс към схемата з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изграждане 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циални жилищ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д уточняване на бюджетите и след преценка на реалната готовност да се изпълнят проектите на общините Лом, Варна, Тунджа, Столична и Казанлък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еобходимият финансов ресурс да бъде осигурен от освобождаващите се средства по текущи схеми за БФП по ОПР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189080" y="69840"/>
            <a:ext cx="676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в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след 14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85760" y="1557360"/>
            <a:ext cx="8696160" cy="28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.11.2014 г. размерът на договорените средства възлиза на </a:t>
            </a: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3,274 млрд. лв. 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(1,67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Arial"/>
              </a:rPr>
              <a:t>4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 млрд. евро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– 105% от бюджета на програм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60360" algn="just">
              <a:lnSpc>
                <a:spcPct val="100000"/>
              </a:lnSpc>
              <a:spcBef>
                <a:spcPts val="18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перио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лед 14-то заседание на КН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3</a:t>
            </a:r>
            <a:r>
              <a:rPr b="0" lang="en-US" sz="2000" spc="-1" strike="noStrike">
                <a:solidFill>
                  <a:srgbClr val="222268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222268"/>
                </a:solidFill>
                <a:latin typeface="Arial"/>
                <a:ea typeface="Arial"/>
              </a:rPr>
              <a:t>07</a:t>
            </a:r>
            <a:r>
              <a:rPr b="0" lang="ru-RU" sz="2000" spc="-1" strike="noStrike">
                <a:solidFill>
                  <a:srgbClr val="222268"/>
                </a:solidFill>
                <a:latin typeface="Arial"/>
                <a:ea typeface="Arial"/>
              </a:rPr>
              <a:t>.2014 г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аблюда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финансов ресурс по текущите схеми за БФП съгласн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шенията на КН –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7,4 млн. лв.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3,8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йто е пренасочен към схемата за АПИ за финансиране на големия проект за изграждане на Северна скоростна танг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189080" y="23760"/>
            <a:ext cx="6838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Предпоставки за реалокации в ОПРР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Arial"/>
                <a:ea typeface="Arial"/>
              </a:rPr>
              <a:t>след 14-то заседание на КН</a:t>
            </a:r>
            <a:r>
              <a:rPr b="1" lang="en-US" sz="26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04840" y="1628640"/>
            <a:ext cx="8624880" cy="40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36036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а период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т август до ноември 2014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блюдава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финансов ресурс по текущите схеми за БФП съгласн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шенията на КН –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6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,4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3,3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360360" algn="just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В изпълнение на решение на КН за осигуряване на ресурс за финансиране на проектите за социални жилища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8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9,2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 решение на РУО освободените средства по Приоритетна ос 1 за този период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6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8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е са пренасочвани за финансиране на Северна скоростна танг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5320" indent="-360360" algn="just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 останалите приоритетни оси е освобод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2,8 млн. лв. 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(1,4 млн. евро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– средно по около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1 млн. лв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на месец. Поради сравнително малкия размер, с решение на РУО средствата за този период не са пренасочвани за финансиране на Северна скоростна танг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0000" y="1557360"/>
            <a:ext cx="862488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жду Приоритетни оси 1, 3 и 4 към схема с бенефициент АП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сочването на средства (</a:t>
            </a:r>
            <a:r>
              <a:rPr b="1" lang="bg-BG" sz="2000" spc="-1" strike="noStrike">
                <a:solidFill>
                  <a:srgbClr val="a50021"/>
                </a:solidFill>
                <a:latin typeface="Arial"/>
                <a:ea typeface="Arial"/>
              </a:rPr>
              <a:t>3,8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 към схемата за АПИ е след пренасочване между приоритетни о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  <a:ea typeface="Arial"/>
              </a:rPr>
              <a:t>2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,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 от Операция 1.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9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хил. евро от Операция 1.4 „Подобряване на физическата среда и превенция на риска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6520" y="1557360"/>
            <a:ext cx="862488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насочване на финансов ресур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жду Приоритетни оси 1, 3 и 4 към схема с бенефициент А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,041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 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3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тойчиво развитие на туризм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млн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от Операция 3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туристическите атракции и свързаната с тях инфраструктур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3.2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я туристически продукт и маркетинг на дестинациит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15 хил. евро от Операция 3.3 “Национален туристически маркетинг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66"/>
                </a:solidFill>
                <a:latin typeface="Arial"/>
              </a:rPr>
              <a:t>715 </a:t>
            </a:r>
            <a:r>
              <a:rPr b="1" lang="ru-RU" sz="1900" spc="-1" strike="noStrike">
                <a:solidFill>
                  <a:srgbClr val="000066"/>
                </a:solidFill>
                <a:latin typeface="Arial"/>
              </a:rPr>
              <a:t>хил. евро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т Приоритетна ос 4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естно развитие и сътрудничест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922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715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хил. евро от Операция 4.1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Дребномащабни местни инвести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23920" y="1401840"/>
            <a:ext cx="8727840" cy="45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аличен свободен ресурс за финансиране на проект за изграждане на 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14-то заседа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К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личният ресурс за Северна скоростна танген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64,3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2,9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2014 г. допълнително освободеният и насочен към Северна скоростна тангента ресурс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0,9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5,6 млн. евро)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които след приключване, прекратяване и/или анексиран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рамките на сх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о 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боден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3,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1,8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 останалите приоритетни ос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ъм 31.07.2014 г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 освободен и пренасочен финансов ресурс в размер на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7,4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3,8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млн. евр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ят наличен ресурс към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11.2014 г., насочен за финансиране на Северна скоростна тангента, е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  <a:ea typeface="Arial"/>
              </a:rPr>
              <a:t>75,3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3</a:t>
            </a:r>
            <a:r>
              <a:rPr b="1" lang="bg-BG" sz="1800" spc="-1" strike="noStrike">
                <a:solidFill>
                  <a:srgbClr val="a50021"/>
                </a:solidFill>
                <a:latin typeface="Arial"/>
                <a:ea typeface="Arial"/>
              </a:rPr>
              <a:t>8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,5 млн. евро)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таващият необходим ресурс за проекта е в размер на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159 млн. лв.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Arial"/>
              </a:rPr>
              <a:t>(81,6 млн. евр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187280" y="128520"/>
            <a:ext cx="683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Р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еалокация между приоритетни оси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36520" y="1452600"/>
            <a:ext cx="862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452600"/>
          <a:ext cx="4446720" cy="4530600"/>
        </p:xfrm>
        <a:graphic>
          <a:graphicData uri="http://schemas.openxmlformats.org/drawingml/2006/table">
            <a:tbl>
              <a:tblPr/>
              <a:tblGrid>
                <a:gridCol w="2784600"/>
                <a:gridCol w="166212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Бюджет ОПРР към 14-то заседание на КН от 11 юни 2014 г.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41 779 4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355 145 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152 201 0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98 055 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Sylfaen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422c16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438800" y="1452600"/>
          <a:ext cx="4643280" cy="454176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6778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0.11.2014 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2808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9 744 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2 035 24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150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8 938 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+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 792 49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380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1 159 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4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7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822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7 339 4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- 715 6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1444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080">
                      <a:solidFill>
                        <a:srgbClr val="808080"/>
                      </a:solidFill>
                    </a:lnL>
                    <a:lnR w="1872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808080"/>
                      </a:solidFill>
                    </a:lnL>
                    <a:lnR w="28080">
                      <a:solidFill>
                        <a:srgbClr val="808080"/>
                      </a:solidFill>
                    </a:lnR>
                    <a:lnT w="18720">
                      <a:solidFill>
                        <a:srgbClr val="808080"/>
                      </a:solidFill>
                    </a:lnT>
                    <a:lnB w="2808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dcterms:modified xsi:type="dcterms:W3CDTF">2014-12-04T12:07:08Z</dcterms:modified>
  <cp:revision>786</cp:revision>
  <dc:subject/>
  <dc:title>Diapositiva 1</dc:title>
</cp:coreProperties>
</file>