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29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32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624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26640" y="741240"/>
            <a:ext cx="49374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2400" cy="44434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377280"/>
            <a:ext cx="2943360" cy="493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6240" y="9377280"/>
            <a:ext cx="2943000" cy="493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4014-AD8D-4D49-AF2C-C5C0D086E9D2}" type="slidenum">
              <a:rPr b="0" lang="bg-B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27000" y="741240"/>
            <a:ext cx="493740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2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46600" y="9377280"/>
            <a:ext cx="2943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24F6-6F87-48E4-8820-839D65D23691}" type="slidenum">
              <a:rPr b="0" lang="bg-BG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6F5D-F6B1-4402-A9F5-1B3F6AB1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E19-20E3-44BD-BC36-807994E8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6D85-F41C-4F7F-8CCF-405AD316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833D-43F4-4E91-8578-65FC2031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23E36-0A3D-4B96-B3E4-C273B58E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0EE38-AAF0-40CA-999A-E4E8839D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8BDAE-C21D-4C7A-A880-16CF0877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E92C1-9BB7-459A-8E0E-84EE462C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511FE-5AFF-4ACC-BBCA-E045C9AD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13A1B-4A5F-4852-BF02-0DB7118A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46EC0-651C-49A1-96B3-071427F6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4CAA-335C-4EDF-9DCA-A53C7F3E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472C5-FE4F-4590-8E9B-5104E935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96F97-E824-461E-81C5-8014E17A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AA1D10-B2E6-4B53-80AF-8482E2BC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1DBEA-12CC-4475-B5CB-8821ED0B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3D93E-8D99-43E8-8F07-B56B431B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8AD8-BD8A-4BE4-A2D1-02E8EF02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157-2E10-4264-8B89-74A3CE86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D68-3A52-4FA0-91E5-7D979CDE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F91-36CD-47C4-A4CB-89F7AC6A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20ED-D7E5-43DC-A35C-E01FA41C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6F53-A278-4504-BBE6-ADB4D5A1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C1E3-6138-4A84-AF5C-07314145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4E54-CB56-46F9-BA6E-F3AEC0C974A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CE7B-1890-4B45-B532-909001C00969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0" y="1916280"/>
            <a:ext cx="914400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ЛАВНА ДИРЕКЦ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ОГРАМИРАНЕ НА РЕГИОНАЛНОТО РАЗВИТ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ГОДИШЕН ДОКЛАД ЗА ИЗПЪЛН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Оперативна програма “Регионално развитие” 2007-2013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за 20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3 год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0-1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6.2014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Помор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998640" y="1100160"/>
            <a:ext cx="7524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                  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Сертифицирани средства 2013 г.            </a:t>
            </a:r>
            <a:r>
              <a:rPr b="1" i="1" lang="bg-BG" sz="1600" spc="-1" strike="noStrike">
                <a:solidFill>
                  <a:srgbClr val="a50021"/>
                </a:solidFill>
                <a:latin typeface="Tahoma"/>
              </a:rPr>
              <a:t>в евр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Content Placeholder 3" descr=""/>
          <p:cNvPicPr/>
          <p:nvPr/>
        </p:nvPicPr>
        <p:blipFill>
          <a:blip r:embed="rId2"/>
          <a:stretch/>
        </p:blipFill>
        <p:spPr>
          <a:xfrm>
            <a:off x="57240" y="2009880"/>
            <a:ext cx="900252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998640" y="1268280"/>
            <a:ext cx="7524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                    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Приключени проекти 2013 г             </a:t>
            </a:r>
            <a:r>
              <a:rPr b="1" i="1" lang="bg-BG" sz="1600" spc="-1" strike="noStrike">
                <a:solidFill>
                  <a:srgbClr val="a50021"/>
                </a:solidFill>
                <a:latin typeface="Tahoma"/>
              </a:rPr>
              <a:t>в евр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Content Placeholder 6" descr=""/>
          <p:cNvPicPr/>
          <p:nvPr/>
        </p:nvPicPr>
        <p:blipFill>
          <a:blip r:embed="rId2"/>
          <a:stretch/>
        </p:blipFill>
        <p:spPr>
          <a:xfrm>
            <a:off x="179280" y="2097000"/>
            <a:ext cx="8856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3366"/>
                </a:solidFill>
                <a:latin typeface="Tahoma"/>
              </a:rPr>
              <a:t>ДОГОВОРЕНИ СРЕДСТВА – 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1 449 млн. евро</a:t>
            </a:r>
            <a:r>
              <a:rPr b="1" lang="en-US" sz="1800" spc="-1" strike="noStrike">
                <a:solidFill>
                  <a:srgbClr val="a8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3366"/>
                </a:solidFill>
                <a:latin typeface="Tahoma"/>
              </a:rPr>
              <a:t>или 9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1</a:t>
            </a:r>
            <a:r>
              <a:rPr b="1" lang="bg-BG" sz="1800" spc="-1" strike="noStrike">
                <a:solidFill>
                  <a:srgbClr val="003366"/>
                </a:solidFill>
                <a:latin typeface="Tahoma"/>
              </a:rPr>
              <a:t> % спрямо бюдже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3366"/>
                </a:solidFill>
                <a:latin typeface="Tahoma"/>
              </a:rPr>
              <a:t>ПЛАТЕНИ СРЕДСТВА – 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924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млн. евро </a:t>
            </a:r>
            <a:r>
              <a:rPr b="1" lang="bg-BG" sz="1800" spc="-1" strike="noStrike">
                <a:solidFill>
                  <a:srgbClr val="003366"/>
                </a:solidFill>
                <a:latin typeface="Tahoma"/>
              </a:rPr>
              <a:t>– или 64 % спрямо договорените средства и 58 % спрямо бюдже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3366"/>
                </a:solidFill>
                <a:latin typeface="Tahoma"/>
              </a:rPr>
              <a:t>СЕРТИФИЦИРАНИ СРЕДСТВА – 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742 млн. евро </a:t>
            </a:r>
            <a:r>
              <a:rPr b="1" lang="bg-BG" sz="1800" spc="-1" strike="noStrike">
                <a:solidFill>
                  <a:srgbClr val="003366"/>
                </a:solidFill>
                <a:latin typeface="Tahoma"/>
              </a:rPr>
              <a:t>или 45 % спрямо бюдже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1"/>
          <p:cNvSpPr/>
          <p:nvPr/>
        </p:nvSpPr>
        <p:spPr>
          <a:xfrm>
            <a:off x="1547640" y="1484280"/>
            <a:ext cx="7596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ОБЩ ПРЕГЛЕД НА ИЗПЪЛНЕНИЕТО ПО ПРОГРАМАТ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КЪМ 31.12.2013 г.</a:t>
            </a:r>
            <a:br>
              <a:rPr sz="22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2204640"/>
            <a:ext cx="50403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ведени информационни дни и обучения във връзка с указания за изпълнение на договори за БФП по ОПРР 2007-201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cc"/>
                </a:solidFill>
                <a:latin typeface="Tahoma"/>
              </a:rPr>
              <a:t>Проведени 6 официални церемонии по подписване на догово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131a"/>
                </a:solidFill>
                <a:latin typeface="Tahoma"/>
              </a:rPr>
              <a:t>Проведена Годишна конференция за представяне на напредъка по ОПР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ahoma"/>
              </a:rPr>
              <a:t>Изготвени рекламни и информационни материали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131a"/>
                </a:solidFill>
                <a:latin typeface="Tahoma"/>
              </a:rPr>
              <a:t>Осигуряване на достъпност, публичност и прозрачност чрез електронни мед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1116000" y="1413000"/>
            <a:ext cx="75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ИНФОРМАЦИЯ И</a:t>
            </a:r>
            <a:r>
              <a:rPr b="1" lang="bg-BG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УБЛИЧНОСТ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11" descr="IMG_9885"/>
          <p:cNvPicPr/>
          <p:nvPr/>
        </p:nvPicPr>
        <p:blipFill>
          <a:blip r:embed="rId2"/>
          <a:stretch/>
        </p:blipFill>
        <p:spPr>
          <a:xfrm>
            <a:off x="5219640" y="1989000"/>
            <a:ext cx="3673440" cy="2409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SAM_1868"/>
          <p:cNvPicPr/>
          <p:nvPr/>
        </p:nvPicPr>
        <p:blipFill>
          <a:blip r:embed="rId3"/>
          <a:stretch/>
        </p:blipFill>
        <p:spPr>
          <a:xfrm>
            <a:off x="5219640" y="4557600"/>
            <a:ext cx="367344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БЛАГОДАРЯ ЗА ВНИМАНИЕТО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66"/>
                </a:solidFill>
                <a:latin typeface="Arial"/>
              </a:rPr>
              <a:t>Снежина Славч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66"/>
                </a:solidFill>
                <a:latin typeface="Arial"/>
              </a:rPr>
              <a:t>Ръководител на УО на ОПР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10-11.06.201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4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.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р.Помор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1"/>
          <p:cNvSpPr/>
          <p:nvPr/>
        </p:nvSpPr>
        <p:spPr>
          <a:xfrm>
            <a:off x="1547640" y="1484280"/>
            <a:ext cx="75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ОБЩ ПРЕГЛЕД НА ИЗПЪЛНЕНИЕТО ЗА 2013 г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179280" y="2205000"/>
            <a:ext cx="885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20b12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Обявена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 покана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по схема за предоставяне на безвъзмездна финансова помощ на обща стойност 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3,6 млн.евр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20b12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Одобрени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43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 проектни предлож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Сключени </a:t>
            </a: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47 договора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за предоставяне .на безвъзмездна финансова помощ на обща стойност </a:t>
            </a: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148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31a"/>
                </a:solidFill>
                <a:latin typeface="Tahoma"/>
              </a:rPr>
              <a:t>Изплатени общо средства за 201</a:t>
            </a:r>
            <a:r>
              <a:rPr b="1" lang="en-US" sz="1800" spc="-1" strike="noStrike">
                <a:solidFill>
                  <a:srgbClr val="00131a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00131a"/>
                </a:solidFill>
                <a:latin typeface="Tahoma"/>
              </a:rPr>
              <a:t> г. </a:t>
            </a:r>
            <a:r>
              <a:rPr b="1" lang="en-US" sz="1800" spc="-1" strike="noStrike">
                <a:solidFill>
                  <a:srgbClr val="00131a"/>
                </a:solidFill>
                <a:latin typeface="Tahoma"/>
              </a:rPr>
              <a:t>–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a80000"/>
                </a:solidFill>
                <a:latin typeface="Tahoma"/>
              </a:rPr>
              <a:t>366 млн.евро</a:t>
            </a:r>
            <a:r>
              <a:rPr b="1" lang="ru-RU" sz="1800" spc="-1" strike="noStrike">
                <a:solidFill>
                  <a:srgbClr val="00131a"/>
                </a:solidFill>
                <a:latin typeface="Tahoma"/>
              </a:rPr>
              <a:t>, от кои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31a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131a"/>
                </a:solidFill>
                <a:latin typeface="Tahoma"/>
              </a:rPr>
              <a:t>- авансови плащания – </a:t>
            </a:r>
            <a:r>
              <a:rPr b="1" i="1" lang="ru-RU" sz="1800" spc="-1" strike="noStrike">
                <a:solidFill>
                  <a:srgbClr val="a80000"/>
                </a:solidFill>
                <a:latin typeface="Tahoma"/>
              </a:rPr>
              <a:t>135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131a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00131a"/>
                </a:solidFill>
                <a:latin typeface="Tahoma"/>
              </a:rPr>
              <a:t>- междинни и окончателни плащания – </a:t>
            </a:r>
            <a:r>
              <a:rPr b="1" i="1" lang="ru-RU" sz="1800" spc="-1" strike="noStrike">
                <a:solidFill>
                  <a:srgbClr val="a80000"/>
                </a:solidFill>
                <a:latin typeface="Tahoma"/>
              </a:rPr>
              <a:t>231</a:t>
            </a:r>
            <a:r>
              <a:rPr b="1" i="1" lang="en-US" sz="1800" spc="-1" strike="noStrike">
                <a:solidFill>
                  <a:srgbClr val="a8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a80000"/>
                </a:solidFill>
                <a:latin typeface="Tahoma"/>
              </a:rPr>
              <a:t>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роцентът извършени плащанията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към 31.12.201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г. спрямо бюджета на програмата е в размер на 58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66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131a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131a"/>
                </a:solidFill>
                <a:latin typeface="Tahoma"/>
              </a:rPr>
              <a:t>Сертифицирани средства от СО за 2013 г.</a:t>
            </a:r>
            <a:r>
              <a:rPr b="1" lang="bg-BG" sz="18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a80000"/>
                </a:solidFill>
                <a:latin typeface="Tahoma"/>
              </a:rPr>
              <a:t>-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 38</a:t>
            </a:r>
            <a:r>
              <a:rPr b="1" lang="en-US" sz="1800" spc="-1" strike="noStrike">
                <a:solidFill>
                  <a:srgbClr val="a80000"/>
                </a:solidFill>
                <a:latin typeface="Tahoma"/>
              </a:rPr>
              <a:t>1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 млн. </a:t>
            </a:r>
            <a:r>
              <a:rPr b="1" lang="en-US" sz="1800" spc="-1" strike="noStrike">
                <a:solidFill>
                  <a:srgbClr val="a80000"/>
                </a:solidFill>
                <a:latin typeface="Tahoma"/>
              </a:rPr>
              <a:t>e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вро</a:t>
            </a:r>
            <a:r>
              <a:rPr b="1" lang="en-US" sz="1800" spc="-1" strike="noStrike">
                <a:solidFill>
                  <a:srgbClr val="a8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a80000"/>
                </a:solidFill>
                <a:latin typeface="Tahoma"/>
              </a:rPr>
              <a:t>(</a:t>
            </a:r>
            <a:r>
              <a:rPr b="1" i="1" lang="bg-BG" sz="1800" spc="-1" strike="noStrike">
                <a:solidFill>
                  <a:srgbClr val="a80000"/>
                </a:solidFill>
                <a:latin typeface="Tahoma"/>
              </a:rPr>
              <a:t>над 2 пъти повече в сравнение с 2012г. – 183 млн.евро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82d4c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63600" indent="-363600" algn="just"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Брой приключили проекти през 201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г. –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25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547640" y="141300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Изпълнение на прогнозите по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Lothar 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към 31.12.2013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и съответствие с правилото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N+2/N+3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79280" y="2317680"/>
            <a:ext cx="8785440" cy="45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buClr>
                <a:srgbClr val="00131a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131a"/>
                </a:solidFill>
                <a:latin typeface="Tahoma"/>
              </a:rPr>
              <a:t>Минимална цел за сертифициране </a:t>
            </a:r>
            <a:r>
              <a:rPr b="1" lang="ru-RU" sz="1800" spc="-1" strike="noStrike">
                <a:solidFill>
                  <a:srgbClr val="00131a"/>
                </a:solidFill>
                <a:latin typeface="Tahoma"/>
              </a:rPr>
              <a:t>(</a:t>
            </a:r>
            <a:r>
              <a:rPr b="1" lang="bg-BG" sz="1800" spc="-1" strike="noStrike">
                <a:solidFill>
                  <a:srgbClr val="00131a"/>
                </a:solidFill>
                <a:latin typeface="Tahoma"/>
              </a:rPr>
              <a:t>правило N</a:t>
            </a:r>
            <a:r>
              <a:rPr b="1" lang="ru-RU" sz="1800" spc="-1" strike="noStrike">
                <a:solidFill>
                  <a:srgbClr val="00131a"/>
                </a:solidFill>
                <a:latin typeface="Tahoma"/>
              </a:rPr>
              <a:t>+2/3) </a:t>
            </a:r>
            <a:r>
              <a:rPr b="1" lang="bg-BG" sz="1800" spc="-1" strike="noStrike">
                <a:solidFill>
                  <a:srgbClr val="00131a"/>
                </a:solidFill>
                <a:latin typeface="Tahoma"/>
              </a:rPr>
              <a:t>към края на 201</a:t>
            </a:r>
            <a:r>
              <a:rPr b="1" lang="en-US" sz="1800" spc="-1" strike="noStrike">
                <a:solidFill>
                  <a:srgbClr val="00131a"/>
                </a:solidFill>
                <a:latin typeface="Tahoma"/>
              </a:rPr>
              <a:t>3 </a:t>
            </a:r>
            <a:r>
              <a:rPr b="1" lang="bg-BG" sz="1800" spc="-1" strike="noStrike">
                <a:solidFill>
                  <a:srgbClr val="00131a"/>
                </a:solidFill>
                <a:latin typeface="Tahoma"/>
              </a:rPr>
              <a:t>г. – </a:t>
            </a:r>
            <a:r>
              <a:rPr b="1" lang="ru-RU" sz="1800" spc="-1" strike="noStrike">
                <a:solidFill>
                  <a:srgbClr val="a80000"/>
                </a:solidFill>
                <a:latin typeface="Tahoma"/>
              </a:rPr>
              <a:t>681 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млн.</a:t>
            </a:r>
            <a:r>
              <a:rPr b="1" lang="en-US" sz="1800" spc="-1" strike="noStrike">
                <a:solidFill>
                  <a:srgbClr val="a8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евро</a:t>
            </a:r>
            <a:r>
              <a:rPr b="1" i="1" lang="ru-RU" sz="1800" spc="-1" strike="noStrike">
                <a:solidFill>
                  <a:srgbClr val="a80000"/>
                </a:solidFill>
                <a:latin typeface="Tahoma"/>
              </a:rPr>
              <a:t>-</a:t>
            </a:r>
            <a:r>
              <a:rPr b="1" i="1" lang="en-US" sz="1800" spc="-1" strike="noStrike">
                <a:solidFill>
                  <a:srgbClr val="a8000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ЕФР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>
              <a:buClr>
                <a:srgbClr val="a8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>
              <a:buClr>
                <a:srgbClr val="00131a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131a"/>
                </a:solidFill>
                <a:latin typeface="Tahoma"/>
              </a:rPr>
              <a:t>Установен риск от загуба на средства към май 2013г. – 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73-123</a:t>
            </a:r>
            <a:r>
              <a:rPr b="1" lang="bg-BG" sz="1800" spc="-1" strike="noStrike">
                <a:solidFill>
                  <a:srgbClr val="00131a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>
              <a:buClr>
                <a:srgbClr val="000d1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Одобрен за допустимост голям проект за изграждане на Северната скоростна тангента</a:t>
            </a:r>
            <a:r>
              <a:rPr b="1" lang="en-US" sz="1800" spc="-1" strike="noStrike">
                <a:solidFill>
                  <a:srgbClr val="000d14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– намаление на целта с </a:t>
            </a:r>
            <a:r>
              <a:rPr b="1" lang="bg-BG" sz="1800" spc="-1" strike="noStrike">
                <a:solidFill>
                  <a:srgbClr val="a80000"/>
                </a:solidFill>
                <a:latin typeface="Tahoma"/>
              </a:rPr>
              <a:t>81 млн.евро до 600 млн.евр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d1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Сертифицирани разходи</a:t>
            </a:r>
            <a:r>
              <a:rPr b="1" lang="en-US" sz="1800" spc="-1" strike="noStrike">
                <a:solidFill>
                  <a:srgbClr val="000d14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към 31.12.201</a:t>
            </a:r>
            <a:r>
              <a:rPr b="1" lang="en-US" sz="1800" spc="-1" strike="noStrike">
                <a:solidFill>
                  <a:srgbClr val="000d14"/>
                </a:solidFill>
                <a:latin typeface="Tahoma"/>
              </a:rPr>
              <a:t>3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– 622 млн. евро – дял ЕФРР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или</a:t>
            </a:r>
            <a:r>
              <a:rPr b="1" lang="bg-BG" sz="18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8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 %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спрямо бюджета на програма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d1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Само за 2013 г. са сертифицирани разходи от 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24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 млн.евро </a:t>
            </a: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- дял ЕФР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2080" indent="-262080" algn="just">
              <a:spcBef>
                <a:spcPts val="901"/>
              </a:spcBef>
              <a:buClr>
                <a:srgbClr val="000099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99"/>
                </a:solidFill>
                <a:uFillTx/>
                <a:latin typeface="Tahoma"/>
              </a:rPr>
              <a:t>Постигната е целта за усвояване към 31.12.2013г. и не е налице загуба на средства </a:t>
            </a:r>
            <a:r>
              <a:rPr b="1" lang="bg-BG" sz="1800" spc="-1" strike="noStrike">
                <a:solidFill>
                  <a:srgbClr val="000099"/>
                </a:solidFill>
                <a:latin typeface="Tahoma"/>
              </a:rPr>
              <a:t>от прилагане на правилото 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N+3/N+2</a:t>
            </a:r>
            <a:r>
              <a:rPr b="1" lang="bg-BG" sz="1800" spc="-1" strike="noStrike">
                <a:solidFill>
                  <a:srgbClr val="000099"/>
                </a:solidFill>
                <a:latin typeface="Tahoma"/>
              </a:rPr>
              <a:t> за 2012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444600" y="11095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16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3"/>
          <p:cNvSpPr/>
          <p:nvPr/>
        </p:nvSpPr>
        <p:spPr>
          <a:xfrm>
            <a:off x="1547640" y="133992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редизвикателства и мерки, предприети за разрешаването им (</a:t>
            </a:r>
            <a:r>
              <a:rPr b="1" lang="en-GB" sz="22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250920" y="2016000"/>
            <a:ext cx="8785080" cy="74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Забавяне на изпълнението на част от договорите за безвъзмездна финансова помо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Забава в подготовката на тръжните документи и обявяването на процедурите за избор на изпълни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Обжалване на процедурите за избор на изпълнители по ЗО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ъвместни срещи с бенефициентите с установени рискови проекти и обсъждане на възможни сценарии за постигане на заложените цел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Взето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решение да не се одобряват искания за временни спирания, подадени от бенефициенти след 01.12.2013 г., в случай на обжалване на процедур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13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31a"/>
                </a:solidFill>
                <a:latin typeface="Tahoma"/>
              </a:rPr>
              <a:t>Необходимост от ускоряване на процесите по верификация и разплащания за постигане на правилото </a:t>
            </a:r>
            <a:r>
              <a:rPr b="1" lang="en-US" sz="1800" spc="-1" strike="noStrike">
                <a:solidFill>
                  <a:srgbClr val="00131a"/>
                </a:solidFill>
                <a:latin typeface="Tahoma"/>
              </a:rPr>
              <a:t>N+2/3</a:t>
            </a:r>
            <a:r>
              <a:rPr b="1" lang="bg-BG" sz="1800" spc="-1" strike="noStrike">
                <a:solidFill>
                  <a:srgbClr val="00131a"/>
                </a:solidFill>
                <a:latin typeface="Tahoma"/>
              </a:rPr>
              <a:t> към 31.12.2013 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13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131a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Регулярен мониторинг по изпълнението на проекти по ОПРР – периодична актуализация на анализа за рискови проек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Оптимизации на процесите, с оглед ускоряване изпълнението на проектите и на верификацията</a:t>
            </a:r>
            <a:r>
              <a:rPr b="0" lang="bg-BG" sz="1800" spc="-1" strike="noStrike">
                <a:solidFill>
                  <a:srgbClr val="0033c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13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444600" y="11095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16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3"/>
          <p:cNvSpPr/>
          <p:nvPr/>
        </p:nvSpPr>
        <p:spPr>
          <a:xfrm>
            <a:off x="1547640" y="1339920"/>
            <a:ext cx="759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редизвикателства и мерки, предприети за разрешаването им (2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250920" y="2016000"/>
            <a:ext cx="8785080" cy="70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d14"/>
                </a:solidFill>
                <a:latin typeface="Tahoma"/>
              </a:rPr>
              <a:t>Констатирани пропуски/слабости при провеждане на процедурите по възлагане на обществените поръчк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buClr>
                <a:srgbClr val="000d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d14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Осъществяване на предварителен контрол както от АОП (с посл. изм. на ЗОП), така и от УО на ОПР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ключени договори с външни изпълнители за предоставяне на юридически услуг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buClr>
                <a:srgbClr val="00131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31a"/>
                </a:solidFill>
                <a:latin typeface="Tahoma"/>
              </a:rPr>
              <a:t>Необходимост от укрепване на капацитета на УО на ОПР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С цел укрепване на капацитета на УО на ОПРР и подобряване на експертния потенциал 140 служители са преминали специализирани обучения в България и страни-членки на Е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buClr>
                <a:srgbClr val="020b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3"/>
          <p:cNvSpPr/>
          <p:nvPr/>
        </p:nvSpPr>
        <p:spPr>
          <a:xfrm>
            <a:off x="1619280" y="1341360"/>
            <a:ext cx="75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Tahoma"/>
              </a:rPr>
              <a:t>Предизвикателства и мерки, предприети за разрешаването им (3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08000" y="1700280"/>
            <a:ext cx="8928000" cy="52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Установени пропуски при изпълнението на инфраструктурни проек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Недобро качество на физическото изпълнение на проекти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Tahoma"/>
              </a:rPr>
              <a:t>Предприети мер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О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ъществяване на 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ътрешен мониторинг</a:t>
            </a:r>
            <a:r>
              <a:rPr b="0" lang="en-GB" sz="1800" spc="-1" strike="noStrike">
                <a:solidFill>
                  <a:srgbClr val="000099"/>
                </a:solidFill>
                <a:latin typeface="Tahoma"/>
              </a:rPr>
              <a:t>”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от бенефициента върху договорите с изпълни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Сключване на договори с външни изпълнители за осъществяване на инвеститорски контрол посредством проверки на мяс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Изпълнение на План за проверки на място на приключили проекти за гарантиране устойчивостта на инвестиция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d1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d14"/>
                </a:solidFill>
                <a:latin typeface="Tahoma"/>
              </a:rPr>
              <a:t>Необходимост от укрепване на капацитета на бенефициентит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Проведени обучения във връзка с процедура за кандидатстване изцяло по електронен път в Модула за електронни услуги на ИСУ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buClr>
                <a:srgbClr val="000099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ahoma"/>
              </a:rPr>
              <a:t>Изпълнение на проект „Изграждане на капацитет на бенефициентите на ОПРР“</a:t>
            </a:r>
            <a:r>
              <a:rPr b="0" lang="bg-BG" sz="18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0" i="1" lang="bg-BG" sz="1800" spc="-1" strike="noStrike">
                <a:solidFill>
                  <a:srgbClr val="000d14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971640" y="-171360"/>
            <a:ext cx="75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ИЗПЪЛНЕНИЕ ПО ПРИОРИТЕТНИ ОС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8" descr="405655_479646798765051_424937516_n"/>
          <p:cNvPicPr/>
          <p:nvPr/>
        </p:nvPicPr>
        <p:blipFill>
          <a:blip r:embed="rId1"/>
          <a:stretch/>
        </p:blipFill>
        <p:spPr>
          <a:xfrm>
            <a:off x="0" y="3648240"/>
            <a:ext cx="4572000" cy="3209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3"/>
          <p:cNvPicPr/>
          <p:nvPr/>
        </p:nvPicPr>
        <p:blipFill>
          <a:blip r:embed="rId2"/>
          <a:stretch/>
        </p:blipFill>
        <p:spPr>
          <a:xfrm>
            <a:off x="0" y="692280"/>
            <a:ext cx="4591080" cy="3144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12153"/>
          <p:cNvPicPr/>
          <p:nvPr/>
        </p:nvPicPr>
        <p:blipFill>
          <a:blip r:embed="rId3"/>
          <a:stretch/>
        </p:blipFill>
        <p:spPr>
          <a:xfrm>
            <a:off x="4572000" y="692280"/>
            <a:ext cx="4572000" cy="340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100_003_Vila_Armira_Ivajlovgrad"/>
          <p:cNvPicPr/>
          <p:nvPr/>
        </p:nvPicPr>
        <p:blipFill>
          <a:blip r:embed="rId4"/>
          <a:stretch/>
        </p:blipFill>
        <p:spPr>
          <a:xfrm>
            <a:off x="4572000" y="3797280"/>
            <a:ext cx="45720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998640" y="1087560"/>
            <a:ext cx="7524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                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Договорени средства 2013 г.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        </a:t>
            </a:r>
            <a:r>
              <a:rPr b="1" i="1" lang="bg-BG" sz="1600" spc="-1" strike="noStrike">
                <a:solidFill>
                  <a:srgbClr val="a50021"/>
                </a:solidFill>
                <a:latin typeface="Tahoma"/>
              </a:rPr>
              <a:t>в евр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Content Placeholder 10"/>
          <p:cNvGraphicFramePr/>
          <p:nvPr/>
        </p:nvGraphicFramePr>
        <p:xfrm>
          <a:off x="57240" y="1724040"/>
          <a:ext cx="9029520" cy="5067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9" name="Content Placeholder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0" y="1724040"/>
                    <a:ext cx="90295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Box 11"/>
          <p:cNvSpPr/>
          <p:nvPr/>
        </p:nvSpPr>
        <p:spPr>
          <a:xfrm>
            <a:off x="1187280" y="3456000"/>
            <a:ext cx="6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31a"/>
                </a:solidFill>
                <a:latin typeface="Arial"/>
                <a:ea typeface="Arial"/>
              </a:rPr>
              <a:t>1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1915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998640" y="1268280"/>
            <a:ext cx="7524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                  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Изплатени средства 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2013 г.    </a:t>
            </a:r>
            <a:r>
              <a:rPr b="1" i="1" lang="bg-BG" sz="1600" spc="-1" strike="noStrike">
                <a:solidFill>
                  <a:srgbClr val="a50021"/>
                </a:solidFill>
                <a:latin typeface="Tahoma"/>
              </a:rPr>
              <a:t>в евр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Content Placeholder 3" descr=""/>
          <p:cNvPicPr/>
          <p:nvPr/>
        </p:nvPicPr>
        <p:blipFill>
          <a:blip r:embed="rId2"/>
          <a:stretch/>
        </p:blipFill>
        <p:spPr>
          <a:xfrm>
            <a:off x="200160" y="2044800"/>
            <a:ext cx="874368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48:26Z</dcterms:created>
  <dc:creator>MikovaD</dc:creator>
  <dc:description/>
  <dc:language>en-US</dc:language>
  <cp:lastModifiedBy>%USERNAME%</cp:lastModifiedBy>
  <cp:lastPrinted>2013-05-15T08:31:36Z</cp:lastPrinted>
  <dcterms:modified xsi:type="dcterms:W3CDTF">2014-06-09T07:31:21Z</dcterms:modified>
  <cp:revision>343</cp:revision>
  <dc:subject/>
  <dc:title>Slide 1</dc:title>
</cp:coreProperties>
</file>