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624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6640" y="741240"/>
            <a:ext cx="49374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240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6240" y="937728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C1E-C709-47B0-9F25-10823047E70C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3740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6600" y="937728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269B-41E7-4B82-A2F4-E31C805F04E4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3FE-1DD6-48F3-B204-871F8000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546-D2E3-4B34-9934-8610FE2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1A5-3B6E-4535-B9CA-1BE7DC84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AE3-AAC0-4CBE-B602-2CC7E7ED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27CC-BF6D-4B97-A3A6-557C954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6FF8-3E09-4FF6-B49D-747FC5C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FB82-CDAE-43EC-9BB2-B4053F75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C87A-86EF-4F17-9332-BDED0F8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5DCC0-1BEC-4F84-BF25-909FCEF2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ED45-2CB8-47F0-A15F-A2F5E50E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59C9A-9032-4E33-A2B7-7147F41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4FD-9F00-491A-964C-5C4DD94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BD116-8E49-4BA1-826B-A3B8E3E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CA674-B1D3-485F-AF07-3D9F10C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D83A5-B557-4D9A-914E-2DD8C680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FF37-5D9E-4503-B347-36E4D030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442B-8970-4013-A154-857E472E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1A2-DC11-4457-A6D6-EDF93366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4AC-B53F-4833-BD95-178B6195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C51-CE0F-44C5-ABC7-838095B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8FB-49A2-4787-8C25-4742FBC7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E05-691D-4121-B269-1E66642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CF6-E992-45E7-9A15-814FF71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5B0-C5C6-4FEC-A0A4-2865583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588-D02A-462A-B7A3-D124F439B84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6D8-3B31-4B34-B736-0E65D468A0D2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3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-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6.2014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98640" y="110016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Сертифицирани средства 2013 г.    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2"/>
          <a:stretch/>
        </p:blipFill>
        <p:spPr>
          <a:xfrm>
            <a:off x="57240" y="2009880"/>
            <a:ext cx="90025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998640" y="126828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Приключени проекти 2013 г     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Content Placeholder 6" descr=""/>
          <p:cNvPicPr/>
          <p:nvPr/>
        </p:nvPicPr>
        <p:blipFill>
          <a:blip r:embed="rId2"/>
          <a:stretch/>
        </p:blipFill>
        <p:spPr>
          <a:xfrm>
            <a:off x="179280" y="2097000"/>
            <a:ext cx="8856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1 449 млн. евро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или 9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ПЛАТ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924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 евро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– или 64 % спрямо договорените средства и 58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742 млн. евро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или 45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1547640" y="1484280"/>
            <a:ext cx="75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ОБЩ ПРЕГЛЕД НА ИЗПЪЛНЕНИЕТО ПО ПРОГРАМА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КЪМ 31.12.2013 г.</a:t>
            </a:r>
            <a:br>
              <a:rPr sz="22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5040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във връзка с указания за изпълнение на договори за БФП по ОПРР 2007-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6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131a"/>
                </a:solidFill>
                <a:latin typeface="Tahoma"/>
              </a:rPr>
              <a:t>Проведена Годишна конференция за представяне на напредъка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ahoma"/>
              </a:rPr>
              <a:t>Изготвени рекламни и информационни материали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131a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11600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IMG_9885"/>
          <p:cNvPicPr/>
          <p:nvPr/>
        </p:nvPicPr>
        <p:blipFill>
          <a:blip r:embed="rId2"/>
          <a:stretch/>
        </p:blipFill>
        <p:spPr>
          <a:xfrm>
            <a:off x="5219640" y="1989000"/>
            <a:ext cx="367344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SAM_1868"/>
          <p:cNvPicPr/>
          <p:nvPr/>
        </p:nvPicPr>
        <p:blipFill>
          <a:blip r:embed="rId3"/>
          <a:stretch/>
        </p:blipFill>
        <p:spPr>
          <a:xfrm>
            <a:off x="5219640" y="4557600"/>
            <a:ext cx="3673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0-11.06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4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3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а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 покан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а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3,6 млн.евр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3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проектни предло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.на безвъзмездна финансова помощ на обща стойност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148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Изплатени общо средства за 201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 г. 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Tahoma"/>
              </a:rPr>
              <a:t>366 млн.евро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- авансов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1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- междинни и окончателн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231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оцентът извършени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г. спрямо бюджета на програмата е в размер на 5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Сертифицирани средства от СО за 2013 г.</a:t>
            </a:r>
            <a:r>
              <a:rPr b="1" lang="bg-BG" sz="18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 38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 млн. 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e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вро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a80000"/>
                </a:solidFill>
                <a:latin typeface="Tahoma"/>
              </a:rPr>
              <a:t>над 2 пъти повече в сравнение с 2012г. – 18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г. –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25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41300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3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317680"/>
            <a:ext cx="878544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Минимална цел за сертифициране 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правило N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+2/3) 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към края на 201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3 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г. – </a:t>
            </a:r>
            <a:r>
              <a:rPr b="1" lang="ru-RU" sz="1800" spc="-1" strike="noStrike">
                <a:solidFill>
                  <a:srgbClr val="a80000"/>
                </a:solidFill>
                <a:latin typeface="Tahoma"/>
              </a:rPr>
              <a:t>681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евро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-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a8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Установен риск от загуба на средства към май 2013г.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73-123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добрен за допустимост голям проект за изграждане на Северната скоростна тангента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– намаление на целта с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81 млн.евро до 600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ертифицирани разходи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към 31.12.201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– 622 млн. евро – дял ЕФРР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или</a:t>
            </a:r>
            <a:r>
              <a:rPr b="1" lang="bg-BG" sz="18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8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%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прямо бюджета на програм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3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24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дял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99"/>
                </a:solidFill>
                <a:uFillTx/>
                <a:latin typeface="Tahoma"/>
              </a:rPr>
              <a:t>Постигната е целта за усвояване към 31.12.2013г. и не е налице загуба на средства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1547640" y="133992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50920" y="2016000"/>
            <a:ext cx="8785080" cy="74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Забава в подготовката на тръжните документи и обявяването на процедурите за избор на изпълн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Обжалване на процедурите за избор на изпълнители по ЗО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ъвместни срещи с бенефициентите с установени рискови проекти и обсъждане на възможни сценарии за постигане на заложените це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Взет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шение да не се одобряват искания за временни спирания, подадени от бенефициенти след 01.12.2013 г., в случай на обжалване на процеду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Необходимост от ускоряване на процесите по верификация и разплащания за постигане на правилото 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N+2/3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 към 31.12.2013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Регулярен мониторинг по изпълнението на проекти по ОПРР – периодична актуализация на анализа за рискови проек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птимизации на процесите, с оглед ускоряване изпълнението на проектите и на верификацията</a:t>
            </a:r>
            <a:r>
              <a:rPr b="0" lang="bg-BG" sz="18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33992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2016000"/>
            <a:ext cx="878508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Необходимост от укрепване на капацитета на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С цел укрепване на капацитета на УО на ОПРР и подобряване на експертния потенциал 140 служители са преминали специализирани обучения в България и страни-членки на Е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3"/>
          <p:cNvSpPr/>
          <p:nvPr/>
        </p:nvSpPr>
        <p:spPr>
          <a:xfrm>
            <a:off x="1619280" y="1341360"/>
            <a:ext cx="75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3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8000" y="1700280"/>
            <a:ext cx="892800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пропуски при изпълнението на инфраструктурн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Недобро качество на физическото изпълнение на проек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от бенефициента върху договорите с изпълн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ключване на договори с външни изпълнители за осъществяване на инвеститорски контрол посредством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Изпълнение на План за проверки на място на приключили проекти за гарантиране устойчивостта на инвестиция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Проведени обучения във връзка с процедура за кандидатстване изцяло по електронен път в Модула за електронни услуги на ИСУ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Изпълнение на проект „Изграждане на капацитет на бенефициентите на ОПРР“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971640" y="-17136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ПО ПРИОРИТЕТНИ ОС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405655_479646798765051_424937516_n"/>
          <p:cNvPicPr/>
          <p:nvPr/>
        </p:nvPicPr>
        <p:blipFill>
          <a:blip r:embed="rId1"/>
          <a:stretch/>
        </p:blipFill>
        <p:spPr>
          <a:xfrm>
            <a:off x="0" y="3648240"/>
            <a:ext cx="4572000" cy="32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3"/>
          <p:cNvPicPr/>
          <p:nvPr/>
        </p:nvPicPr>
        <p:blipFill>
          <a:blip r:embed="rId2"/>
          <a:stretch/>
        </p:blipFill>
        <p:spPr>
          <a:xfrm>
            <a:off x="0" y="692280"/>
            <a:ext cx="4591080" cy="314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12153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34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00_003_Vila_Armira_Ivajlovgrad"/>
          <p:cNvPicPr/>
          <p:nvPr/>
        </p:nvPicPr>
        <p:blipFill>
          <a:blip r:embed="rId4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98640" y="108756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Договорени средства 2013 г.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Content Placeholder 10"/>
          <p:cNvGraphicFramePr/>
          <p:nvPr/>
        </p:nvGraphicFramePr>
        <p:xfrm>
          <a:off x="57240" y="1724040"/>
          <a:ext cx="902952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Content Placeholder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724040"/>
                    <a:ext cx="90295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Box 11"/>
          <p:cNvSpPr/>
          <p:nvPr/>
        </p:nvSpPr>
        <p:spPr>
          <a:xfrm>
            <a:off x="1187280" y="3456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31a"/>
                </a:solidFill>
                <a:latin typeface="Arial"/>
                <a:ea typeface="Arial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915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998640" y="126828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латени средства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2013 г.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2"/>
          <a:stretch/>
        </p:blipFill>
        <p:spPr>
          <a:xfrm>
            <a:off x="200160" y="2044800"/>
            <a:ext cx="8743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%USERNAME%</cp:lastModifiedBy>
  <cp:lastPrinted>2013-05-15T08:31:36Z</cp:lastPrinted>
  <dcterms:modified xsi:type="dcterms:W3CDTF">2014-06-09T07:31:21Z</dcterms:modified>
  <cp:revision>343</cp:revision>
  <dc:subject/>
  <dc:title>Slide 1</dc:title>
</cp:coreProperties>
</file>