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208F-4A04-4702-98CA-479E5F965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AC0F-FA83-4752-9E75-9772ABF3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FEE8-2C01-468A-85EA-FC1475E3E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5128-835A-4824-93FF-C41D136A6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C4CA-9985-4831-B017-6BA10F99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FB2C-44D4-402F-BDDA-862AC480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F47D-0B9F-459C-824F-4F4F56DA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5908-3E45-482A-A1A6-BDCA5C4A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3EB7-F956-495D-904C-5434EB9F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B66D-4F57-4024-9FAA-04309A63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0FB3-A103-4DBE-B1EC-FCFB1684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8E70-148F-46DF-A016-95902EF1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923E-8426-4CDC-823A-22F371BE771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395280" y="71280"/>
            <a:ext cx="1152360" cy="1224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7885080" y="11592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4576680" y="6175440"/>
            <a:ext cx="4572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2160720" y="40464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2d2d8a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539640" y="5977080"/>
            <a:ext cx="4572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Sylfaen"/>
              </a:rPr>
              <a:t>Петнадесето засед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09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 декември 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201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4 г.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, 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гр. Пловд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34920" y="3933720"/>
            <a:ext cx="64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Проведени писмени процедури на Комитета за наблюдение на ОП „Регионално развитие“ 2007-2013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270000" y="1447920"/>
            <a:ext cx="862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А ДИРЕКЦИЯ “ПРОГРАМИРАНЕ НА РЕГИОНАЛНОТО РАЗВИТИЕ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1332000" y="95400"/>
            <a:ext cx="6553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560" y="1412640"/>
            <a:ext cx="8859960" cy="42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 оглед проследяване прилагането на правилото N+2, УО изготвя текущо анализи за степента на реализиране на приоритетите към настоящия момент и свободен ресурс по програмата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вид напредналия етап на изпълнение на ОПРР и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постигане на максимален процент на усвояемост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о програмата, съгласно решения на КН на ОПРР УО регулярно пренасочва освобождаващия се </a:t>
            </a: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спестен ресурс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о вече сключени договори за БФП по схеми в резултат от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spcBef>
                <a:spcPts val="8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иключване изпълнението на договори за БФП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spcBef>
                <a:spcPts val="8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ключване на допълнителни споразумения към тях след проведени тръжни процедур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187280" y="95400"/>
            <a:ext cx="66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Решения на Комитета за наблюдение на ОП „Регионално развитие“ 2007-2013 г.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4560" y="1412640"/>
            <a:ext cx="8859960" cy="42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275400" indent="-27540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Решени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е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от 14-то заседание на КН (11.06.2014 г.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5400" indent="-27540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ва мандат на Ръководителя на УО на ОПРР да направи промени в ОПРР 2007-2013г., съгласно извършените реалокации при иницииране н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следна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визия на програма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5400" indent="-27540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Решение на КН чрез писмена процедура (24.07.2014 г.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5400" indent="-27540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 дава мандат на Ръководителя на УО на ОПРР да договори в размер н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 10 млн. евро (20 млн. лв.) финансирането на изпълнени или в процес на изпълнение проек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допустими по схема BG161PO001/2.1-01/2007 „Подкрепа за рехабилитация и реконструкция на второкласни и третокласни пътища“, за които има реална възможност за приключване на всички дейности, включително подаване на искане за окончателно плащане, до 31 октомври 2014 г. Средствата, необходими за тяхното финансиране,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лед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а бъдат осигурени от спестените към момента средства за Северна скоростна танге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187280" y="0"/>
            <a:ext cx="68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Решения на Комитета за наблюдение на ОП „Регионално развитие“ 2007-2013 г.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70000" y="1413000"/>
            <a:ext cx="8624880" cy="40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Решение на КН чрез писмена процедура (24.07.2014 г.)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КН дава мандат на Ръководителя на УО на ОПРР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Да определи общините Тунджа, Столична, Казанлък и Лом за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конкретни бенефициенти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 по схема BG161PO001/1.2-02/2011 „Подкрепа за осигуряване на съвременни социални жилища за настаняване  на уязвими, малцинствени и социално слаби групи от населението и други групи в неравностойно положение” на база заявената от тях готовност да подготвят и изпълнят проект за осигуряване на социални жилища по ОПРР 2007-2013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г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Да измени Изискванията за кандидатстване по схемата и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да покани общините Тунджа, Столична, Казанлък</a:t>
            </a:r>
            <a:r>
              <a:rPr b="1" lang="ru-RU" sz="1500" spc="-1" strike="noStrike">
                <a:solidFill>
                  <a:srgbClr val="422c16"/>
                </a:solidFill>
                <a:latin typeface="Arial"/>
                <a:ea typeface="Arial"/>
              </a:rPr>
              <a:t>, Лом и Варна да подадат проектно предложение </a:t>
            </a:r>
            <a:r>
              <a:rPr b="0" lang="ru-RU" sz="1500" spc="-1" strike="noStrike">
                <a:solidFill>
                  <a:srgbClr val="422c16"/>
                </a:solidFill>
                <a:latin typeface="Arial"/>
                <a:ea typeface="Arial"/>
              </a:rPr>
              <a:t>по схемата. Договори за БФП да бъдат сключени след влязло в сила решение за определяне на изпълнители за основните дейности по проектите</a:t>
            </a:r>
            <a:r>
              <a:rPr b="0" lang="en-US" sz="1500" spc="-1" strike="noStrike">
                <a:solidFill>
                  <a:srgbClr val="422c16"/>
                </a:solidFill>
                <a:latin typeface="Arial"/>
                <a:ea typeface="Arial"/>
              </a:rPr>
              <a:t> </a:t>
            </a:r>
            <a:r>
              <a:rPr b="0" lang="bg-BG" sz="1500" spc="-1" strike="noStrike">
                <a:solidFill>
                  <a:srgbClr val="422c16"/>
                </a:solidFill>
                <a:latin typeface="Arial"/>
                <a:ea typeface="Arial"/>
              </a:rPr>
              <a:t>в срок </a:t>
            </a:r>
            <a:r>
              <a:rPr b="0" lang="ru-RU" sz="1500" spc="-1" strike="noStrike">
                <a:solidFill>
                  <a:srgbClr val="422c16"/>
                </a:solidFill>
                <a:latin typeface="Arial"/>
                <a:ea typeface="Arial"/>
              </a:rPr>
              <a:t>до края на м.декември 2014 г., а в случая на Община Казанлък - до края на м.март 2015 г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1199"/>
              </a:spcBef>
              <a:buClr>
                <a:srgbClr val="422c1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22c16"/>
                </a:solidFill>
                <a:latin typeface="Arial"/>
                <a:ea typeface="Arial"/>
              </a:rPr>
              <a:t>Да насочи </a:t>
            </a:r>
            <a:r>
              <a:rPr b="1" lang="ru-RU" sz="1500" spc="-1" strike="noStrike">
                <a:solidFill>
                  <a:srgbClr val="422c16"/>
                </a:solidFill>
                <a:latin typeface="Arial"/>
                <a:ea typeface="Arial"/>
              </a:rPr>
              <a:t>допълнителен финансов ресурс към схемата </a:t>
            </a:r>
            <a:r>
              <a:rPr b="0" lang="ru-RU" sz="1500" spc="-1" strike="noStrike">
                <a:solidFill>
                  <a:srgbClr val="422c16"/>
                </a:solidFill>
                <a:latin typeface="Arial"/>
                <a:ea typeface="Arial"/>
              </a:rPr>
              <a:t>след уточняване на бюджетите и след преценка на реалната готовност да се изпълнят проектите. Необходимият финансов ресурс да бъде осигурен от освобождаващите се средства по текущи схеми за БФП по ОПРР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179280" y="1484280"/>
            <a:ext cx="878544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ГЛАВНА ДИРЕКЦИЯ „ПРОГРАМИРАНЕ НА РЕГИОНАЛНОТО РАЗВИТИ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Tahoma"/>
              </a:rPr>
              <a:t>БЛАГОДАРЯ ЗА ВНИМАНИЕТ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Мария Станев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Началник отдел „Изпълнение на програмните приоритети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000066"/>
                </a:solidFill>
                <a:latin typeface="Tahoma"/>
              </a:rPr>
              <a:t>ИНВЕСТИРАМЕ ВЪВ ВАШЕТО БЪДЕЩ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9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декември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01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4 г.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гр. Пловди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2160720" y="26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Dariya Shamonina</cp:lastModifiedBy>
  <dcterms:modified xsi:type="dcterms:W3CDTF">2014-12-08T07:39:42Z</dcterms:modified>
  <cp:revision>758</cp:revision>
  <dc:subject/>
  <dc:title>Diapositiva 1</dc:title>
</cp:coreProperties>
</file>