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9D9-CC04-41C1-B268-18ED13EC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BE3-27EB-4951-93CC-10062232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E7D-8214-4681-8890-75762B4D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0D7-6FF3-4920-B697-E72BED8E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638-9026-482A-B864-1D7AAA94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74F-DF0A-493E-BD4D-BA878143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D2C-9BDD-40F0-BDB1-1849D75F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B53-81BB-4762-9B4B-AC38F468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D1F-2671-4C14-86E5-83EFD136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E78-4F5E-4C6C-8364-1306BB8E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9EF-2688-4699-9D5B-48289DEE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0A9-AFEE-41AD-A20A-5B9A706D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4C67-2082-4DC7-BE97-9213CD35C5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95280" y="71280"/>
            <a:ext cx="1152360" cy="122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4576680" y="6175440"/>
            <a:ext cx="4572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2160720" y="40464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2d2d8a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39640" y="5977080"/>
            <a:ext cx="457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Sylfaen"/>
              </a:rPr>
              <a:t>Петнадесето засе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09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декември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201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4 г.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, 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гр. Пловд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4920" y="393372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Проведени писмени процедури на Комитета за наблюдение на ОП „Регионално развитие“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70000" y="1447920"/>
            <a:ext cx="86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 ДИРЕКЦИЯ “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332000" y="95400"/>
            <a:ext cx="6553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560" y="1412640"/>
            <a:ext cx="88599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глед проследяване прилагането на правилото N+2, УО изготвя текущо анализи за степента на реализиране на приоритетите към настоящия момент и свободен ресурс по програмата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вид напредналия етап на изпълнение на ОПРР 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постигане на максимален процент на усвояемос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програмата, съгласно решения на КН на ОПРР УО регулярно пренасочва освобождаващия се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спестен ресур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вече сключени договори за БФП по схеми в резултат от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ключване изпълнението на договори за БФП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ключване на допълнителни споразумения към тях след проведени тръжни процедур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187280" y="9540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омитета за наблюдение на ОП „Регионално развитие“ 2007-2013 г.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560" y="1412640"/>
            <a:ext cx="885996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75400" indent="-2754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ешени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от 14-то заседание на КН (11.06.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2754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 мандат на Ръководителя на УО на ОПРР да направи промени в ОПРР 2007-2013г., съгласно извършените реалокации при иницииране 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следна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визия на програм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2754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ешение на КН чрез писмена процедура (24.07.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5400" indent="-2754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 дава мандат на Ръководителя на УО на ОПРР да договори в размер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10 млн. евро (20 млн. лв.) финансирането на изпълнени или в процес на изпълнение проек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опустими по схема BG161PO001/2.1-01/2007 „Подкрепа за рехабилитация и реконструкция на второкласни и третокласни пътища“, за които има реална възможност за приключване на всички дейности, включително подаване на искане за окончателно плащане, до 31 октомври 2014 г. Средствата, необходими за тяхното финансиране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 бъдат осигурени от спестените към момента средства за Северна скоростна танг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-213480" y="654372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187280" y="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Arial"/>
              </a:rPr>
              <a:t>Решения на Комитета за наблюдение на ОП „Регионално развитие“ 2007-2013 г.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70000" y="1413000"/>
            <a:ext cx="86248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Решение на КН чрез писмена процедура (24.07.2014 г.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КН дава мандат на Ръководителя на УО на ОПРР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а определи общините Тунджа, Столична, Казанлък и Лом за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 по схема BG161PO001/1.2-02/2011 „Подкрепа за осигуряване на съвременни социални жилища за настаняване  на уязвими, малцинствени и социално слаби групи от населението и други групи в неравностойно положение” на база заявената от тях готовност да подготвят и изпълнят проект за осигуряване на социални жилища по ОПРР 2007-201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а измени Изискванията за кандидатстване по схемата и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а покани общините Тунджа, Столична, Казанлък</a:t>
            </a:r>
            <a:r>
              <a:rPr b="1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, Лом и Варна да подадат проектно предложение </a:t>
            </a: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по схемата. Договори за БФП да бъдат сключени след влязло в сила решение за определяне на изпълнители за основните дейности по проектите</a:t>
            </a:r>
            <a:r>
              <a:rPr b="0" lang="en-US" sz="1500" spc="-1" strike="noStrike">
                <a:solidFill>
                  <a:srgbClr val="422c16"/>
                </a:solidFill>
                <a:latin typeface="Arial"/>
                <a:ea typeface="Arial"/>
              </a:rPr>
              <a:t> </a:t>
            </a:r>
            <a:r>
              <a:rPr b="0" lang="bg-BG" sz="1500" spc="-1" strike="noStrike">
                <a:solidFill>
                  <a:srgbClr val="422c16"/>
                </a:solidFill>
                <a:latin typeface="Arial"/>
                <a:ea typeface="Arial"/>
              </a:rPr>
              <a:t>в срок </a:t>
            </a: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до края на м.декември 2014 г., а в случая на Община Казанлък - до края на м.март 2015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buClr>
                <a:srgbClr val="422c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Да насочи </a:t>
            </a:r>
            <a:r>
              <a:rPr b="1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допълнителен финансов ресурс към схемата </a:t>
            </a:r>
            <a:r>
              <a:rPr b="0" lang="ru-RU" sz="1500" spc="-1" strike="noStrike">
                <a:solidFill>
                  <a:srgbClr val="422c16"/>
                </a:solidFill>
                <a:latin typeface="Arial"/>
                <a:ea typeface="Arial"/>
              </a:rPr>
              <a:t>след уточняване на бюджетите и след преценка на реалната готовност да се изпълнят проектите. Необходимият финансов ресурс да бъде осигурен от освобождаващите се средства по текущи схеми за БФП по ОПР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79280" y="14842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„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Мария Станев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Началник отдел „Изпълнение на програмните приоритет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66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9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декемвр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ловд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60720" y="26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4-12-08T07:39:42Z</dcterms:modified>
  <cp:revision>758</cp:revision>
  <dc:subject/>
  <dc:title>Diapositiva 1</dc:title>
</cp:coreProperties>
</file>