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A7E-B4C2-4A76-91EE-DF77A2C4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CE5-8DB9-4178-8FCA-5EED2767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A92-DA04-4F27-8FFB-EBF2DE7A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F8D-B742-4D9F-9293-5F713541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47AB0-0C49-419E-B2EA-DC8107A9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D6658-9642-4F86-98D3-90D4ECB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B9719-1524-4028-8BD8-7A123FAD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5B9B5-2E90-41A5-B677-041EB70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6BCEA-C2B0-4063-AA2A-2718BA3F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15118-C487-4881-BBBA-01B7AA97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D1F7E-70D2-4DDF-9109-0EDA8EE0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28A-3CBE-4D76-8C2F-F3FAA067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B6845-A76E-436C-A4DF-F568B8BB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3F5FB-EF1F-4851-9047-52478D41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9C899-12CB-40F1-9E0E-3AB9443B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4AB9D-9E3B-45A7-9A0C-4BB428F0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0A5FD-D0A3-45C1-8A57-C2C3FF50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96A-9194-4DF9-BAB3-0CEF2526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4D8-175B-448F-9102-D3FD7D9B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CB4-CD83-4077-B9D4-06303F75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567-A171-409C-9F72-5769BFDB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EAD-1C47-462C-9E52-16B83D1B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231-0994-4504-A018-685C9E3C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7DD-0868-489E-9FE5-78296FB3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9E88-5953-4C78-9539-AA91E2AA3EB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5606-FCD5-4A06-B584-926902CAC1F1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800000"/>
                </a:solidFill>
                <a:latin typeface="Tahoma"/>
              </a:rPr>
              <a:t>П</a:t>
            </a:r>
            <a:r>
              <a:rPr b="1" lang="ru-RU" sz="3000" spc="-1" strike="noStrike">
                <a:solidFill>
                  <a:srgbClr val="800000"/>
                </a:solidFill>
                <a:latin typeface="Tahoma"/>
              </a:rPr>
              <a:t>роведени писмени процедури на КН на ОПРР 2007-2013</a:t>
            </a:r>
            <a:r>
              <a:rPr b="1" lang="en-US" sz="3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3000" spc="-1" strike="noStrike">
                <a:solidFill>
                  <a:srgbClr val="800000"/>
                </a:solidFill>
                <a:latin typeface="Tahoma"/>
              </a:rPr>
              <a:t>г.</a:t>
            </a:r>
            <a:br>
              <a:rPr sz="2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юни 2014 г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гр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омор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619280" y="1484280"/>
            <a:ext cx="75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08000" y="1935000"/>
            <a:ext cx="878508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глед проследяване прилагането на правилото N+2, УО изготвя текущо анализи за степента на реализиране на приоритетите към настоящия момент и свободен ресурс по програмата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180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ид напредналия етап на изпълнение на ОПРР и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остигане на максимален процент на усвояемос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УО предприе инициативата за регулярно освобождаване на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пестен ресур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 вече сключени договори за БФП в резултат о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89000" algn="just">
              <a:spcBef>
                <a:spcPts val="7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иключване изпълнението на договори за БФП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89000" algn="just">
              <a:spcBef>
                <a:spcPts val="7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сключване на допълнителни споразумения към тях след проведени тръжни процедур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552680" y="909720"/>
            <a:ext cx="759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Tahoma"/>
              </a:rPr>
              <a:t>РЕШЕНИЯ НА КН НА ОПРР ЗА ПРЕНАСОЧВАНЕ НА СРЕ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62080" y="1419120"/>
            <a:ext cx="8569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шени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я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от 13-то заседание на КН (19.11.2013 г.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 мандат на Ръководителя на УО на ОПРР да прави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текущо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мени в ОПРР 2007-2013г., като отрази взетите решения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в нея пр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ващото ревизиране на програмата и при необходимост да променя стойността на индикаторите, както и да изпрати ревизираната програма на ЕК за одобр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шение на КН чрез писмена процедур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(24.02.2014 г.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 мандат на Ръководителя на УО на ОПРР д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личи резервната лист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проектни предложения, които успешно са преминали оценка, но за които не е достигнало финансиране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схема BG161PO001/3.2-03/2012 "Подкрепа за развитие на регионалния туристически продукт и маркетинг на дестинациите I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а пренасочи наличния свободен ресур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 размер на 836 684,53 лв. и да пренасочв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гулярно освобождаващия се финансов ресурс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хема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къ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хема BG161PO001/2.1-01/2007 "Подкрепа за рехабилитация и реконструкция на второкласни и третокласни пътища" с конкретен бенефициент АПИ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з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нансиране на голям проект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 изграждане на Северна скоростна танг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СНЕЖИНА СЛАВЧ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юни 201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Помор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MercuryWork</cp:lastModifiedBy>
  <dcterms:modified xsi:type="dcterms:W3CDTF">2014-06-10T14:19:04Z</dcterms:modified>
  <cp:revision>389</cp:revision>
  <dc:subject/>
  <dc:title>Slide 1</dc:title>
</cp:coreProperties>
</file>