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3667-1E84-4544-AAD9-D32E45EC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23D-DD9C-4833-B3E4-DA006C31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DA8-8CD7-4A90-B53C-5CB689B8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8F4-C7D9-41C7-A82A-52A735C3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55FB6-1F2D-4D3D-9DB5-D82C1750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E21EC-431E-4579-B532-5E0C88C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A26CC-54BC-4721-A20E-78C95488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D0ED5-2B1C-438D-B3F2-AECCEA4D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2E1F7-73FE-4149-9EDE-EC877AE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E011-8DC1-4F57-B3F8-0AF1F459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E6686-E85F-4707-B86D-DA075A0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FB9-55C6-4AE6-A59F-10864B3F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2C8AA-FF06-433C-9006-1CE0FBD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68ADB-446C-4D76-8FE1-687F1578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CAB5-9AAC-4046-A29C-CAC9DBE8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4966E-B1C3-4DB4-AE0A-AC4C3A6A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FEB9-8B4A-4C22-9F45-F5EC775A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82A-1239-466A-8244-C9BE6F9F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82E-BE9E-4CAC-9AE3-D5F7524F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915-E68B-477A-A4DB-420FC937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C3DF-0CC9-40CE-B3B5-54C4014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864-6078-4331-9728-BA22454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28D-3166-4EA7-A634-C26506B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5A8-A1E5-4386-B364-4265679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2E00-D80C-4940-85D3-F8F9CC091A9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6AF2-2B44-4FC1-95A8-C0696A95AFB1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П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роведени писмени процедури на КН на ОПРР 2007-2013</a:t>
            </a: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г.</a:t>
            </a:r>
            <a:br>
              <a:rPr sz="2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619280" y="1484280"/>
            <a:ext cx="752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08000" y="1935000"/>
            <a:ext cx="878508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 algn="just"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глед проследяване прилагането на правилото N+2, УО изготвя текущо анализи за степента на реализиране на приоритетите към настоящия момент и свободен ресурс по програмата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180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ид напредналия етап на изпълнение на ОПРР и 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постигане на максимален процент на усвояемо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УО предприе инициативата за регулярно освобождаване на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спестен ресур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вече сключени договори за БФП в резултат о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89000" algn="just">
              <a:spcBef>
                <a:spcPts val="7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иключване изпълнението на договори за БФП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89000" algn="just">
              <a:spcBef>
                <a:spcPts val="7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сключване на допълнителни споразумения към тях след проведени тръжни процедур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18003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552680" y="909720"/>
            <a:ext cx="759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Tahoma"/>
              </a:rPr>
              <a:t>РЕШЕНИЯ НА КН НА ОПРР ЗА ПРЕНАСОЧВАНЕ НА СРЕ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62080" y="1419120"/>
            <a:ext cx="8569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я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от 13-то заседание на КН (19.11.2013 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прав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екущо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мени в ОПРР 2007-2013г., като отрази взетите решения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в нея пр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ващото ревизиране на програмата и при необходимост да променя стойността на индикаторите, както и да изпрати ревизираната програма на ЕК за одобре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е на КН чрез писмена процеду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(24.02.2014 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личи резервната лист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проектни предложения, които успешно са преминали оценка, но за които не е достигнало финансиран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 схема BG161PO001/3.2-03/2012 "Подкрепа за развитие на регионалния туристически продукт и маркетинг на дестинациите II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а пренасочи наличния свободен ресурс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размер на 836 684,53 лв. и да пренасочв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гулярно освобождаващия се финансов ресурс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хема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ъ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хема BG161PO001/2.1-01/2007 "Подкрепа за рехабилитация и реконструкция на второкласни и третокласни пътища" с конкретен бенефициент АПИ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з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нансиране на голям проект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а изграждане на Северна скоростна танг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MercuryWork</cp:lastModifiedBy>
  <dcterms:modified xsi:type="dcterms:W3CDTF">2014-06-10T14:19:04Z</dcterms:modified>
  <cp:revision>389</cp:revision>
  <dc:subject/>
  <dc:title>Slide 1</dc:title>
</cp:coreProperties>
</file>