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E2BE-AFF8-4F12-B157-A83C216483BF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 резултат от проведен одит от одитна мисия на ЕК ГД „Регионална и градска политика“ през  периода 7-11 април 2014 г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са констатирани „съществени пропуски в системите за управление и контрол на УО на ОПРР по отношение на обществените поръчки“.  С писмо, получено на 03.06.14г. от ЕК, УО на ОПРР е уведомен за временно прекъсване  на плащанията по приоритетни оси 1 и 3 на ОПР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 изпълнение на предписаните конкретни корективни действия в писмото, УО на ОПРР е предприел незабавни действия като съвместно с Одитния орган е изготвен план за действие за преодоляване на негативните констатации на одиторите на Е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 25.07.2014 г. -  с  писмо от ЕК е  получен и  предварителния одитен доклад от извършения одит. В одитния доклад са изведени констатации, заключения и препоръки на ЕК към всички националните органи, участващи в процеса на верификация  в областта на обществените поръчки: УО на ОПРР, АОП, СО, Одитен орган;  В доклада се съдържат и конкретни констатации и препоръки по  включените в обхвата на одита договори. УО е длъжен в срок от един месец от получаване на официалния превод на доклада да изрази своето становище по направените констатации и да отбележи мерките, които е предприел по направените препоръ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130B-8F81-427F-BE7B-A0F287BEE7EF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УО на ОПРР е предприел следните действия в съответствие с направените препоръки от ЕК и приетия план за действ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едприети са мерки за подобряване на системите си за контрол в областта на обществените поръчки. На 20.06.2014г. с Докладна записка № 91-П-558/20.06.2014 г. са одобрени от Ръководителя на УО на ОПРР актуализирани процедури и контролни листове за осъществяване на предварителен и последващ контрол при възлагане на обществени поръчки, които са влезли в сила от 01.07.2014г.  Целта на промените е оптимизиране и подобряване на процеса на контрол върху провежданите от бенефициентите процедури за възлагане на обществени поръч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 докладна записка № 91-П-685/06.08.2014г. Ръководителят на УО е одобрил допълнени контролни листове с допълнителна секция, в която са включени контролните въпроси за рисковите фактори за измама т.нар. „red flags“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 цел подобряване на административния капацитет в областта на възлагането и контрола на обществените поръчки УО на ОПРР е провели участвал в следните обуч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ез периода  26-27.06.14г. е проведено обучение на служителите на УО, които осъществяват контрол в областта на обществените поръчки, относно прилагането на новите системи за контрол и за законодателството в областта на обществените поръч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 периода 28-29.07.2014г. е проведено допълнително обучение на служителите на УО и практическо обучение на бенефициентите с участието на представители от одитния отдел на ГД „Регионална и градска политика“ и представители на ГД „Вътрешен пазар и услуги“ от ЕК, както и на Агенцията за обществени поръчки. Участниците в семинара са запознати с добрите практики и констатираните грешки при възлагане на обществени поръчки, предприемането на превантивни действия за недопускане на нару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тново с цел засилване на превенцията на интернет сайта на ОПРР са публикувани „Допълнителни указания към бенефициентите относно идентифицирани нарушения, допускани от бенефициентите на ОПРР“, в които подробно са описани нарушенията, установени от ЕК в одтния докла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016D-8E0E-42DF-AB63-3EFB8CDE1407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ез периода декември 2013 юни 2014 са приети промени в нормативната уредба относно контрола на обществените поръчки и реда за определяне на финаносви корекции, които са повлияли в значителна степен на подхода на ЕК в одита на ОПРР, както и на последващите действия на УО. Това 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ешение С (2013) 9527 от 19.12.2013 г. Европейската комисия е одобрила нови Насоки за определяне на финансови корекции. В новите насоки са включени нови по вид нарушения и са предвидени по-засилени мерки за контрол и определяне на финаносвите кор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цел хармонизиране на националното законодателство в областта  - с ПМС 134/2010 е изменено и допълнено с ПМС 162 от юни 2014  за приемане на Методология за определяне на финансови коре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ата по прилагането на новата методология и установяване на силно рестриктивен подход към бенефициентите по програмите налага нова промяна на ПМС 134 -  С ПМС 352 от 3 ноември 2014 г. е внесено ново изменение и допълнение на ПМС 134/2010 за приемане на Методология за определяне на финансови корекции. Внесените промени до голяма степен внасят яснота и известно облекчение на режима на определяне на финаносив корекции, като за ПМС е предвидено обратно действие  като някои разпоредби се прилагат от 24 юни, а други от 1 януари 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 разглеждания период е приета и доста обширна промяна на основния акт в областта на обществените поръчки - ЗОП – от Април 2014 г. в сила от 1 юли 2014 и от 1 октомври 201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32F0-EC65-4D20-9E76-AF313808C7DE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на сроковете за възлагане  - за нарушения по т. 3 и по т. 4 от МОФК - незаконосъобразно съкращаване на сроковете за подаване на оферти и недостатъчен срок за потенциалните участници да получат документацията за участие /респ. за достъп до публичната покана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 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едварителното обявление, трябва да съдържа минималната информация съгласно Приложени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към Директива 2004/18/ЕО; чл. 28, ал. 6 и ал. 7 от ЗОП- новата редакция ДВ, бр. 40/2014 г. – отпада изискването за 10/7 дни от срока за получаване на офертите; ал. 3 – съкращаването на сроковете на основание пълен електронен достъп до документацията  не може да се ползва при условие за задължително закупуване на документация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За изчисляване на процентния показател по т. 3 и по т. 4  са предвидени ясни процентни показатели и математическо изчис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искриминационни и непропорционални критерии  за подбор – Обръща се специално внимание на изискване за доказване на наличните ресурси с договори и др. доказателства на етапа на кандидатстване. – Такива следва да се предвидят спрямо спечелилия участник към документите за сключване на догов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то е насочено  и към изискването на териториална свързаност на съпътстващи услуги – сервизно обслужване и др. – Това се явява дискриминационно спрямо участници, които могат да изпълнят услугата и без да имат сервизна база на мястото на изпълнение на поръчка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езаконосъобразно изменение на критериите за подбор в разясненията  по чл. 29 от ЗОП – Необходимо е при такива изменения да се спазват мерките за публичност.  - Ако Решението за откриване на процедурата е подлежало на задължително публикуване в Официален вестник на ЕС, то и всяка промяна следва да се публикува в ОВ Е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оверка на офертите на отстранените участници -  с цел установяване правомерност на отстраняването – това не е нов елемент на контрол, но към момента се акцентира върху него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Акцентира се и върху проверка на офертата на спечелилия участник – с цел установяване спазване на принципа за равнопоставеност на участниците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Незаконосъобразна методика за оценяване –  целта на проверката е гарантиране на публичност и на гарантиране на обективността  при оценяването. 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Рискови фактори за измама “red flags” - Считано от 06.08.2014г. е включена отделна секция в Контролните листове. Всички договори допълнително са проверени за наличие на “red flags” и при откриване на обосновано съмнение за наличие на измама се сезират компетентните орг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F916-22E5-4140-9C36-0330B5CFAE79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 оглед проверка на ефективността на подобрените системи за контрол на УО на ОПРР, националният Одитен орган е определил популация на базата на която е изготвена 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 м. юни 2014 г. – статистическа извадка от всички сертифицирани разходи по приоритетни ос 1 и 3 от старта на програмата (05.11.2007г.) до мо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17.07.2014  е изготвена статистическа извадка от Одитния орган от 33 договора за възлагане на обществени поръчки от сертифицираните разходи по ПО 3. - На 18.07.2014 г. УО на ОПРР стартира процеса на повторна проверка по ос 3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11.08.2014г. е изготвена и статистическата извадка от 33 договора за възлагане на обществени поръчки по ПО 1.  -  УО на ОПРР незабавно стартира процесът на повторна проверка и по ос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лед определяне на статистическите извадки УО на ОПРР незабавно е започнал да извършва повторни проверки по новите контролни листове на всички договори, включени в статистическите извад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995E-CBF7-45E4-A259-8DDB628397A7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О на ОПРР е осъществил пълна повторна проверка на обществените поръчки по договори за БФП, включени в одитната извадка по Приоритетна ос 3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периода от 30 септември до  10 октомври 2014 г.  от Националния Одитен орган е извършен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н  системен одит за оценка на ефективността на повторната верификация на разходи за обществени поръчки по ос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Заключението на Одитния орган, изразено в доклад е че:  системата за управление и контрол на УО на ОПРР работи ефективно, но са необходими някои подобрения, както и регулярно обучение на екипа, извършващ контрол на обществените поръчк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Резултатите от одита са докладвани на ЕК - Одитна мисия на ЕК и през периода периода  17-22.10.2014г. ЕК е изпратила своя одитна мисия, за да направи проверка на резултатите от извършените повторни провер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C6C3-DFED-463B-9881-D9BD4DD2D04D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О на ОПРР е извършил повторна проверка на възлагането по всички договори от статистическата извадка по Приоритетна ос 1; Повторната проверка по ПО 1 приключи на 18.11.2014 г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иода 21-28.2014 г. 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ъществен одит от Националния одитен орга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ъгласно  предварителен одитен доклад от извършения одит се потвърждава извода, че системата за управление и контрол на ОПРР работи ефективно, но са необходими някои подобрени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едварителния одитен доклад е определено общото ниво на грешките, установени след направените повторни проверки  и по двете  приоритетни о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ото общо ниво на установената грешка по ос 1 (след екстраполация) е  на стойнос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5 638 165,2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лв.  и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,11%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ото общо ниво на установената грешка по ос 3 (след екстраполация) – на стойнос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 155 989,4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лв.  и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,48%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ои резултатите да бъдат докладвани до ЕК и да бъда изпратена одитна мисия. Очакваният срок  е до 15.12.2014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6C33-55FB-45A4-A236-6C112981A35E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6D6D-FCC3-48A7-8CC8-9D367E46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EC00-7B9F-453C-822F-C654B8EC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DCA5-35F4-4133-AC3B-36F7106F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F4AF-0B49-474B-A342-533732C56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E74B-95B1-4D5C-988D-F32B3981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246A-14BE-470E-B8A2-A570367F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25F4-E0D7-4860-882B-FCFF2099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BF7B-250A-4BF0-B36D-909C5E7F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09F7-FDB3-4B50-99BE-27F929A6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86B1-2B84-4C89-9D3B-54B63B0D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9180-81D4-459A-A808-08375DC6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C55D-79BB-49E5-BA97-60BE8AA4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6FB8-5279-4623-98ED-FA2BE1A8672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11280" y="2095200"/>
            <a:ext cx="73454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d2d8a"/>
                </a:solidFill>
                <a:latin typeface="Sylfaen"/>
              </a:rPr>
              <a:t>МИНИСТЕРСТВО НА РЕГИОНАЛНОТО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d2d8a"/>
                </a:solidFill>
                <a:latin typeface="Sylfaen"/>
              </a:rPr>
              <a:t>ОПЕРАТИВНА </a:t>
            </a:r>
            <a:r>
              <a:rPr b="1" lang="en-US" sz="2400" spc="-1" strike="noStrike">
                <a:solidFill>
                  <a:srgbClr val="2d2d8a"/>
                </a:solidFill>
                <a:latin typeface="Sylfaen"/>
              </a:rPr>
              <a:t> </a:t>
            </a:r>
            <a:r>
              <a:rPr b="1" lang="bg-BG" sz="2400" spc="-1" strike="noStrike">
                <a:solidFill>
                  <a:srgbClr val="2d2d8a"/>
                </a:solidFill>
                <a:latin typeface="Sylfaen"/>
              </a:rPr>
              <a:t>ПРОГРАМА</a:t>
            </a:r>
            <a:r>
              <a:rPr b="1" lang="en-US" sz="2400" spc="-1" strike="noStrike">
                <a:solidFill>
                  <a:srgbClr val="2d2d8a"/>
                </a:solidFill>
                <a:latin typeface="Sylfaen"/>
              </a:rPr>
              <a:t> </a:t>
            </a:r>
            <a:r>
              <a:rPr b="1" lang="bg-BG" sz="2400" spc="-1" strike="noStrike">
                <a:solidFill>
                  <a:srgbClr val="2d2d8a"/>
                </a:solidFill>
                <a:latin typeface="Sylfaen"/>
              </a:rPr>
              <a:t> “РЕГИОНАЛНО РАЗВИТИЕ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0"/>
          <p:cNvSpPr/>
          <p:nvPr/>
        </p:nvSpPr>
        <p:spPr>
          <a:xfrm>
            <a:off x="809640" y="3956040"/>
            <a:ext cx="727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Sylfaen"/>
              </a:rPr>
              <a:t>Информиране за изпълнението на плана за действие за предприетите мерки относно прекъсване на плащанията по приоритетни оси 1 и 3 по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2"/>
          <a:stretch/>
        </p:blipFill>
        <p:spPr>
          <a:xfrm>
            <a:off x="395280" y="7128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572000" y="1413000"/>
            <a:ext cx="4572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160720" y="40464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2d2d8a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746360" y="5261040"/>
            <a:ext cx="5634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Sylfaen"/>
              </a:rPr>
              <a:t>09 декември 2014 г., гр. Пловд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Sylfaen"/>
              </a:rPr>
              <a:t>www.mrrb.government.b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Sylfaen"/>
              </a:rPr>
              <a:t>www.bgregio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6335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извикателства при изпълнение на ОПРР (1)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53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дит на ГД “Регионална и градска политика” на ЕК в УО на ОПРР от 07-11.04.2014г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На 03.06.14 г. получено писмо от ЕК за временно прекъсване  на плащанията по приоритетни оси 1 и 3 на ОПРР – в резултат на констатирани пропуски в системите за управление и контрол на УО на ОПРР по отношение на обществените поръч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писани корективни 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изпълнение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готвен и приет план за действие от УО на ОПР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.07.2014 г. -  писмо Ares  - получен предварителен одитен доклад - констатации, заключения и препоръки на ЕК към националните органи; Конкретни констатации и препоръки по  включените в обхвата на одита догов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6335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извикателства при изпълнение на ОПРР (2)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53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приети мерки по плана за действие от УО на ОПРР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ктуализирани/допълнени контролни листове за предварителен и последващ контрол на възлагането на обществените поръчки – одобрени на 20.0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обрени системи за контрол на верификацията на обществени поръчки – считано от 01.0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г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обрен административен капацитет чрез обучение на служителите на УО (26-27.06.2014г.) и на бенефициентите по програмата (28-29.0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г.) за прилаганет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новите контроли и за законодателството в областта на обществените поръч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бликувани на сайта на ОПРР „Допълнителни указания към бенефициентите относно идентифицирани нарушения, допускани от бенефициентите на ОПРР“ - 24.0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ълнени контролни въпроси за рисковите фактори за измама т.нар. „red flags“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6335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мени в нормативната уредба:</a:t>
            </a: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53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соки на ЕК от 19 декември 2013 г.   - с Решение С (2013) 9527 от 19.12.2013 г. Европейската комисия е одобрила нови Насоки за определяне на финансови корек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МС 134/2010 е изменено и допълнено 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МС 162 от юни 2014  за приемане на Методология за определяне на финансови корек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МС 352 от 3 ноември 2014 г. е внесено ново изменение и допълнение на ПМС 134/2010 за приемане на Методология за определяне на финансови корек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мяна на ЗОП – от Април 2014 г. в сила от 1 юли 2014 и от 1 октомври 2014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80" y="1413000"/>
            <a:ext cx="8582040" cy="48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Проверка на сроковете за възлагане  - за нарушения по т. 3 и по т. 4 от МОФК -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езаконосъобразно съкращаване на сроковете за подаване на оферти и недостатъчен срок за потенциалните участници да получат документацията за участие /респ. за достъп </a:t>
            </a:r>
            <a:br>
              <a:rPr sz="14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до публичнат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окана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2. Дискриминационни и непропорционални критерии  за подбор -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изискване за доказване на наличните ресурси с договори и др. доказателства на етапа на кандидатстване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3. Незаконосъобразно изменение на критериите за подбор в разясненията -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по чл. 29 от ЗОП</a:t>
            </a:r>
            <a:br>
              <a:rPr sz="14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4. Проверка на офертите на отстранените участниц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 с цел установяване правомерност на отстраняването;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5. Проверка на офертата на спечелилия участник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– с цел установяване спазване на принципа за равнопоставеност;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6. Незаконосъобразна методика за оценяване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– с цел гарантиране на обективност при оценяването. 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. Рискови фактори за измама “red flags”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читано от 06.08.2014г. е включена отделна секция в Контролните листове. Всички договори допълнително са проверени за наличие на “red flags”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332000" y="260280"/>
            <a:ext cx="6335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и насоки на засилване на последващия контрол на УО на ОПРР след промен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480" y="1413000"/>
            <a:ext cx="8582040" cy="48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з м. юни 2014 г.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О стартира подготовката на извадка от всички сертифицирани разходи по приоритетни оси 1 и 3 от старта на програмата (05.11.2007г.) до момента.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17.07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готвена статистическа извадка от Одитния орган от 33 договора за възлагане на обществени поръчки от сертифицираните разходи по ПО 3. - На 18.07.2014 г. УО на ОПРР стартира процеса на повторна проверка по ос 3.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11.08.2014г.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готвена и статистическата извадка от 33 договора за възлагане на обществени поръчки по ПО 1.  -  УО на ОПРР незабавно стартира процеса на повторна проверка и по ос 1. 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1332000" y="260280"/>
            <a:ext cx="6335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ретни действия от УО относно временно спрените плащания по приоритетни оси 1 и 3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480" y="1413000"/>
            <a:ext cx="8148600" cy="48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Повторна проверка на обществените поръчки по договори за БФП, сключени  по ПО 3  -  приключена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В периода 30 септември - 10 октомври 2014 г.  - Тематичен  системен одит за оценка на ефективността на повторната верификация на разходи за обществени поръчки по ос 3  - от Националния Одитен орган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Заключение на ОО - системата за управление и контрол на ОПРР работи ефективно, но са необходими някои подобрения, както и регулярно обучение на екипа, извършващ контрол на обществените поръчки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Докладвани резултати от одита на ЕК - Одитна мисия на ЕК в периода  17-22.10.2014г.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1332000" y="260280"/>
            <a:ext cx="6335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ия и резултати от препроверката  по ос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2480" y="1413000"/>
            <a:ext cx="8148600" cy="48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вършена е повторна проверка на възлагането по всички договори от статистическата извадка по ос 1; Повторната проверка по ПО 1 приключи на 18.11.2014 г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ъществен е одит от Националния одитен орган в периода 21-28.2014 г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ъгласн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окончателен  одитен доклад от 1 декември 2014 от извършения оди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 потвърждава изводът, че системата за управление и контрол на ОПРР работи ефективно, но са необходими някои подобрения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ено е общото ниво на установената грешка по ос 1 на ОПРР(след екстраполация) – на стойност 75 638 165,29  лв.  или 10,11%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ено е общото ниво на установената грешка  и по ос 3 на ОПРР(след екстраполация) – на стойност 13 155 989,40  лв.  или 11,48%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стои резултатите да бъдат докладвани до ЕК и да бъда изпратена одитна мисия. Очакваният срок  е до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15.12.2014г.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1417680" y="260280"/>
            <a:ext cx="6335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ия и резултати от препроверката  по ос 1 и по ос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71560" y="1803240"/>
            <a:ext cx="730080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ГЛАВНА ДИРЕКЦИЯ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ПРОГРАМИРАНЕ НА РЕГИОНАЛНОТО РАЗВИТИЕ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a50021"/>
                </a:solidFill>
                <a:latin typeface="Tahoma"/>
              </a:rPr>
              <a:t>БЛАГОДАРЯ ЗА ВНИМАНИЕТ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Деница Никол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Ръководител на УО на ОПР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3300"/>
                </a:solidFill>
                <a:latin typeface="Tahoma"/>
              </a:rPr>
              <a:t>ИНВЕСТИРАМЕ ВЪВ ВАШЕТО БЪДЕЩ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9 декемвр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4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 Пловди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3"/>
          <a:stretch/>
        </p:blipFill>
        <p:spPr>
          <a:xfrm>
            <a:off x="3132000" y="225360"/>
            <a:ext cx="3097440" cy="709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4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Dariya Shamonina</cp:lastModifiedBy>
  <dcterms:modified xsi:type="dcterms:W3CDTF">2014-12-08T07:00:44Z</dcterms:modified>
  <cp:revision>785</cp:revision>
  <dc:subject/>
  <dc:title>Diapositiva 1</dc:title>
</cp:coreProperties>
</file>