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7360"/>
            <a:ext cx="4973760" cy="373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360" y="4726080"/>
            <a:ext cx="548928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A7BF-D7F2-4146-B8C9-79A229837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42840" y="74772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4360" y="4726080"/>
            <a:ext cx="548928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AC49-731F-4159-AAAB-1A5513CD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3FA0-F4A6-4554-A9E1-538AECD63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B681-3572-41DB-A1D9-7E78E796F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09DE-96A6-45C0-83DB-E9393E0C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4D19-F867-4376-BC4B-E29A7243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D44E-B23A-422D-B183-B700B6C07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51E1-D03B-425D-A5C1-6CACD8719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39FA-DFB5-4DF9-9C7C-3A89A8F73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F443-5D26-4DC7-9C98-8BF639334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F5A9-2A50-4664-A7BA-BC89F8207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5B7F-A0C0-456E-9BD6-C6AEDCE76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2770-66F8-4FD6-A24D-8190F4315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94A0-980A-4B90-8E01-359869541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BE7F-E736-4C67-ABB9-2DD1E130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8FF9-0F1E-452D-8828-BBF22274D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2718-52F1-4327-A97E-B8E86C3BC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4373-DE21-4F93-8B1F-1EE15DB2A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91BD-61AA-4401-BC7C-928BB1228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78C8-37AE-44E6-8637-9D99D8039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4360" y="4724280"/>
            <a:ext cx="548928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ate Placeholder 1"/>
          <p:cNvSpPr/>
          <p:nvPr/>
        </p:nvSpPr>
        <p:spPr>
          <a:xfrm>
            <a:off x="3886200" y="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3886200" y="9448920"/>
            <a:ext cx="2970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29B8-BCC0-4FB7-A531-DCF7CE2D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DF7-CC58-44A5-BE45-90BC0225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923B-F0F7-43CA-8DDF-696360CE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AD6-43AF-4D5A-BFF7-CC89198A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41FC-A6F7-44C4-A7C0-95F654D4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9DA-D7DD-452C-AC8E-030F6494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521-80E6-47F6-96E0-1CCEE0CE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537-B34B-4CE3-B971-1E1C4352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68C-1F22-44ED-B18B-0CC5EB25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C8A-4C5D-4D13-B24D-BBE95ABF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C85-2DDB-4AA6-B66D-885BF05A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45B-6082-4B48-BE22-F1EBD5A9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4F23-E238-4633-8200-B69D7716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E908-DEA5-4333-A5D7-1B5D2446A4CF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3399"/>
                </a:solidFill>
                <a:latin typeface="Arial"/>
              </a:rPr>
              <a:t>Проект BG161PO001-1.2.01-0001 „</a:t>
            </a:r>
            <a:r>
              <a:rPr b="1" lang="ru-RU" sz="3000" spc="-1" strike="noStrike">
                <a:solidFill>
                  <a:srgbClr val="003399"/>
                </a:solidFill>
                <a:latin typeface="Arial"/>
              </a:rPr>
              <a:t>Енергийно обновяване на българските домове</a:t>
            </a:r>
            <a:r>
              <a:rPr b="1" lang="bg-BG" sz="3000" spc="-1" strike="noStrike">
                <a:solidFill>
                  <a:srgbClr val="003399"/>
                </a:solidFill>
                <a:latin typeface="Arial"/>
              </a:rPr>
              <a:t>“ по Оперативна програма „Регионално развитие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12.04.2012 г. гр.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mrrb.government.b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bgregio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187280" y="1557360"/>
            <a:ext cx="7956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1547640" y="1484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ви мерки за енергийна ефективност ще се финансир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79280" y="2276640"/>
            <a:ext cx="878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ЕЛЕКТРОИНСТАЛ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ремонт в общите части и въвеждане на енергоспестяващо освет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ГАЗИФИК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изграждане на котелна инсталация  в сградата, когато е собственост на обитател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АВТОМАТИЧНО РЕГУЛИРАНЕ И УПРАВЛЕНИЕ</a:t>
            </a:r>
            <a:r>
              <a:rPr b="0" lang="bg-B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топлоподаванет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ИНДИВИДУАЛНО РЕГУЛИРАНЕ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топлината в жилищ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ПОДМЯНА ТРЪБНА МРЕЖ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хоризонтални и вертикални щрангове в общите ча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ОСВЕЖАВАН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- съпътстващи строително-монтажни работи в общите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1547640" y="1484280"/>
            <a:ext cx="7345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ект „Демонстрационно обновяване на многофамилни жилищни сгради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79280" y="2276640"/>
            <a:ext cx="87854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Резултати от 4-годишния опит на проект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2007 – 201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50 обновени сград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и прилежащи околоблокови простра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80 975 кв.м. РЗП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ена жилищ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1093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новени жилищ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2732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годетелствани 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9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Очаквани резултати по настоящия проект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2012 - 2015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180 обновени сгр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426 550 кв.м. РЗП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подобрена жилищна инфра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6100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новени жилищ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9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  <a:ea typeface="Arial"/>
              </a:rPr>
              <a:t>13 500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годетелствани 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833560" y="2295360"/>
            <a:ext cx="4205520" cy="486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ешение на общото събрание за обнов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1450800" y="1413000"/>
            <a:ext cx="7693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го направиха в Есто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2833560" y="2898720"/>
            <a:ext cx="4192560" cy="31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Техническо обслед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833560" y="3357720"/>
            <a:ext cx="4211640" cy="31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Енергиен о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843280" y="3835440"/>
            <a:ext cx="4201920" cy="31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зготвяне на проект за обновя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2838600" y="4673520"/>
            <a:ext cx="4176720" cy="31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роително-монтажни ра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22400" y="6162840"/>
            <a:ext cx="4181760" cy="3128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лащане на гра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7530840" y="2678040"/>
            <a:ext cx="1278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грант 50%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мак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. 700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7550280" y="3252960"/>
            <a:ext cx="1371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грант 50%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мак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. 700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553160" y="3828960"/>
            <a:ext cx="1482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грант 50%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макс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.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4 0</a:t>
            </a:r>
            <a:r>
              <a:rPr b="1" lang="en-US" sz="1600" spc="-1" strike="noStrike">
                <a:solidFill>
                  <a:srgbClr val="0070c0"/>
                </a:solidFill>
                <a:latin typeface="Arial"/>
              </a:rPr>
              <a:t>00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7380360" y="4573440"/>
            <a:ext cx="17110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грант 15 - 35% </a:t>
            </a:r>
            <a:r>
              <a:rPr b="1" lang="bg-BG" sz="1200" spc="-1" strike="noStrike">
                <a:solidFill>
                  <a:srgbClr val="0070c0"/>
                </a:solidFill>
                <a:latin typeface="Arial"/>
              </a:rPr>
              <a:t>- в зависимост от пакета мерки за енергийна ефектив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 rot="16200000">
            <a:off x="424440" y="4096440"/>
            <a:ext cx="3819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ПРОЦЕС НА РЕАЛИЗИ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22"/>
          <p:cNvSpPr/>
          <p:nvPr/>
        </p:nvSpPr>
        <p:spPr>
          <a:xfrm>
            <a:off x="2506680" y="2343240"/>
            <a:ext cx="247680" cy="372276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own Arrow 23"/>
          <p:cNvSpPr/>
          <p:nvPr/>
        </p:nvSpPr>
        <p:spPr>
          <a:xfrm rot="10800000">
            <a:off x="6588000" y="5987520"/>
            <a:ext cx="322560" cy="46548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24"/>
          <p:cNvSpPr/>
          <p:nvPr/>
        </p:nvSpPr>
        <p:spPr>
          <a:xfrm rot="5400000">
            <a:off x="7156440" y="2825640"/>
            <a:ext cx="247680" cy="384480"/>
          </a:xfrm>
          <a:prstGeom prst="downArrow">
            <a:avLst>
              <a:gd name="adj1" fmla="val 29093"/>
              <a:gd name="adj2" fmla="val 50034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25"/>
          <p:cNvSpPr/>
          <p:nvPr/>
        </p:nvSpPr>
        <p:spPr>
          <a:xfrm rot="5400000">
            <a:off x="7156440" y="3288960"/>
            <a:ext cx="247320" cy="384480"/>
          </a:xfrm>
          <a:prstGeom prst="downArrow">
            <a:avLst>
              <a:gd name="adj1" fmla="val 29093"/>
              <a:gd name="adj2" fmla="val 50106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wn Arrow 26"/>
          <p:cNvSpPr/>
          <p:nvPr/>
        </p:nvSpPr>
        <p:spPr>
          <a:xfrm rot="5400000">
            <a:off x="7112520" y="4723560"/>
            <a:ext cx="247320" cy="382680"/>
          </a:xfrm>
          <a:prstGeom prst="downArrow">
            <a:avLst>
              <a:gd name="adj1" fmla="val 29093"/>
              <a:gd name="adj2" fmla="val 50080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n Arrow 27"/>
          <p:cNvSpPr/>
          <p:nvPr/>
        </p:nvSpPr>
        <p:spPr>
          <a:xfrm rot="5400000">
            <a:off x="7173360" y="3838320"/>
            <a:ext cx="247680" cy="384120"/>
          </a:xfrm>
          <a:prstGeom prst="downArrow">
            <a:avLst>
              <a:gd name="adj1" fmla="val 29093"/>
              <a:gd name="adj2" fmla="val 49987"/>
            </a:avLst>
          </a:prstGeom>
          <a:solidFill>
            <a:srgbClr val="00206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08000" y="3125880"/>
            <a:ext cx="1913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СЪСТОЯНИЕ НА ЖИЛИЩНИЯ ФОН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95% - частна собствено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60% е построен между 1960-199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833560" y="3201480"/>
            <a:ext cx="5770800" cy="731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Програма за подпомагане на жилищните усло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1450800" y="1413000"/>
            <a:ext cx="76932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го направиха в Чехи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2843280" y="4292640"/>
            <a:ext cx="576108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9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70c0"/>
                </a:solidFill>
                <a:latin typeface="Arial"/>
                <a:ea typeface="Arial"/>
              </a:rPr>
              <a:t>безвъзмездни средства, но за</a:t>
            </a:r>
            <a:r>
              <a:rPr b="1" lang="bg-BG" sz="2200" spc="-1" strike="noStrike">
                <a:solidFill>
                  <a:srgbClr val="0070c0"/>
                </a:solidFill>
                <a:latin typeface="Arial"/>
                <a:ea typeface="Arial"/>
              </a:rPr>
              <a:t> панелни </a:t>
            </a:r>
            <a:r>
              <a:rPr b="0" lang="bg-BG" sz="2200" spc="-1" strike="noStrike">
                <a:solidFill>
                  <a:srgbClr val="0070c0"/>
                </a:solidFill>
                <a:latin typeface="Arial"/>
                <a:ea typeface="Arial"/>
              </a:rPr>
              <a:t>сград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70c0"/>
                </a:solidFill>
                <a:latin typeface="Arial"/>
                <a:ea typeface="Arial"/>
              </a:rPr>
              <a:t>частни собствениц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426960" y="2852640"/>
            <a:ext cx="1913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СЪСТОЯНИЕ НА ЖИЛИЩНИЯ ФОНД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63% - частна собственос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17% - публична собственост под на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17% - жилищен кооперати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- 3% др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нд за жилищно обновяване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(ФЖО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9640" y="2414520"/>
            <a:ext cx="842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3564000" y="3068640"/>
            <a:ext cx="1728720" cy="7905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ФЖ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564000" y="5518080"/>
            <a:ext cx="1728720" cy="79056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Жилищ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Arial"/>
              </a:rPr>
              <a:t>се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6588000" y="4292640"/>
            <a:ext cx="1729080" cy="7905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Търгов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>
            <a:off x="539640" y="3068640"/>
            <a:ext cx="1728720" cy="79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ОПР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AutoShape 11"/>
          <p:cNvCxnSpPr>
            <a:stCxn id="164" idx="2"/>
            <a:endCxn id="165" idx="0"/>
          </p:cNvCxnSpPr>
          <p:nvPr/>
        </p:nvCxnSpPr>
        <p:spPr>
          <a:xfrm flipH="1">
            <a:off x="4428360" y="3859200"/>
            <a:ext cx="1080" cy="165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12"/>
          <p:cNvCxnSpPr>
            <a:stCxn id="164" idx="3"/>
            <a:endCxn id="166" idx="0"/>
          </p:cNvCxnSpPr>
          <p:nvPr/>
        </p:nvCxnSpPr>
        <p:spPr>
          <a:xfrm>
            <a:off x="5292720" y="3463920"/>
            <a:ext cx="2161080" cy="82944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70" name="AutoShape 13"/>
          <p:cNvCxnSpPr>
            <a:stCxn id="166" idx="2"/>
            <a:endCxn id="165" idx="3"/>
          </p:cNvCxnSpPr>
          <p:nvPr/>
        </p:nvCxnSpPr>
        <p:spPr>
          <a:xfrm rot="5400000">
            <a:off x="5957640" y="4417920"/>
            <a:ext cx="830880" cy="216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71" name="Text Box 14"/>
          <p:cNvSpPr/>
          <p:nvPr/>
        </p:nvSpPr>
        <p:spPr>
          <a:xfrm>
            <a:off x="2268360" y="3133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590896"/>
                </a:solidFill>
                <a:latin typeface="Arial"/>
              </a:rPr>
              <a:t>13 млн. лв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15"/>
          <p:cNvCxnSpPr>
            <a:stCxn id="167" idx="3"/>
            <a:endCxn id="164" idx="1"/>
          </p:cNvCxnSpPr>
          <p:nvPr/>
        </p:nvCxnSpPr>
        <p:spPr>
          <a:xfrm>
            <a:off x="2268000" y="346356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Text Box 16"/>
          <p:cNvSpPr/>
          <p:nvPr/>
        </p:nvSpPr>
        <p:spPr>
          <a:xfrm>
            <a:off x="3203640" y="4159080"/>
            <a:ext cx="151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590896"/>
                </a:solidFill>
                <a:latin typeface="Arial"/>
              </a:rPr>
              <a:t>Вариант 1 Ниско-лихвени креди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5435640" y="3086280"/>
            <a:ext cx="2376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590896"/>
                </a:solidFill>
                <a:latin typeface="Arial"/>
              </a:rPr>
              <a:t>Вариант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590896"/>
                </a:solidFill>
                <a:latin typeface="Arial"/>
              </a:rPr>
              <a:t>Банкови гар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24000" y="5108400"/>
            <a:ext cx="2520720" cy="146556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5050"/>
                </a:solidFill>
                <a:latin typeface="Arial"/>
              </a:rPr>
              <a:t>Осигурява финансиране за 50% самоучастие на жилищните собствениц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9"/>
          <p:cNvSpPr/>
          <p:nvPr/>
        </p:nvSpPr>
        <p:spPr>
          <a:xfrm>
            <a:off x="5508720" y="561348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590896"/>
                </a:solidFill>
                <a:latin typeface="Arial"/>
              </a:rPr>
              <a:t>Вариант 2 Креди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1547640" y="148428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ФЖ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основни финансови параме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539640" y="2414520"/>
            <a:ext cx="842508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сновни парамет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Фиксирана лихва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ОЛП + 6,5%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Годишна такса за отпускане на гаранции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0,8% от главница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Срок на кредита до </a:t>
            </a:r>
            <a:r>
              <a:rPr b="0" lang="en-US" sz="2200" spc="-1" strike="noStrike">
                <a:solidFill>
                  <a:srgbClr val="c00000"/>
                </a:solidFill>
                <a:latin typeface="Arial"/>
                <a:ea typeface="Arial"/>
              </a:rPr>
              <a:t>10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 годин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Гратисен период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6 месец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  <a:ea typeface="Arial"/>
              </a:rPr>
              <a:t>Очаквана месечна вноска за домакинство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  <a:ea typeface="Arial"/>
              </a:rPr>
              <a:t>50-80 л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при кандидатст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Diagram 2" descr=""/>
          <p:cNvPicPr/>
          <p:nvPr/>
        </p:nvPicPr>
        <p:blipFill>
          <a:blip r:embed="rId2"/>
          <a:stretch/>
        </p:blipFill>
        <p:spPr>
          <a:xfrm>
            <a:off x="596880" y="2097000"/>
            <a:ext cx="8309160" cy="2498760"/>
          </a:xfrm>
          <a:prstGeom prst="rect">
            <a:avLst/>
          </a:prstGeom>
          <a:ln w="0">
            <a:noFill/>
          </a:ln>
        </p:spPr>
      </p:pic>
      <p:pic>
        <p:nvPicPr>
          <p:cNvPr id="185" name="Diagram 10" descr=""/>
          <p:cNvPicPr/>
          <p:nvPr/>
        </p:nvPicPr>
        <p:blipFill>
          <a:blip r:embed="rId3"/>
          <a:stretch/>
        </p:blipFill>
        <p:spPr>
          <a:xfrm>
            <a:off x="596880" y="4389480"/>
            <a:ext cx="83091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при кандидатств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Diagram 2" descr=""/>
          <p:cNvPicPr/>
          <p:nvPr/>
        </p:nvPicPr>
        <p:blipFill>
          <a:blip r:embed="rId2"/>
          <a:stretch/>
        </p:blipFill>
        <p:spPr>
          <a:xfrm>
            <a:off x="596880" y="2097000"/>
            <a:ext cx="830916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след сключване на споразуме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Diagram 2" descr=""/>
          <p:cNvPicPr/>
          <p:nvPr/>
        </p:nvPicPr>
        <p:blipFill>
          <a:blip r:embed="rId2"/>
          <a:stretch/>
        </p:blipFill>
        <p:spPr>
          <a:xfrm>
            <a:off x="457200" y="2535120"/>
            <a:ext cx="83026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след сключване на споразуме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Diagram 2" descr=""/>
          <p:cNvPicPr/>
          <p:nvPr/>
        </p:nvPicPr>
        <p:blipFill>
          <a:blip r:embed="rId2"/>
          <a:stretch/>
        </p:blipFill>
        <p:spPr>
          <a:xfrm>
            <a:off x="596880" y="2097000"/>
            <a:ext cx="8309160" cy="2498760"/>
          </a:xfrm>
          <a:prstGeom prst="rect">
            <a:avLst/>
          </a:prstGeom>
          <a:ln w="0">
            <a:noFill/>
          </a:ln>
        </p:spPr>
      </p:pic>
      <p:pic>
        <p:nvPicPr>
          <p:cNvPr id="198" name="Diagram 8" descr=""/>
          <p:cNvPicPr/>
          <p:nvPr/>
        </p:nvPicPr>
        <p:blipFill>
          <a:blip r:embed="rId3"/>
          <a:stretch/>
        </p:blipFill>
        <p:spPr>
          <a:xfrm>
            <a:off x="743040" y="4406760"/>
            <a:ext cx="8169120" cy="2487600"/>
          </a:xfrm>
          <a:prstGeom prst="rect">
            <a:avLst/>
          </a:prstGeom>
          <a:ln w="0">
            <a:noFill/>
          </a:ln>
        </p:spPr>
      </p:pic>
      <p:pic>
        <p:nvPicPr>
          <p:cNvPr id="199" name="Diagram 9" descr=""/>
          <p:cNvPicPr/>
          <p:nvPr/>
        </p:nvPicPr>
        <p:blipFill>
          <a:blip r:embed="rId4"/>
          <a:stretch/>
        </p:blipFill>
        <p:spPr>
          <a:xfrm>
            <a:off x="-85680" y="2017800"/>
            <a:ext cx="9223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1547640" y="148428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во направихме до сег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79280" y="2133720"/>
            <a:ext cx="8785440" cy="43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даде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добрено проектно предлож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готвена методология за изпълнение на про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пределени критерии за допустимост на сградит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готвени образци за кандидатстван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бран Фонд за жилищно обновяван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збрано Звено за изпълнение на про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убликувани обществени поръчки за проектни мениджъри; техническо обследване и информационна камп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c00000"/>
                </a:solidFill>
                <a:latin typeface="Arial"/>
              </a:rPr>
              <a:t>1 юли 2012 г.: започва подаването на зая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6"/>
          <p:cNvSpPr/>
          <p:nvPr/>
        </p:nvSpPr>
        <p:spPr>
          <a:xfrm>
            <a:off x="1547640" y="1484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след сключване на споразуме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Diagram 8" descr=""/>
          <p:cNvPicPr/>
          <p:nvPr/>
        </p:nvPicPr>
        <p:blipFill>
          <a:blip r:embed="rId2"/>
          <a:stretch/>
        </p:blipFill>
        <p:spPr>
          <a:xfrm>
            <a:off x="743040" y="4406760"/>
            <a:ext cx="81691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6"/>
          <p:cNvSpPr/>
          <p:nvPr/>
        </p:nvSpPr>
        <p:spPr>
          <a:xfrm>
            <a:off x="1547640" y="1484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ъпки 1 –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андидатств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явление за интерес и подкре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50920" y="2349360"/>
            <a:ext cx="8785080" cy="41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кво се очаква от собственц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стигнато съгласие от собствениците (поне 67%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деални части от общите части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за кандидатстване на сградата и упълномощаване на лице да подаде заявлениет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за подаване на заявлението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решение за разпределение на идеалните части от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общит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съгласие на собствениците да осигурят достъп до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всеки апартамен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С какво помага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роектният мениджър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дава разяснения; присъства на Общи събрания; попълва докумен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контактува с община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  <a:ea typeface="Arial"/>
              </a:rPr>
              <a:t>разглежда заявлението: одобрява/неодобря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1547640" y="148428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тъпки 3 – 5 Кандидатст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50920" y="2149560"/>
            <a:ext cx="88930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С какво помага Проектният мениджъ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изготвя </a:t>
            </a:r>
            <a:r>
              <a:rPr b="0" lang="bg-BG" sz="2100" spc="-1" strike="noStrike">
                <a:solidFill>
                  <a:srgbClr val="c00000"/>
                </a:solidFill>
                <a:latin typeface="Arial"/>
                <a:ea typeface="Arial"/>
              </a:rPr>
              <a:t>индикативен бюджет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на сградата и разпределя на разходите на всеки собствени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изготвя справка за начина на финансиране от всеки собственик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съдейства за намиране на техническа документация за сградат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подпомага създаването на </a:t>
            </a:r>
            <a:r>
              <a:rPr b="0" lang="bg-BG" sz="2100" spc="-1" strike="noStrike">
                <a:solidFill>
                  <a:srgbClr val="c00000"/>
                </a:solidFill>
                <a:latin typeface="Arial"/>
                <a:ea typeface="Arial"/>
              </a:rPr>
              <a:t>Сдружение на собствениците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подпомага търсенето на решения с неплатежоспособните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съдейства на собствениците за издаване на скица на имот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дава разяснения; присъства на Общи събрания; попълва докумен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контактува с общин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1547640" y="1484280"/>
            <a:ext cx="73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тъпки 6 – 9 Кандидатст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Подаване на заявление за финансова помощ от Е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50920" y="2149560"/>
            <a:ext cx="88930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c00000"/>
                </a:solidFill>
                <a:latin typeface="Arial"/>
              </a:rPr>
              <a:t>Какво се очаква от собствениците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подаване на заявлението и необходимите придружаващи документ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внесена гаранционна сума от по 500 лв. в сметка на МРРБ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c00000"/>
                </a:solidFill>
                <a:latin typeface="Arial"/>
                <a:ea typeface="Arial"/>
              </a:rPr>
              <a:t>С какво помага </a:t>
            </a:r>
            <a:r>
              <a:rPr b="1" lang="ru-RU" sz="2100" spc="-1" strike="noStrike">
                <a:solidFill>
                  <a:srgbClr val="c00000"/>
                </a:solidFill>
                <a:latin typeface="Arial"/>
                <a:ea typeface="Arial"/>
              </a:rPr>
              <a:t>Проектният мениджър</a:t>
            </a:r>
            <a:r>
              <a:rPr b="1" lang="bg-BG" sz="2100" spc="-1" strike="noStrike">
                <a:solidFill>
                  <a:srgbClr val="c00000"/>
                </a:solidFill>
                <a:latin typeface="Arial"/>
                <a:ea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съдейства за изготвяне на заявлението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преглежда заявлението и го препраща за одобрение на МРРБ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c00000"/>
                </a:solidFill>
                <a:latin typeface="Arial"/>
                <a:ea typeface="Arial"/>
              </a:rPr>
              <a:t>Какво прави МРРБ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разглежда заявлението: одобрява/не одобрява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  <a:ea typeface="Arial"/>
              </a:rPr>
              <a:t>сключва споразумение със Сдружението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"/>
          <p:cNvSpPr/>
          <p:nvPr/>
        </p:nvSpPr>
        <p:spPr>
          <a:xfrm>
            <a:off x="1649520" y="2041560"/>
            <a:ext cx="66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БЛАГОЕВГРАД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ж.к. “Запад”, бл.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042920" y="640224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Домакинства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30, </a:t>
            </a: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Енергопотребление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45% намаление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549440" y="141300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ект „Демонстрационно обновяване намногофамилни жилищни сград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IMG_0902"/>
          <p:cNvPicPr/>
          <p:nvPr/>
        </p:nvPicPr>
        <p:blipFill>
          <a:blip r:embed="rId2"/>
          <a:stretch/>
        </p:blipFill>
        <p:spPr>
          <a:xfrm>
            <a:off x="971640" y="2494080"/>
            <a:ext cx="3095640" cy="38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Picture 3" descr="P1040316"/>
          <p:cNvPicPr/>
          <p:nvPr/>
        </p:nvPicPr>
        <p:blipFill>
          <a:blip r:embed="rId3"/>
          <a:stretch/>
        </p:blipFill>
        <p:spPr>
          <a:xfrm>
            <a:off x="5003640" y="2459160"/>
            <a:ext cx="3168720" cy="386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1649520" y="2041560"/>
            <a:ext cx="66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ВАРНА,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в. „Владислав Варненчик”, бл. 406, вх. 3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1042920" y="640224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Домакинства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18, </a:t>
            </a: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Енергопотребление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55% намаление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Users\LekovaD\Desktop\prezentaciq 2\varna\1_img_8507.jpg"/>
          <p:cNvPicPr/>
          <p:nvPr/>
        </p:nvPicPr>
        <p:blipFill>
          <a:blip r:embed="rId2"/>
          <a:stretch/>
        </p:blipFill>
        <p:spPr>
          <a:xfrm>
            <a:off x="168120" y="2852640"/>
            <a:ext cx="4643640" cy="3097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Users\LekovaD\Desktop\prezentaciq 2\varna\09_img_0503.jpg"/>
          <p:cNvPicPr/>
          <p:nvPr/>
        </p:nvPicPr>
        <p:blipFill>
          <a:blip r:embed="rId3"/>
          <a:stretch/>
        </p:blipFill>
        <p:spPr>
          <a:xfrm>
            <a:off x="4903920" y="2852640"/>
            <a:ext cx="4127400" cy="3097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1549440" y="141300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ект „Демонстрационно обновяване намногофамилни жилищни сград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"/>
          <p:cNvSpPr/>
          <p:nvPr/>
        </p:nvSpPr>
        <p:spPr>
          <a:xfrm>
            <a:off x="1649520" y="204156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МОЛЯН ,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л. „Миньорска“ № 1, бл. „Строител“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1042920" y="640224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Домакинства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30; </a:t>
            </a: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Енергопотребление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58% нама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1549440" y="141300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ект „Демонстрационно обновяване намногофамилни жилищни сград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IMG_0663"/>
          <p:cNvPicPr/>
          <p:nvPr/>
        </p:nvPicPr>
        <p:blipFill>
          <a:blip r:embed="rId2"/>
          <a:stretch/>
        </p:blipFill>
        <p:spPr>
          <a:xfrm>
            <a:off x="1177920" y="2492280"/>
            <a:ext cx="2962440" cy="39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Picture 5" descr="IMG_0561"/>
          <p:cNvPicPr/>
          <p:nvPr/>
        </p:nvPicPr>
        <p:blipFill>
          <a:blip r:embed="rId3"/>
          <a:stretch/>
        </p:blipFill>
        <p:spPr>
          <a:xfrm>
            <a:off x="5219640" y="2503440"/>
            <a:ext cx="2954520" cy="394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"/>
          <p:cNvSpPr/>
          <p:nvPr/>
        </p:nvSpPr>
        <p:spPr>
          <a:xfrm>
            <a:off x="1649520" y="204156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ОФИЯ ,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л. „Асен Златаров“ №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042920" y="640224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Домакинства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14; </a:t>
            </a: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Енергопотребление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56% нама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549440" y="141300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ект „Демонстрационно обновяване намногофамилни жилищни сград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http://www.obnovendom.com/wp-content/uploads/galleries/sofia/azlatarov11/2_IMG_2038.jpg"/>
          <p:cNvPicPr/>
          <p:nvPr/>
        </p:nvPicPr>
        <p:blipFill>
          <a:blip r:embed="rId2"/>
          <a:stretch/>
        </p:blipFill>
        <p:spPr>
          <a:xfrm>
            <a:off x="1293840" y="2516040"/>
            <a:ext cx="291780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3" descr="http://www.obnovendom.com/wp-content/uploads/galleries/sofia/azlatarov11/1_P1040092.jpg"/>
          <p:cNvPicPr/>
          <p:nvPr/>
        </p:nvPicPr>
        <p:blipFill>
          <a:blip r:embed="rId3"/>
          <a:stretch/>
        </p:blipFill>
        <p:spPr>
          <a:xfrm>
            <a:off x="4859280" y="2538360"/>
            <a:ext cx="2881440" cy="38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"/>
          <p:cNvSpPr/>
          <p:nvPr/>
        </p:nvSpPr>
        <p:spPr>
          <a:xfrm>
            <a:off x="1649520" y="2041560"/>
            <a:ext cx="74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ОФИЯ ,</a:t>
            </a:r>
            <a:r>
              <a:rPr b="0" i="1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л. „Чаталджа” № 54 (с ВЕ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042920" y="6402240"/>
            <a:ext cx="68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Домакинства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19; </a:t>
            </a:r>
            <a:r>
              <a:rPr b="0" i="1" lang="bg-BG" sz="1600" spc="-1" strike="noStrike">
                <a:solidFill>
                  <a:srgbClr val="0070c0"/>
                </a:solidFill>
                <a:latin typeface="Arial"/>
              </a:rPr>
              <a:t>Енергопотребление:</a:t>
            </a:r>
            <a:r>
              <a:rPr b="0" lang="bg-BG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70c0"/>
                </a:solidFill>
                <a:latin typeface="Arial"/>
              </a:rPr>
              <a:t>60% нама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549440" y="141300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ект „Демонстрационно обновяване намногофамилни жилищни сград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://www.obnovendom.com/wp-content/uploads/galleries/sofia/chatalga54/1_IMG_2122.jpg"/>
          <p:cNvPicPr/>
          <p:nvPr/>
        </p:nvPicPr>
        <p:blipFill>
          <a:blip r:embed="rId2"/>
          <a:stretch/>
        </p:blipFill>
        <p:spPr>
          <a:xfrm>
            <a:off x="228600" y="2708280"/>
            <a:ext cx="4302000" cy="324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3" descr="http://www.obnovendom.com/wp-content/uploads/galleries/sofia/chatalga54/1_P1040142.jpg"/>
          <p:cNvPicPr/>
          <p:nvPr/>
        </p:nvPicPr>
        <p:blipFill>
          <a:blip r:embed="rId3"/>
          <a:stretch/>
        </p:blipFill>
        <p:spPr>
          <a:xfrm>
            <a:off x="4756320" y="2781360"/>
            <a:ext cx="4206600" cy="31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179280" y="1700280"/>
            <a:ext cx="8785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За информац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 и благоустройство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л. Св. Св. Кирил и Методий 17-19, 1202 Соф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л: 02 9405 415; 02 9405 4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лектронна поща: eeproject@mrrb.government.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ww.mrrb.government.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www.bgregio.e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-14400" y="-17460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1552680" y="1197000"/>
            <a:ext cx="734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Какво плаща държават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24000" y="1889280"/>
            <a:ext cx="88200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10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хническото обследване; техническия паспорт;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   обследването за енергийна ефективно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техническия проек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ценката на съответствието на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оително-монтажните рабо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вторския и строителен надзо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ходите по въвеждането на обекта в експлоатац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ходите по набавянето на разрешителни докумен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100%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-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заплатата на проектния мениджъ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Реално държавата поема 70% от всички разходи за обновяване на сграда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1619280" y="1484280"/>
            <a:ext cx="734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во плащат собственицит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2421000"/>
            <a:ext cx="84247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1001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50% з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техническия проект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ката на съответствието на проек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строително-монтажните рабо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рския и строителен надзо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ходите по въвеждането на обекта в експлоатац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разходите по набавянето на разрешителни докумен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0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2195640" y="1371600"/>
            <a:ext cx="686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зите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маляване на разходите за енерг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0% за добрите стопани на сград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16000" y="2224080"/>
            <a:ext cx="6850080" cy="43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Намаляване на топлинните загуб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ез конструкцията на сградата и съхранение на топлината в нашето жилищ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Финансови икономии (поне 30-50%) и разчети.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Дългосрочно енергийно спестяван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Предсказуемост на месечните разход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за отопление. Ограничаване на енергийната бедност и зависимос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Инвестиция с ясен срок на възръщаемост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Край на частични дейност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неясен енергоспестяващ ефек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7"/>
          <p:cNvGrpSpPr/>
          <p:nvPr/>
        </p:nvGrpSpPr>
        <p:grpSpPr>
          <a:xfrm>
            <a:off x="7099200" y="2278080"/>
            <a:ext cx="1832040" cy="1660680"/>
            <a:chOff x="7099200" y="2278080"/>
            <a:chExt cx="1832040" cy="1660680"/>
          </a:xfrm>
        </p:grpSpPr>
        <p:grpSp>
          <p:nvGrpSpPr>
            <p:cNvPr id="68" name="Group 8"/>
            <p:cNvGrpSpPr/>
            <p:nvPr/>
          </p:nvGrpSpPr>
          <p:grpSpPr>
            <a:xfrm>
              <a:off x="7099200" y="2278080"/>
              <a:ext cx="1832040" cy="1660680"/>
              <a:chOff x="7099200" y="2278080"/>
              <a:chExt cx="1832040" cy="1660680"/>
            </a:xfrm>
          </p:grpSpPr>
          <p:grpSp>
            <p:nvGrpSpPr>
              <p:cNvPr id="69" name="Group 20"/>
              <p:cNvGrpSpPr/>
              <p:nvPr/>
            </p:nvGrpSpPr>
            <p:grpSpPr>
              <a:xfrm>
                <a:off x="7099200" y="2278080"/>
                <a:ext cx="1832040" cy="1660680"/>
                <a:chOff x="7099200" y="2278080"/>
                <a:chExt cx="1832040" cy="1660680"/>
              </a:xfrm>
            </p:grpSpPr>
            <p:sp>
              <p:nvSpPr>
                <p:cNvPr id="70" name="Rectangle 33"/>
                <p:cNvSpPr/>
                <p:nvPr/>
              </p:nvSpPr>
              <p:spPr>
                <a:xfrm>
                  <a:off x="7099200" y="2278080"/>
                  <a:ext cx="1832040" cy="16606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34"/>
                <p:cNvSpPr/>
                <p:nvPr/>
              </p:nvSpPr>
              <p:spPr>
                <a:xfrm>
                  <a:off x="7441560" y="2907720"/>
                  <a:ext cx="1030680" cy="5727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AutoShape 17"/>
                <p:cNvSpPr/>
                <p:nvPr/>
              </p:nvSpPr>
              <p:spPr>
                <a:xfrm>
                  <a:off x="7328160" y="2392560"/>
                  <a:ext cx="1259640" cy="515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AutoShape 18"/>
                <p:cNvSpPr/>
                <p:nvPr/>
              </p:nvSpPr>
              <p:spPr>
                <a:xfrm>
                  <a:off x="8358840" y="3137040"/>
                  <a:ext cx="317160" cy="128520"/>
                </a:xfrm>
                <a:prstGeom prst="rightArrow">
                  <a:avLst>
                    <a:gd name="adj1" fmla="val 50000"/>
                    <a:gd name="adj2" fmla="val 61695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AutoShape 19"/>
                <p:cNvSpPr/>
                <p:nvPr/>
              </p:nvSpPr>
              <p:spPr>
                <a:xfrm rot="18993600">
                  <a:off x="8072640" y="2563920"/>
                  <a:ext cx="317160" cy="128520"/>
                </a:xfrm>
                <a:prstGeom prst="rightArrow">
                  <a:avLst>
                    <a:gd name="adj1" fmla="val 50000"/>
                    <a:gd name="adj2" fmla="val 61695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Rectangle 38"/>
                <p:cNvSpPr/>
                <p:nvPr/>
              </p:nvSpPr>
              <p:spPr>
                <a:xfrm>
                  <a:off x="7099200" y="3480840"/>
                  <a:ext cx="1832040" cy="45792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AutoShape 21"/>
                <p:cNvSpPr/>
                <p:nvPr/>
              </p:nvSpPr>
              <p:spPr>
                <a:xfrm rot="5400000">
                  <a:off x="7862760" y="3460320"/>
                  <a:ext cx="317520" cy="128520"/>
                </a:xfrm>
                <a:prstGeom prst="rightArrow">
                  <a:avLst>
                    <a:gd name="adj1" fmla="val 50000"/>
                    <a:gd name="adj2" fmla="val 61765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40"/>
                <p:cNvSpPr/>
                <p:nvPr/>
              </p:nvSpPr>
              <p:spPr>
                <a:xfrm>
                  <a:off x="7670520" y="2449800"/>
                  <a:ext cx="57240" cy="4579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" name="Group 41"/>
                <p:cNvGrpSpPr/>
                <p:nvPr/>
              </p:nvGrpSpPr>
              <p:grpSpPr>
                <a:xfrm>
                  <a:off x="7671600" y="2507040"/>
                  <a:ext cx="56880" cy="57240"/>
                  <a:chOff x="7671600" y="2507040"/>
                  <a:chExt cx="56880" cy="57240"/>
                </a:xfrm>
              </p:grpSpPr>
              <p:sp>
                <p:nvSpPr>
                  <p:cNvPr id="79" name="Oval 43"/>
                  <p:cNvSpPr/>
                  <p:nvPr/>
                </p:nvSpPr>
                <p:spPr>
                  <a:xfrm>
                    <a:off x="7671600" y="2507040"/>
                    <a:ext cx="56880" cy="57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pPr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bg-BG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AutoShape 25"/>
                  <p:cNvSpPr/>
                  <p:nvPr/>
                </p:nvSpPr>
                <p:spPr>
                  <a:xfrm>
                    <a:off x="7671600" y="2507040"/>
                    <a:ext cx="56880" cy="38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pPr>
                      <a:lnSpc>
                        <a:spcPct val="115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bg-BG" sz="1100" spc="-1" strike="noStrike">
                        <a:solidFill>
                          <a:srgbClr val="000000"/>
                        </a:solidFill>
                        <a:latin typeface="Calibri"/>
                        <a:ea typeface="Times New Roman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" name="AutoShape 26"/>
                <p:cNvSpPr/>
                <p:nvPr/>
              </p:nvSpPr>
              <p:spPr>
                <a:xfrm rot="16210800">
                  <a:off x="7594920" y="2697840"/>
                  <a:ext cx="223200" cy="70200"/>
                </a:xfrm>
                <a:prstGeom prst="rightArrow">
                  <a:avLst>
                    <a:gd name="adj1" fmla="val 50000"/>
                    <a:gd name="adj2" fmla="val 79487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AutoShape 27"/>
              <p:cNvSpPr/>
              <p:nvPr/>
            </p:nvSpPr>
            <p:spPr>
              <a:xfrm>
                <a:off x="7099200" y="2278080"/>
                <a:ext cx="343440" cy="34344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bg-BG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Group 22"/>
              <p:cNvGrpSpPr/>
              <p:nvPr/>
            </p:nvGrpSpPr>
            <p:grpSpPr>
              <a:xfrm>
                <a:off x="8072640" y="3022560"/>
                <a:ext cx="171720" cy="457920"/>
                <a:chOff x="8072640" y="3022560"/>
                <a:chExt cx="171720" cy="457920"/>
              </a:xfrm>
            </p:grpSpPr>
            <p:sp>
              <p:nvSpPr>
                <p:cNvPr id="84" name="Rectangle 25"/>
                <p:cNvSpPr/>
                <p:nvPr/>
              </p:nvSpPr>
              <p:spPr>
                <a:xfrm>
                  <a:off x="8110800" y="3117960"/>
                  <a:ext cx="95400" cy="1526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Oval 26"/>
                <p:cNvSpPr/>
                <p:nvPr/>
              </p:nvSpPr>
              <p:spPr>
                <a:xfrm>
                  <a:off x="8110800" y="3022560"/>
                  <a:ext cx="76320" cy="763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7"/>
                <p:cNvSpPr/>
                <p:nvPr/>
              </p:nvSpPr>
              <p:spPr>
                <a:xfrm>
                  <a:off x="8072640" y="3117960"/>
                  <a:ext cx="19080" cy="1144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8"/>
                <p:cNvSpPr/>
                <p:nvPr/>
              </p:nvSpPr>
              <p:spPr>
                <a:xfrm>
                  <a:off x="8225280" y="3117960"/>
                  <a:ext cx="19080" cy="1144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29"/>
                <p:cNvSpPr/>
                <p:nvPr/>
              </p:nvSpPr>
              <p:spPr>
                <a:xfrm>
                  <a:off x="8110800" y="3289680"/>
                  <a:ext cx="38160" cy="17172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30"/>
                <p:cNvSpPr/>
                <p:nvPr/>
              </p:nvSpPr>
              <p:spPr>
                <a:xfrm>
                  <a:off x="8168040" y="3289680"/>
                  <a:ext cx="38160" cy="17172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Oval 31"/>
                <p:cNvSpPr/>
                <p:nvPr/>
              </p:nvSpPr>
              <p:spPr>
                <a:xfrm>
                  <a:off x="8072640" y="3461400"/>
                  <a:ext cx="7632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Oval 32"/>
                <p:cNvSpPr/>
                <p:nvPr/>
              </p:nvSpPr>
              <p:spPr>
                <a:xfrm>
                  <a:off x="8168040" y="3461400"/>
                  <a:ext cx="7632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pPr>
                    <a:lnSpc>
                      <a:spcPct val="115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bg-BG" sz="1100" spc="-1" strike="noStrike">
                      <a:solidFill>
                        <a:srgbClr val="000000"/>
                      </a:solidFill>
                      <a:latin typeface="Calibri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23"/>
              <p:cNvSpPr/>
              <p:nvPr/>
            </p:nvSpPr>
            <p:spPr>
              <a:xfrm>
                <a:off x="7499880" y="3194280"/>
                <a:ext cx="114480" cy="2862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00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bg-BG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38"/>
              <p:cNvSpPr/>
              <p:nvPr/>
            </p:nvSpPr>
            <p:spPr>
              <a:xfrm>
                <a:off x="7213680" y="3251520"/>
                <a:ext cx="286200" cy="114480"/>
              </a:xfrm>
              <a:prstGeom prst="rightArrow">
                <a:avLst>
                  <a:gd name="adj1" fmla="val 50000"/>
                  <a:gd name="adj2" fmla="val 625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15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bg-BG" sz="1100" spc="-1" strike="noStrike">
                    <a:solidFill>
                      <a:srgbClr val="000000"/>
                    </a:solidFill>
                    <a:latin typeface="Calibri"/>
                    <a:ea typeface="Times New Roman"/>
                  </a:rPr>
                  <a:t>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Rectangle 9"/>
            <p:cNvSpPr/>
            <p:nvPr/>
          </p:nvSpPr>
          <p:spPr>
            <a:xfrm rot="3023400">
              <a:off x="7499160" y="2564280"/>
              <a:ext cx="57240" cy="2862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33cc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8759520" y="3423240"/>
              <a:ext cx="57240" cy="34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7843320" y="3709800"/>
              <a:ext cx="97344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7843320" y="3022560"/>
              <a:ext cx="57240" cy="74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43"/>
            <p:cNvSpPr/>
            <p:nvPr/>
          </p:nvSpPr>
          <p:spPr>
            <a:xfrm>
              <a:off x="8587800" y="3767040"/>
              <a:ext cx="56880" cy="114480"/>
            </a:xfrm>
            <a:prstGeom prst="upArrow">
              <a:avLst>
                <a:gd name="adj1" fmla="val 50000"/>
                <a:gd name="adj2" fmla="val 50316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44"/>
            <p:cNvSpPr/>
            <p:nvPr/>
          </p:nvSpPr>
          <p:spPr>
            <a:xfrm>
              <a:off x="8416080" y="376704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45"/>
            <p:cNvSpPr/>
            <p:nvPr/>
          </p:nvSpPr>
          <p:spPr>
            <a:xfrm>
              <a:off x="8187120" y="376704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6"/>
            <p:cNvSpPr/>
            <p:nvPr/>
          </p:nvSpPr>
          <p:spPr>
            <a:xfrm flipV="1">
              <a:off x="8530560" y="359532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47"/>
            <p:cNvSpPr/>
            <p:nvPr/>
          </p:nvSpPr>
          <p:spPr>
            <a:xfrm flipV="1">
              <a:off x="8301600" y="359532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48"/>
            <p:cNvSpPr/>
            <p:nvPr/>
          </p:nvSpPr>
          <p:spPr>
            <a:xfrm flipV="1" rot="16200000">
              <a:off x="7929000" y="293580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49"/>
            <p:cNvSpPr/>
            <p:nvPr/>
          </p:nvSpPr>
          <p:spPr>
            <a:xfrm flipV="1">
              <a:off x="8759520" y="3308760"/>
              <a:ext cx="57240" cy="11448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1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692360" y="1484280"/>
            <a:ext cx="5173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124000" y="1405080"/>
            <a:ext cx="68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зите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ю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топлинен комфорт във всяко жили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0680" y="2192400"/>
            <a:ext cx="845496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Удължаване на живота и експлоатационната годност на сградит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По-висока цена на имо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Жилища с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интелигентно топлинно реш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Жилища с добър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естетичен вид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Ново поколени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нергоспестяващи строителни продукти и инсталационни системи и уреди с дълготраен ефек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добство и удовлетворение от използването на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интелигентни измервателни и регулиращи прибор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омяна </a:t>
            </a: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в облика на блокове, квартали и градове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етап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7165800" y="2679840"/>
            <a:ext cx="1822680" cy="165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tretch/>
        </p:blipFill>
        <p:spPr>
          <a:xfrm>
            <a:off x="1822320" y="150012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2320920" y="1514520"/>
            <a:ext cx="63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зите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ъхранение на околната сред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0680" y="2192400"/>
            <a:ext cx="831204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Ефективно използване на горивата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 намалени емисии СО</a:t>
            </a:r>
            <a:r>
              <a:rPr b="0" lang="bg-BG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ри тяхното изгаря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100"/>
              </a:spcAft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c00000"/>
                </a:solidFill>
                <a:latin typeface="Arial"/>
              </a:rPr>
              <a:t>Нова култура на потребление на енергия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и нова визия за стопанисването на сградит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1967040" y="1484280"/>
            <a:ext cx="517320" cy="517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684360" y="3759120"/>
            <a:ext cx="4500360" cy="2917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6084720" y="4714920"/>
            <a:ext cx="24480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1547640" y="1484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ви мерки за енергийна ефективност ще се финансир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79280" y="2276640"/>
            <a:ext cx="878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ДОГРА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прозорци в жилищата и общите части, общи входни вр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ИЗОЛ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оплинна на външни стени, покриви, подове – сутерени 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КОТЛИ, ТЕРМОПОМП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ремонт, модернизация или подмя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ЛОКАЛНИ ОТОПЛИТЕЛНИ СИСТЕМ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ремонт, модернизация или подмян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ВЕ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възобновяеми енергийни източници) – слънчеви системи за осигуряване на енергия за собствени (битови) нуж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ОТОПЛИТЕЛНА ИЛИ ОХЛАДИТЕЛ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а - ремонт или подмяна на инсталацията в общите ч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1547640" y="14842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ви мерки за енергийна ефективност ще се финансир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79280" y="2276640"/>
            <a:ext cx="8785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ДОГРАМ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прозорци в жилищата и общите части, общи входни вр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ИЗОЛАЦИЯ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– топлинна на външни стени, покриви, подове – сутерени 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КОТЛИ, ТЕРМОПОМП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ремонт, модернизация или подмя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ЛОКАЛНИ ОТОПЛИТЕЛНИ СИСТЕМИ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– ремонт, модернизация или подмян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ВЕИ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(възобновяеми енергийни източници) – слънчеви системи за осигуряване на енергия за собствени (битови) нуж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c00000"/>
                </a:solidFill>
                <a:latin typeface="Arial"/>
              </a:rPr>
              <a:t>ОТОПЛИТЕЛНА ИЛИ ОХЛАДИТЕЛНА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истема - ремонт или подмяна на инсталацията в общите ч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1:29:25Z</dcterms:created>
  <dc:creator>PopovI</dc:creator>
  <dc:description/>
  <dc:language>en-US</dc:language>
  <cp:lastModifiedBy>Dessislava Yordanova</cp:lastModifiedBy>
  <cp:lastPrinted>2012-04-12T06:30:43Z</cp:lastPrinted>
  <dcterms:modified xsi:type="dcterms:W3CDTF">2012-04-12T10:14:11Z</dcterms:modified>
  <cp:revision>541</cp:revision>
  <dc:subject/>
  <dc:title>Slide 1</dc:title>
</cp:coreProperties>
</file>