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7360"/>
            <a:ext cx="4973760" cy="373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360" y="4726080"/>
            <a:ext cx="548928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B0AC-5EBB-4CFE-96F5-09BF772F8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42840" y="74772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4360" y="4726080"/>
            <a:ext cx="54892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4BB1-B609-4CFD-9232-56A862908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C047-3018-4108-BFD7-F570EAD90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A3C3-9236-4463-A24A-DAFDC792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B110-6CFE-4EAF-93F3-4EF53B7B3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4B83-D356-45F8-A98B-323CE70A5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5F1-EBAD-4FCE-BB4D-1C3B86279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8172-7C7D-4922-8C4F-D1A47ECB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5E34-C72D-4FC5-91B6-FD951B047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1F58-4DAA-4404-BF45-782DA05C7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AEC5-5938-41C8-82BF-2B32AC39F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5FDE-6AA9-4AC3-92D3-028E0A45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DB08-6FE0-47D5-985F-4C1760F42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1D04-D654-43D6-A8FD-D91D9011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DE37-698B-4459-9A94-E1D2B1E8F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4FE1-5C39-4297-B266-269458FF9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8140-AEDC-44CA-9EAA-24A919E03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7669-8390-423B-B7BB-A96821C7E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286D-5BBB-4F14-AA90-44529A7F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A356-0C14-48BB-AE17-61C14867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CC3B-84AC-4872-B961-8D50888A8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F7E-8FDD-499B-864D-2888B70F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DFE-9A4D-4E1C-8EA3-F34E38B2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B50-A414-4B79-9990-47801F7F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B87-680C-4E24-AC83-597546B3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3AA-B231-480C-AEA7-3C886BA7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3B7-1143-48A3-A504-AE99A5B5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CB9-5C30-4FF6-AD42-A095D85C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5F5-90E8-4056-ADBE-96496CF8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4CB-CF6C-45F3-9D61-87338DE5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2B5-A564-462A-AAF3-13A99AA0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37C-F7D3-455B-8580-73691B39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497-11E6-4043-B23B-52F70EF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5320-0C30-4AA1-B406-D1A221927D0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3399"/>
                </a:solidFill>
                <a:latin typeface="Arial"/>
              </a:rPr>
              <a:t>Проект BG161PO001-1.2.01-0001 „</a:t>
            </a:r>
            <a:r>
              <a:rPr b="1" lang="ru-RU" sz="3000" spc="-1" strike="noStrike">
                <a:solidFill>
                  <a:srgbClr val="003399"/>
                </a:solidFill>
                <a:latin typeface="Arial"/>
              </a:rPr>
              <a:t>Енергийно обновяване на българските домове</a:t>
            </a:r>
            <a:r>
              <a:rPr b="1" lang="bg-BG" sz="3000" spc="-1" strike="noStrike">
                <a:solidFill>
                  <a:srgbClr val="003399"/>
                </a:solidFill>
                <a:latin typeface="Arial"/>
              </a:rPr>
              <a:t>“ по Оперативна програма „Регионално развитие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2.04.2012 г. 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mrrb.government.b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bgregio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187280" y="1557360"/>
            <a:ext cx="7956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547640" y="1484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ви мерки за енергийна ефективност ще се финансир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79280" y="2276640"/>
            <a:ext cx="878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ЕЛЕКТРОИНСТАЛ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ремонт в общите части и въвеждане на енергоспестяващо освет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ГАЗИФИК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изграждане на котелна инсталация  в сградата, когато е собственост на обитател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АВТОМАТИЧНО РЕГУЛИРАНЕ И УПРАВЛЕНИЕ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топлоподаване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ИНДИВИДУАЛНО РЕГУЛИРАН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топлината в жилищ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ПОДМЯНА ТРЪБНА МРЕЖ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хоризонтални и вертикални щрангове в общите ча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ОСВЕЖАВАН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съпътстващи строително-монтажни работи в общите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1547640" y="1484280"/>
            <a:ext cx="734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„Демонстрационно обновяване на многофамилни жилищни сград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79280" y="2276640"/>
            <a:ext cx="87854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езултати от 4-годишния опит на проек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007 – 201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50 обновени сград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 прилежащи околоблокови простр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80 975 кв.м. РЗП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ена жилищ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1093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новени жилищ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2732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годетелствани 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чаквани резултати по настоящия проек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2012 - 2015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180 обновени сг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426 550 кв.м. РЗП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ена жилищ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6100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новени ж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13 500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годетелствани 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833560" y="2295360"/>
            <a:ext cx="4205520" cy="486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шение на общото събрание за обнов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450800" y="1413000"/>
            <a:ext cx="7693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го направиха в Есто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833560" y="2898720"/>
            <a:ext cx="4192560" cy="31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Техническо обслед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833560" y="3357720"/>
            <a:ext cx="4211640" cy="31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Енергиен о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843280" y="3835440"/>
            <a:ext cx="4201920" cy="31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готвяне на проект за обнов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2838600" y="4673520"/>
            <a:ext cx="4176720" cy="31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роително-монтажни ра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22400" y="6162840"/>
            <a:ext cx="4181760" cy="3128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лащане на гра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7530840" y="2678040"/>
            <a:ext cx="127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грант 50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мак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. 70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550280" y="3252960"/>
            <a:ext cx="1371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грант 50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мак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. 70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553160" y="3828960"/>
            <a:ext cx="1482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грант 50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мак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.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4 0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0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7380360" y="4573440"/>
            <a:ext cx="17110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грант 15 - 35% </a:t>
            </a:r>
            <a:r>
              <a:rPr b="1" lang="bg-BG" sz="1200" spc="-1" strike="noStrike">
                <a:solidFill>
                  <a:srgbClr val="0070c0"/>
                </a:solidFill>
                <a:latin typeface="Arial"/>
              </a:rPr>
              <a:t>- в зависимост от пакета мерки за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 rot="16200000">
            <a:off x="424440" y="4096440"/>
            <a:ext cx="3819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ОЦЕС НА РЕАЛИЗ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22"/>
          <p:cNvSpPr/>
          <p:nvPr/>
        </p:nvSpPr>
        <p:spPr>
          <a:xfrm>
            <a:off x="2506680" y="2343240"/>
            <a:ext cx="247680" cy="37227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own Arrow 23"/>
          <p:cNvSpPr/>
          <p:nvPr/>
        </p:nvSpPr>
        <p:spPr>
          <a:xfrm rot="10800000">
            <a:off x="6588000" y="5987520"/>
            <a:ext cx="322560" cy="4654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24"/>
          <p:cNvSpPr/>
          <p:nvPr/>
        </p:nvSpPr>
        <p:spPr>
          <a:xfrm rot="5400000">
            <a:off x="7156440" y="2825640"/>
            <a:ext cx="247680" cy="384480"/>
          </a:xfrm>
          <a:prstGeom prst="downArrow">
            <a:avLst>
              <a:gd name="adj1" fmla="val 29093"/>
              <a:gd name="adj2" fmla="val 50034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25"/>
          <p:cNvSpPr/>
          <p:nvPr/>
        </p:nvSpPr>
        <p:spPr>
          <a:xfrm rot="5400000">
            <a:off x="7156440" y="3288960"/>
            <a:ext cx="247320" cy="384480"/>
          </a:xfrm>
          <a:prstGeom prst="downArrow">
            <a:avLst>
              <a:gd name="adj1" fmla="val 29093"/>
              <a:gd name="adj2" fmla="val 50106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n Arrow 26"/>
          <p:cNvSpPr/>
          <p:nvPr/>
        </p:nvSpPr>
        <p:spPr>
          <a:xfrm rot="5400000">
            <a:off x="7112520" y="4723560"/>
            <a:ext cx="247320" cy="382680"/>
          </a:xfrm>
          <a:prstGeom prst="downArrow">
            <a:avLst>
              <a:gd name="adj1" fmla="val 29093"/>
              <a:gd name="adj2" fmla="val 50080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n Arrow 27"/>
          <p:cNvSpPr/>
          <p:nvPr/>
        </p:nvSpPr>
        <p:spPr>
          <a:xfrm rot="5400000">
            <a:off x="7173360" y="3838320"/>
            <a:ext cx="247680" cy="384120"/>
          </a:xfrm>
          <a:prstGeom prst="downArrow">
            <a:avLst>
              <a:gd name="adj1" fmla="val 29093"/>
              <a:gd name="adj2" fmla="val 49987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08000" y="3125880"/>
            <a:ext cx="1913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СЪСТОЯНИЕ НА ЖИЛИЩНИЯ ФОН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95% - частна собствено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60% е построен между 1960-199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833560" y="3201480"/>
            <a:ext cx="5770800" cy="731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Програма за подпомагане на жилищните усло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1450800" y="1413000"/>
            <a:ext cx="7693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го направиха в Чехи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843280" y="4292640"/>
            <a:ext cx="5761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70c0"/>
                </a:solidFill>
                <a:latin typeface="Arial"/>
                <a:ea typeface="Arial"/>
              </a:rPr>
              <a:t>безвъзмездни средства, но за</a:t>
            </a:r>
            <a:r>
              <a:rPr b="1" lang="bg-BG" sz="2200" spc="-1" strike="noStrike">
                <a:solidFill>
                  <a:srgbClr val="0070c0"/>
                </a:solidFill>
                <a:latin typeface="Arial"/>
                <a:ea typeface="Arial"/>
              </a:rPr>
              <a:t> панелни </a:t>
            </a:r>
            <a:r>
              <a:rPr b="0" lang="bg-BG" sz="2200" spc="-1" strike="noStrike">
                <a:solidFill>
                  <a:srgbClr val="0070c0"/>
                </a:solidFill>
                <a:latin typeface="Arial"/>
                <a:ea typeface="Arial"/>
              </a:rPr>
              <a:t>сгра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70c0"/>
                </a:solidFill>
                <a:latin typeface="Arial"/>
                <a:ea typeface="Arial"/>
              </a:rPr>
              <a:t>частни собствениц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426960" y="2852640"/>
            <a:ext cx="191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СЪСТОЯНИЕ НА ЖИЛИЩНИЯ ФОН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63% - частна собствено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17% - публична собственост под на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17% - жилищен кооперати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3% др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нд за жилищно обновяване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(ФЖО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9640" y="241452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3564000" y="3068640"/>
            <a:ext cx="1728720" cy="790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ФЖ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564000" y="5518080"/>
            <a:ext cx="1728720" cy="79056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Жилищ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се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588000" y="4292640"/>
            <a:ext cx="1729080" cy="7905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ъргов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539640" y="3068640"/>
            <a:ext cx="1728720" cy="79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AutoShape 11"/>
          <p:cNvCxnSpPr>
            <a:stCxn id="164" idx="2"/>
            <a:endCxn id="165" idx="0"/>
          </p:cNvCxnSpPr>
          <p:nvPr/>
        </p:nvCxnSpPr>
        <p:spPr>
          <a:xfrm flipH="1">
            <a:off x="4428360" y="3859200"/>
            <a:ext cx="1080" cy="16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12"/>
          <p:cNvCxnSpPr>
            <a:stCxn id="164" idx="3"/>
            <a:endCxn id="166" idx="0"/>
          </p:cNvCxnSpPr>
          <p:nvPr/>
        </p:nvCxnSpPr>
        <p:spPr>
          <a:xfrm>
            <a:off x="5292720" y="3463920"/>
            <a:ext cx="2161080" cy="8294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0" name="AutoShape 13"/>
          <p:cNvCxnSpPr>
            <a:stCxn id="166" idx="2"/>
            <a:endCxn id="165" idx="3"/>
          </p:cNvCxnSpPr>
          <p:nvPr/>
        </p:nvCxnSpPr>
        <p:spPr>
          <a:xfrm rot="5400000">
            <a:off x="5957640" y="4417920"/>
            <a:ext cx="830880" cy="216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71" name="Text Box 14"/>
          <p:cNvSpPr/>
          <p:nvPr/>
        </p:nvSpPr>
        <p:spPr>
          <a:xfrm>
            <a:off x="2268360" y="3133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590896"/>
                </a:solidFill>
                <a:latin typeface="Arial"/>
              </a:rPr>
              <a:t>13 млн. лв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15"/>
          <p:cNvCxnSpPr>
            <a:stCxn id="167" idx="3"/>
            <a:endCxn id="164" idx="1"/>
          </p:cNvCxnSpPr>
          <p:nvPr/>
        </p:nvCxnSpPr>
        <p:spPr>
          <a:xfrm>
            <a:off x="2268000" y="346356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Text Box 16"/>
          <p:cNvSpPr/>
          <p:nvPr/>
        </p:nvSpPr>
        <p:spPr>
          <a:xfrm>
            <a:off x="3203640" y="4159080"/>
            <a:ext cx="151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590896"/>
                </a:solidFill>
                <a:latin typeface="Arial"/>
              </a:rPr>
              <a:t>Вариант 1 Ниско-лихвени креди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5435640" y="3086280"/>
            <a:ext cx="237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590896"/>
                </a:solidFill>
                <a:latin typeface="Arial"/>
              </a:rPr>
              <a:t>Вариант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590896"/>
                </a:solidFill>
                <a:latin typeface="Arial"/>
              </a:rPr>
              <a:t>Банкови гар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24000" y="5108400"/>
            <a:ext cx="2520720" cy="146556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5050"/>
                </a:solidFill>
                <a:latin typeface="Arial"/>
              </a:rPr>
              <a:t>Осигурява финансиране за 50% самоучастие на жилищните собствениц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508720" y="561348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590896"/>
                </a:solidFill>
                <a:latin typeface="Arial"/>
              </a:rPr>
              <a:t>Вариант 2 Креди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1547640" y="148428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ФЖ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основни финансови параме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39640" y="2414520"/>
            <a:ext cx="842508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сновни параме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Фиксирана лихва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ОЛП + 6,5%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Годишна такса за отпускане на гаранции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0,8% от главница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Срок на кредита до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10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 годи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Гратисен период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6 месе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Очаквана месечна вноска за домакинство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50-80 л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при кандидатст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Diagram 2" descr=""/>
          <p:cNvPicPr/>
          <p:nvPr/>
        </p:nvPicPr>
        <p:blipFill>
          <a:blip r:embed="rId2"/>
          <a:stretch/>
        </p:blipFill>
        <p:spPr>
          <a:xfrm>
            <a:off x="596880" y="2097000"/>
            <a:ext cx="8309160" cy="2498760"/>
          </a:xfrm>
          <a:prstGeom prst="rect">
            <a:avLst/>
          </a:prstGeom>
          <a:ln w="0">
            <a:noFill/>
          </a:ln>
        </p:spPr>
      </p:pic>
      <p:pic>
        <p:nvPicPr>
          <p:cNvPr id="185" name="Diagram 10" descr=""/>
          <p:cNvPicPr/>
          <p:nvPr/>
        </p:nvPicPr>
        <p:blipFill>
          <a:blip r:embed="rId3"/>
          <a:stretch/>
        </p:blipFill>
        <p:spPr>
          <a:xfrm>
            <a:off x="596880" y="4389480"/>
            <a:ext cx="83091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при кандидатст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Diagram 2" descr=""/>
          <p:cNvPicPr/>
          <p:nvPr/>
        </p:nvPicPr>
        <p:blipFill>
          <a:blip r:embed="rId2"/>
          <a:stretch/>
        </p:blipFill>
        <p:spPr>
          <a:xfrm>
            <a:off x="596880" y="2097000"/>
            <a:ext cx="83091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след сключване на споразуме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Diagram 2" descr=""/>
          <p:cNvPicPr/>
          <p:nvPr/>
        </p:nvPicPr>
        <p:blipFill>
          <a:blip r:embed="rId2"/>
          <a:stretch/>
        </p:blipFill>
        <p:spPr>
          <a:xfrm>
            <a:off x="457200" y="2535120"/>
            <a:ext cx="83026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след сключване на споразуме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Diagram 2" descr=""/>
          <p:cNvPicPr/>
          <p:nvPr/>
        </p:nvPicPr>
        <p:blipFill>
          <a:blip r:embed="rId2"/>
          <a:stretch/>
        </p:blipFill>
        <p:spPr>
          <a:xfrm>
            <a:off x="596880" y="2097000"/>
            <a:ext cx="8309160" cy="2498760"/>
          </a:xfrm>
          <a:prstGeom prst="rect">
            <a:avLst/>
          </a:prstGeom>
          <a:ln w="0">
            <a:noFill/>
          </a:ln>
        </p:spPr>
      </p:pic>
      <p:pic>
        <p:nvPicPr>
          <p:cNvPr id="198" name="Diagram 8" descr=""/>
          <p:cNvPicPr/>
          <p:nvPr/>
        </p:nvPicPr>
        <p:blipFill>
          <a:blip r:embed="rId3"/>
          <a:stretch/>
        </p:blipFill>
        <p:spPr>
          <a:xfrm>
            <a:off x="743040" y="4406760"/>
            <a:ext cx="8169120" cy="2487600"/>
          </a:xfrm>
          <a:prstGeom prst="rect">
            <a:avLst/>
          </a:prstGeom>
          <a:ln w="0">
            <a:noFill/>
          </a:ln>
        </p:spPr>
      </p:pic>
      <p:pic>
        <p:nvPicPr>
          <p:cNvPr id="199" name="Diagram 9" descr=""/>
          <p:cNvPicPr/>
          <p:nvPr/>
        </p:nvPicPr>
        <p:blipFill>
          <a:blip r:embed="rId4"/>
          <a:stretch/>
        </p:blipFill>
        <p:spPr>
          <a:xfrm>
            <a:off x="-85680" y="2017800"/>
            <a:ext cx="9223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1547640" y="148428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во направихме до сег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79280" y="2133720"/>
            <a:ext cx="8785440" cy="43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даде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добрено проектно предлож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готвена методология за изпълнение на про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пределени критерии за допустимост на сградит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готвени образци за кандидатстван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бран Фонд за жилищно обновяван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брано Звено за изпълнение на про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убликувани обществени поръчки за проектни мениджъри; техническо обследване и информационна камп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c00000"/>
                </a:solidFill>
                <a:latin typeface="Arial"/>
              </a:rPr>
              <a:t>1 юли 2012 г.: започва подаването на зая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след сключване на споразуме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Diagram 8" descr=""/>
          <p:cNvPicPr/>
          <p:nvPr/>
        </p:nvPicPr>
        <p:blipFill>
          <a:blip r:embed="rId2"/>
          <a:stretch/>
        </p:blipFill>
        <p:spPr>
          <a:xfrm>
            <a:off x="743040" y="4406760"/>
            <a:ext cx="81691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1547640" y="1484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1 –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андидатст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явление за интерес и подкре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50920" y="2349360"/>
            <a:ext cx="878508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кво се очаква от собственц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тигнато съгласие от собствениците (поне 67%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ални части от общите час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за кандидатстване на сградата и упълномощаване на лице да подаде заявлениет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за подаване на заявлението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за разпределение на идеалните части от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общи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ъгласие на собствениците да осигурят достъп до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всеки апартамен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С какво помаг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оектният мениджър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дава разяснения; присъства на Общи събрания; попълва докумен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контактува с община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разглежда заявлението: одобрява/неодобря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1547640" y="148428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тъпки 3 – 5 Кандидатст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50920" y="2149560"/>
            <a:ext cx="88930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С какво помага Проектният мениджъ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изготвя </a:t>
            </a:r>
            <a:r>
              <a:rPr b="0" lang="bg-BG" sz="2100" spc="-1" strike="noStrike">
                <a:solidFill>
                  <a:srgbClr val="c00000"/>
                </a:solidFill>
                <a:latin typeface="Arial"/>
                <a:ea typeface="Arial"/>
              </a:rPr>
              <a:t>индикативен бюджет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на сградата и разпределя на разходите на всеки собствени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изготвя справка за начина на финансиране от всеки собствени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съдейства за намиране на техническа документация за сградат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подпомага създаването на </a:t>
            </a:r>
            <a:r>
              <a:rPr b="0" lang="bg-BG" sz="2100" spc="-1" strike="noStrike">
                <a:solidFill>
                  <a:srgbClr val="c00000"/>
                </a:solidFill>
                <a:latin typeface="Arial"/>
                <a:ea typeface="Arial"/>
              </a:rPr>
              <a:t>Сдружение на собствениците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подпомага търсенето на решения с неплатежоспособнит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съдейства на собствениците за издаване на скица на имот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дава разяснения; присъства на Общи събрания; попълва докумен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контактува с общин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1547640" y="1484280"/>
            <a:ext cx="73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тъпки 6 – 9 Кандидатст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Подаване на заявление за финансова помощ от Е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50920" y="2149560"/>
            <a:ext cx="88930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c00000"/>
                </a:solidFill>
                <a:latin typeface="Arial"/>
              </a:rPr>
              <a:t>Какво се очаква от собствениците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подаване на заявлението и необходимите придружаващи докумен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внесена гаранционна сума от по 500 лв. в сметка на МРРБ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c00000"/>
                </a:solidFill>
                <a:latin typeface="Arial"/>
                <a:ea typeface="Arial"/>
              </a:rPr>
              <a:t>С какво помага </a:t>
            </a:r>
            <a:r>
              <a:rPr b="1" lang="ru-RU" sz="2100" spc="-1" strike="noStrike">
                <a:solidFill>
                  <a:srgbClr val="c00000"/>
                </a:solidFill>
                <a:latin typeface="Arial"/>
                <a:ea typeface="Arial"/>
              </a:rPr>
              <a:t>Проектният мениджър</a:t>
            </a:r>
            <a:r>
              <a:rPr b="1" lang="bg-BG" sz="2100" spc="-1" strike="noStrike">
                <a:solidFill>
                  <a:srgbClr val="c00000"/>
                </a:solidFill>
                <a:latin typeface="Arial"/>
                <a:ea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съдейства за изготвяне на заявлението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преглежда заявлението и го препраща за одобрение на МРРБ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c00000"/>
                </a:solidFill>
                <a:latin typeface="Arial"/>
                <a:ea typeface="Arial"/>
              </a:rPr>
              <a:t>Какво прави МРРБ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разглежда заявлението: одобрява/не одобря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сключва споразумение със Сдружениет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1649520" y="2041560"/>
            <a:ext cx="66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БЛАГОЕВГРАД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ж.к. “Запад”, бл.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42920" y="640224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Домакинства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30, </a:t>
            </a: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Енергопотребление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45% намаление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49440" y="1413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ект „Демонстрационно обновяване намногофамилни жилищни сгра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IMG_0902"/>
          <p:cNvPicPr/>
          <p:nvPr/>
        </p:nvPicPr>
        <p:blipFill>
          <a:blip r:embed="rId2"/>
          <a:stretch/>
        </p:blipFill>
        <p:spPr>
          <a:xfrm>
            <a:off x="971640" y="2494080"/>
            <a:ext cx="309564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Picture 3" descr="P1040316"/>
          <p:cNvPicPr/>
          <p:nvPr/>
        </p:nvPicPr>
        <p:blipFill>
          <a:blip r:embed="rId3"/>
          <a:stretch/>
        </p:blipFill>
        <p:spPr>
          <a:xfrm>
            <a:off x="5003640" y="2459160"/>
            <a:ext cx="3168720" cy="38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1649520" y="2041560"/>
            <a:ext cx="66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АРНА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в. „Владислав Варненчик”, бл. 406, вх. 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42920" y="640224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Домакинства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18, </a:t>
            </a: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Енергопотребление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55% намаление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LekovaD\Desktop\prezentaciq 2\varna\1_img_8507.jpg"/>
          <p:cNvPicPr/>
          <p:nvPr/>
        </p:nvPicPr>
        <p:blipFill>
          <a:blip r:embed="rId2"/>
          <a:stretch/>
        </p:blipFill>
        <p:spPr>
          <a:xfrm>
            <a:off x="168120" y="2852640"/>
            <a:ext cx="4643640" cy="3097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LekovaD\Desktop\prezentaciq 2\varna\09_img_0503.jpg"/>
          <p:cNvPicPr/>
          <p:nvPr/>
        </p:nvPicPr>
        <p:blipFill>
          <a:blip r:embed="rId3"/>
          <a:stretch/>
        </p:blipFill>
        <p:spPr>
          <a:xfrm>
            <a:off x="4903920" y="2852640"/>
            <a:ext cx="4127400" cy="3097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1549440" y="1413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ект „Демонстрационно обновяване намногофамилни жилищни сгра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1649520" y="204156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ОЛЯН ,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л. „Миньорска“ № 1, бл. „Строител“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042920" y="640224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Домакинства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30; </a:t>
            </a: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Енергопотребление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58% нама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549440" y="1413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ект „Демонстрационно обновяване намногофамилни жилищни сгра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IMG_0663"/>
          <p:cNvPicPr/>
          <p:nvPr/>
        </p:nvPicPr>
        <p:blipFill>
          <a:blip r:embed="rId2"/>
          <a:stretch/>
        </p:blipFill>
        <p:spPr>
          <a:xfrm>
            <a:off x="1177920" y="2492280"/>
            <a:ext cx="296244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Picture 5" descr="IMG_0561"/>
          <p:cNvPicPr/>
          <p:nvPr/>
        </p:nvPicPr>
        <p:blipFill>
          <a:blip r:embed="rId3"/>
          <a:stretch/>
        </p:blipFill>
        <p:spPr>
          <a:xfrm>
            <a:off x="5219640" y="2503440"/>
            <a:ext cx="2954520" cy="394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"/>
          <p:cNvSpPr/>
          <p:nvPr/>
        </p:nvSpPr>
        <p:spPr>
          <a:xfrm>
            <a:off x="1649520" y="204156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ОФИЯ ,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л. „Асен Златаров“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042920" y="640224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Домакинства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14; </a:t>
            </a: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Енергопотребление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56% нама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549440" y="1413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ект „Демонстрационно обновяване намногофамилни жилищни сгра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http://www.obnovendom.com/wp-content/uploads/galleries/sofia/azlatarov11/2_IMG_2038.jpg"/>
          <p:cNvPicPr/>
          <p:nvPr/>
        </p:nvPicPr>
        <p:blipFill>
          <a:blip r:embed="rId2"/>
          <a:stretch/>
        </p:blipFill>
        <p:spPr>
          <a:xfrm>
            <a:off x="1293840" y="2516040"/>
            <a:ext cx="29178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3" descr="http://www.obnovendom.com/wp-content/uploads/galleries/sofia/azlatarov11/1_P1040092.jpg"/>
          <p:cNvPicPr/>
          <p:nvPr/>
        </p:nvPicPr>
        <p:blipFill>
          <a:blip r:embed="rId3"/>
          <a:stretch/>
        </p:blipFill>
        <p:spPr>
          <a:xfrm>
            <a:off x="4859280" y="2538360"/>
            <a:ext cx="2881440" cy="38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"/>
          <p:cNvSpPr/>
          <p:nvPr/>
        </p:nvSpPr>
        <p:spPr>
          <a:xfrm>
            <a:off x="1649520" y="204156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ОФИЯ ,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л. „Чаталджа” № 54 (с ВЕ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042920" y="640224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Домакинства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19; </a:t>
            </a: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Енергопотребление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60% нама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549440" y="1413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ект „Демонстрационно обновяване намногофамилни жилищни сгра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://www.obnovendom.com/wp-content/uploads/galleries/sofia/chatalga54/1_IMG_2122.jpg"/>
          <p:cNvPicPr/>
          <p:nvPr/>
        </p:nvPicPr>
        <p:blipFill>
          <a:blip r:embed="rId2"/>
          <a:stretch/>
        </p:blipFill>
        <p:spPr>
          <a:xfrm>
            <a:off x="228600" y="2708280"/>
            <a:ext cx="4302000" cy="32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3" descr="http://www.obnovendom.com/wp-content/uploads/galleries/sofia/chatalga54/1_P1040142.jpg"/>
          <p:cNvPicPr/>
          <p:nvPr/>
        </p:nvPicPr>
        <p:blipFill>
          <a:blip r:embed="rId3"/>
          <a:stretch/>
        </p:blipFill>
        <p:spPr>
          <a:xfrm>
            <a:off x="4756320" y="2781360"/>
            <a:ext cx="420660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179280" y="1700280"/>
            <a:ext cx="8785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За информац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л. Св. Св. Кирил и Методий 17-19, 1202 Со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л: 02 9405 415; 02 9405 4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лектронна поща: eeproject@mrrb.government.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ww.mrrb.government.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ww.bgregio.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-14400" y="-17460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552680" y="1197000"/>
            <a:ext cx="734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Какво плаща държават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1889280"/>
            <a:ext cx="88200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10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хническото обследване; техническия паспорт;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   обследването за енергийна ефективн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хническия проек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ценката на съответствието на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оително-монтажните рабо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вторския и строителен надзо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ходите по въвеждането на обекта в експлоатац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ходите по набавянето на разрешителни докумен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100%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-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платата на проектния мениджъ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Реално държавата поема 70% от всички разходи за обновяване на сграда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619280" y="148428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во плащат собственицит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2421000"/>
            <a:ext cx="84247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ическия проек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ката на съответствието на проек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но-монтажните рабо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рския и строителен надзо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ходите по въвеждането на обекта в експлоатац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ходите по набавянето на разрешителни докуме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195640" y="1371600"/>
            <a:ext cx="686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зите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маляване на разходите за енерг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% за добрите стопани на сград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6000" y="2224080"/>
            <a:ext cx="685008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Намаляване на топлинните загуб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ез конструкцията на сградата и съхранение на топлината в нашето жилищ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Финансови икономии (поне 30-50%) и разчети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ългосрочно енергийно спестяван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Предсказуемост на месечните разход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 отопление. Ограничаване на енергийната бедност и зависимос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Инвестиция с ясен срок на възръщаемост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Край на частични дейност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неясен енергоспестяващ ефек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7099200" y="2278080"/>
            <a:ext cx="1832040" cy="1660680"/>
            <a:chOff x="7099200" y="2278080"/>
            <a:chExt cx="1832040" cy="1660680"/>
          </a:xfrm>
        </p:grpSpPr>
        <p:grpSp>
          <p:nvGrpSpPr>
            <p:cNvPr id="68" name="Group 8"/>
            <p:cNvGrpSpPr/>
            <p:nvPr/>
          </p:nvGrpSpPr>
          <p:grpSpPr>
            <a:xfrm>
              <a:off x="7099200" y="2278080"/>
              <a:ext cx="1832040" cy="1660680"/>
              <a:chOff x="7099200" y="2278080"/>
              <a:chExt cx="1832040" cy="1660680"/>
            </a:xfrm>
          </p:grpSpPr>
          <p:grpSp>
            <p:nvGrpSpPr>
              <p:cNvPr id="69" name="Group 20"/>
              <p:cNvGrpSpPr/>
              <p:nvPr/>
            </p:nvGrpSpPr>
            <p:grpSpPr>
              <a:xfrm>
                <a:off x="7099200" y="2278080"/>
                <a:ext cx="1832040" cy="1660680"/>
                <a:chOff x="7099200" y="2278080"/>
                <a:chExt cx="1832040" cy="1660680"/>
              </a:xfrm>
            </p:grpSpPr>
            <p:sp>
              <p:nvSpPr>
                <p:cNvPr id="70" name="Rectangle 33"/>
                <p:cNvSpPr/>
                <p:nvPr/>
              </p:nvSpPr>
              <p:spPr>
                <a:xfrm>
                  <a:off x="7099200" y="2278080"/>
                  <a:ext cx="1832040" cy="16606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34"/>
                <p:cNvSpPr/>
                <p:nvPr/>
              </p:nvSpPr>
              <p:spPr>
                <a:xfrm>
                  <a:off x="7441560" y="2907720"/>
                  <a:ext cx="1030680" cy="572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AutoShape 17"/>
                <p:cNvSpPr/>
                <p:nvPr/>
              </p:nvSpPr>
              <p:spPr>
                <a:xfrm>
                  <a:off x="7328160" y="2392560"/>
                  <a:ext cx="1259640" cy="515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AutoShape 18"/>
                <p:cNvSpPr/>
                <p:nvPr/>
              </p:nvSpPr>
              <p:spPr>
                <a:xfrm>
                  <a:off x="8358840" y="3137040"/>
                  <a:ext cx="317160" cy="128520"/>
                </a:xfrm>
                <a:prstGeom prst="rightArrow">
                  <a:avLst>
                    <a:gd name="adj1" fmla="val 50000"/>
                    <a:gd name="adj2" fmla="val 61695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AutoShape 19"/>
                <p:cNvSpPr/>
                <p:nvPr/>
              </p:nvSpPr>
              <p:spPr>
                <a:xfrm rot="18993600">
                  <a:off x="8072640" y="2563920"/>
                  <a:ext cx="317160" cy="128520"/>
                </a:xfrm>
                <a:prstGeom prst="rightArrow">
                  <a:avLst>
                    <a:gd name="adj1" fmla="val 50000"/>
                    <a:gd name="adj2" fmla="val 61695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8"/>
                <p:cNvSpPr/>
                <p:nvPr/>
              </p:nvSpPr>
              <p:spPr>
                <a:xfrm>
                  <a:off x="7099200" y="3480840"/>
                  <a:ext cx="1832040" cy="4579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AutoShape 21"/>
                <p:cNvSpPr/>
                <p:nvPr/>
              </p:nvSpPr>
              <p:spPr>
                <a:xfrm rot="5400000">
                  <a:off x="7862760" y="3460320"/>
                  <a:ext cx="317520" cy="128520"/>
                </a:xfrm>
                <a:prstGeom prst="rightArrow">
                  <a:avLst>
                    <a:gd name="adj1" fmla="val 50000"/>
                    <a:gd name="adj2" fmla="val 61765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40"/>
                <p:cNvSpPr/>
                <p:nvPr/>
              </p:nvSpPr>
              <p:spPr>
                <a:xfrm>
                  <a:off x="7670520" y="2449800"/>
                  <a:ext cx="57240" cy="4579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41"/>
                <p:cNvGrpSpPr/>
                <p:nvPr/>
              </p:nvGrpSpPr>
              <p:grpSpPr>
                <a:xfrm>
                  <a:off x="7671600" y="2507040"/>
                  <a:ext cx="56880" cy="57240"/>
                  <a:chOff x="7671600" y="2507040"/>
                  <a:chExt cx="56880" cy="57240"/>
                </a:xfrm>
              </p:grpSpPr>
              <p:sp>
                <p:nvSpPr>
                  <p:cNvPr id="79" name="Oval 43"/>
                  <p:cNvSpPr/>
                  <p:nvPr/>
                </p:nvSpPr>
                <p:spPr>
                  <a:xfrm>
                    <a:off x="7671600" y="2507040"/>
                    <a:ext cx="56880" cy="5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bg-BG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AutoShape 25"/>
                  <p:cNvSpPr/>
                  <p:nvPr/>
                </p:nvSpPr>
                <p:spPr>
                  <a:xfrm>
                    <a:off x="7671600" y="2507040"/>
                    <a:ext cx="56880" cy="38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bg-BG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" name="AutoShape 26"/>
                <p:cNvSpPr/>
                <p:nvPr/>
              </p:nvSpPr>
              <p:spPr>
                <a:xfrm rot="16210800">
                  <a:off x="7594920" y="2697840"/>
                  <a:ext cx="223200" cy="70200"/>
                </a:xfrm>
                <a:prstGeom prst="rightArrow">
                  <a:avLst>
                    <a:gd name="adj1" fmla="val 50000"/>
                    <a:gd name="adj2" fmla="val 7948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AutoShape 27"/>
              <p:cNvSpPr/>
              <p:nvPr/>
            </p:nvSpPr>
            <p:spPr>
              <a:xfrm>
                <a:off x="7099200" y="2278080"/>
                <a:ext cx="343440" cy="343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bg-BG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22"/>
              <p:cNvGrpSpPr/>
              <p:nvPr/>
            </p:nvGrpSpPr>
            <p:grpSpPr>
              <a:xfrm>
                <a:off x="8072640" y="3022560"/>
                <a:ext cx="171720" cy="457920"/>
                <a:chOff x="8072640" y="3022560"/>
                <a:chExt cx="171720" cy="457920"/>
              </a:xfrm>
            </p:grpSpPr>
            <p:sp>
              <p:nvSpPr>
                <p:cNvPr id="84" name="Rectangle 25"/>
                <p:cNvSpPr/>
                <p:nvPr/>
              </p:nvSpPr>
              <p:spPr>
                <a:xfrm>
                  <a:off x="8110800" y="3117960"/>
                  <a:ext cx="95400" cy="1526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Oval 26"/>
                <p:cNvSpPr/>
                <p:nvPr/>
              </p:nvSpPr>
              <p:spPr>
                <a:xfrm>
                  <a:off x="8110800" y="3022560"/>
                  <a:ext cx="76320" cy="763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7"/>
                <p:cNvSpPr/>
                <p:nvPr/>
              </p:nvSpPr>
              <p:spPr>
                <a:xfrm>
                  <a:off x="8072640" y="3117960"/>
                  <a:ext cx="19080" cy="1144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8"/>
                <p:cNvSpPr/>
                <p:nvPr/>
              </p:nvSpPr>
              <p:spPr>
                <a:xfrm>
                  <a:off x="8225280" y="3117960"/>
                  <a:ext cx="19080" cy="1144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29"/>
                <p:cNvSpPr/>
                <p:nvPr/>
              </p:nvSpPr>
              <p:spPr>
                <a:xfrm>
                  <a:off x="8110800" y="3289680"/>
                  <a:ext cx="38160" cy="1717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30"/>
                <p:cNvSpPr/>
                <p:nvPr/>
              </p:nvSpPr>
              <p:spPr>
                <a:xfrm>
                  <a:off x="8168040" y="3289680"/>
                  <a:ext cx="38160" cy="1717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Oval 31"/>
                <p:cNvSpPr/>
                <p:nvPr/>
              </p:nvSpPr>
              <p:spPr>
                <a:xfrm>
                  <a:off x="8072640" y="3461400"/>
                  <a:ext cx="7632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Oval 32"/>
                <p:cNvSpPr/>
                <p:nvPr/>
              </p:nvSpPr>
              <p:spPr>
                <a:xfrm>
                  <a:off x="8168040" y="3461400"/>
                  <a:ext cx="7632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23"/>
              <p:cNvSpPr/>
              <p:nvPr/>
            </p:nvSpPr>
            <p:spPr>
              <a:xfrm>
                <a:off x="7499880" y="3194280"/>
                <a:ext cx="114480" cy="2862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bg-BG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38"/>
              <p:cNvSpPr/>
              <p:nvPr/>
            </p:nvSpPr>
            <p:spPr>
              <a:xfrm>
                <a:off x="7213680" y="3251520"/>
                <a:ext cx="286200" cy="114480"/>
              </a:xfrm>
              <a:prstGeom prst="rightArrow">
                <a:avLst>
                  <a:gd name="adj1" fmla="val 50000"/>
                  <a:gd name="adj2" fmla="val 6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bg-BG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Rectangle 9"/>
            <p:cNvSpPr/>
            <p:nvPr/>
          </p:nvSpPr>
          <p:spPr>
            <a:xfrm rot="3023400">
              <a:off x="7499160" y="2564280"/>
              <a:ext cx="57240" cy="286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8759520" y="3423240"/>
              <a:ext cx="5724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7843320" y="3709800"/>
              <a:ext cx="97344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7843320" y="3022560"/>
              <a:ext cx="57240" cy="74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43"/>
            <p:cNvSpPr/>
            <p:nvPr/>
          </p:nvSpPr>
          <p:spPr>
            <a:xfrm>
              <a:off x="8587800" y="3767040"/>
              <a:ext cx="56880" cy="114480"/>
            </a:xfrm>
            <a:prstGeom prst="upArrow">
              <a:avLst>
                <a:gd name="adj1" fmla="val 50000"/>
                <a:gd name="adj2" fmla="val 5031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44"/>
            <p:cNvSpPr/>
            <p:nvPr/>
          </p:nvSpPr>
          <p:spPr>
            <a:xfrm>
              <a:off x="8416080" y="376704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45"/>
            <p:cNvSpPr/>
            <p:nvPr/>
          </p:nvSpPr>
          <p:spPr>
            <a:xfrm>
              <a:off x="8187120" y="376704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6"/>
            <p:cNvSpPr/>
            <p:nvPr/>
          </p:nvSpPr>
          <p:spPr>
            <a:xfrm flipV="1">
              <a:off x="8530560" y="359532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47"/>
            <p:cNvSpPr/>
            <p:nvPr/>
          </p:nvSpPr>
          <p:spPr>
            <a:xfrm flipV="1">
              <a:off x="8301600" y="359532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48"/>
            <p:cNvSpPr/>
            <p:nvPr/>
          </p:nvSpPr>
          <p:spPr>
            <a:xfrm flipV="1" rot="16200000">
              <a:off x="7929000" y="293580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9"/>
            <p:cNvSpPr/>
            <p:nvPr/>
          </p:nvSpPr>
          <p:spPr>
            <a:xfrm flipV="1">
              <a:off x="8759520" y="330876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173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124000" y="1405080"/>
            <a:ext cx="68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зите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ю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топлинен комфорт във всяко жил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0680" y="2192400"/>
            <a:ext cx="845496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Удължаване на живота и експлоатационната годност на сгради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По-висока цена на имо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Жилища с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интелигентно топлинно реш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Жилища с добър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естетичен ви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Ново поколени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нергоспестяващи строителни продукти и инсталационни системи и уреди с дълготраен ефек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добство и удовлетворение от използването на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интелигентни измервателни и регулиращи прибор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яна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в облика на блокове, квартали и градов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етап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165800" y="2679840"/>
            <a:ext cx="1822680" cy="165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1822320" y="150012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320920" y="1514520"/>
            <a:ext cx="63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зите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ъхранение на околната сред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0680" y="2192400"/>
            <a:ext cx="831204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Ефективно използване на горивата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 намалени емисии СО</a:t>
            </a:r>
            <a:r>
              <a:rPr b="0" lang="bg-BG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 тяхното изгаря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Нова култура на потребление на енергия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 нова визия за стопанисването на сград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1967040" y="1484280"/>
            <a:ext cx="517320" cy="517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684360" y="3759120"/>
            <a:ext cx="4500360" cy="2917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6084720" y="4714920"/>
            <a:ext cx="24480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547640" y="1484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ви мерки за енергийна ефективност ще се финансир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79280" y="2276640"/>
            <a:ext cx="878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ДОГРА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прозорци в жилищата и общите части, общи входни вр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ИЗОЛ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оплинна на външни стени, покриви, подове – сутерени 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КОТЛИ, ТЕРМОПОМП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ремонт, модернизация или подмя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ЛОКАЛНИ ОТОПЛИТЕЛНИ СИСТЕМ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ремонт, модернизация или подмян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ВЕ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възобновяеми енергийни източници) – слънчеви системи за осигуряване на енергия за собствени (битови) нуж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ОТОПЛИТЕЛНА ИЛИ ОХЛАДИТЕЛ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 - ремонт или подмяна на инсталацията в общите ч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1547640" y="1484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ви мерки за енергийна ефективност ще се финансир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79280" y="2276640"/>
            <a:ext cx="878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ДОГРА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прозорци в жилищата и общите части, общи входни вр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ИЗОЛ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оплинна на външни стени, покриви, подове – сутерени 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КОТЛИ, ТЕРМОПОМП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ремонт, модернизация или подмя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ЛОКАЛНИ ОТОПЛИТЕЛНИ СИСТЕМ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ремонт, модернизация или подмян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ВЕ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възобновяеми енергийни източници) – слънчеви системи за осигуряване на енергия за собствени (битови) нуж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ОТОПЛИТЕЛНА ИЛИ ОХЛАДИТЕЛ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 - ремонт или подмяна на инсталацията в общите ч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1:29:25Z</dcterms:created>
  <dc:creator>PopovI</dc:creator>
  <dc:description/>
  <dc:language>en-US</dc:language>
  <cp:lastModifiedBy>Dessislava Yordanova</cp:lastModifiedBy>
  <cp:lastPrinted>2012-04-12T06:30:43Z</cp:lastPrinted>
  <dcterms:modified xsi:type="dcterms:W3CDTF">2012-04-12T10:14:11Z</dcterms:modified>
  <cp:revision>541</cp:revision>
  <dc:subject/>
  <dc:title>Slide 1</dc:title>
</cp:coreProperties>
</file>