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B765-2B82-44D0-913E-B46B68D2CE36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E339-1EA2-4324-81AF-7E38B3AE207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40A-EF46-4B5B-BC67-A03EDF33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5F3-3D0B-407E-BC6C-9802B550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894-CDF3-4B61-A308-98D718DC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0F1-FC92-4D9E-9F45-F0F32E93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A843-0B9A-4A9E-AEBB-B5D5DF1B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D3DA-BD00-4029-AC1E-A5C0668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F62A-3DE5-4FA8-BF47-392D1575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AC91-4173-4124-8F09-47EA469C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50D9-B806-4DA7-84E7-E99E9B21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B35F-DFDB-4A89-80A8-2583DE69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9A8D-204C-4CEC-8B22-3381B8B3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263-D767-41B9-B944-4490BD94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0652-7E37-4308-9001-156C07E5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A13C-40FE-4B5A-8B21-49DE7658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9184-A337-4027-AE4E-625EA585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E248-3166-48AD-89D2-3E53F75B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6B49-187C-4DAC-8115-AE098DB2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8D1E5-8DDF-44C3-B498-75BA466E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311F-7365-4133-819B-5AF9C49B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14B4-58AF-4C41-8D78-C1F425F7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8208-55C0-4F57-A749-1C281F9B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2899-E3C2-4D5C-83B9-3FC3FB21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902-B670-48B8-983B-C5189D49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44A0-7183-4D4E-9DB8-5D249916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F0DE-0277-421B-811E-E145591E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3800-D9FD-4867-95D3-71A7AC1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0613-1AD2-46F7-9B0A-CCF996C3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C0A1B-CCE6-442E-9890-4D23B1A7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73B8-33D3-41BC-B440-A8457867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A756-3064-4417-8976-54E2AC8D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08A-91EB-41CF-8F9B-9DCCE54B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8B4-B201-4488-84B4-9C62E7AE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3C3-148E-4C55-B88F-73C40D7F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732-5C87-43AA-8D04-652EEB72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4AE-BE51-43DB-B30C-EB2226A5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5C3-3352-4A93-B130-BE9B901E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C285-E5D4-4BD2-A933-7D2DE5582CE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C5FF-B487-4128-A2C2-9F6B5C32CE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02D7-1908-4F3B-AED1-169BA43BADC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3500280"/>
            <a:ext cx="6226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0"/>
          <p:cNvSpPr/>
          <p:nvPr/>
        </p:nvSpPr>
        <p:spPr>
          <a:xfrm>
            <a:off x="666720" y="4653000"/>
            <a:ext cx="57056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Sylfaen"/>
              </a:rPr>
              <a:t>ПРОЕКТ НА ИНДИКАТИВНА ГОДИШНА РАБОТНА ПРОГРАМА ЗА 201</a:t>
            </a: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6</a:t>
            </a:r>
            <a:r>
              <a:rPr b="1" lang="bg-BG" sz="2400" spc="-1" strike="noStrike">
                <a:solidFill>
                  <a:srgbClr val="ff0000"/>
                </a:solidFill>
                <a:latin typeface="Sylfae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«Регионална здравна инфраструктура» (ПО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-7920" y="140652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егионална здравна инфраструктур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септември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63 502 132,68 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ен 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фици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инистерство на здравеопазване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рнизацията на системата за спешна медицинска помощ ще се извърши с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дин голям проек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ъответствие с член 100 от Регламент (ЕС) № 1303/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омагане на спешните отделения в областните многопрофилни болници да развият капацитет за оказване на спешна медицинска помощ, строителство, реконструкция, ремонт, оборудване и обзавеждане  на ЦСМП и техните филиали, 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купуване на съвременни санитарни превозни средства, техническа подкрепа за изпълнението на големия проект и на имащите отношение критерии на предварително условие 9.3 и осигуряване на усточйивост на инвестици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5 «Регион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лна социална инфраструктура» (ПО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2"/>
          <p:cNvSpPr/>
          <p:nvPr/>
        </p:nvSpPr>
        <p:spPr>
          <a:xfrm>
            <a:off x="0" y="1407960"/>
            <a:ext cx="910908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егионална социална инфраструктур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й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99 468 980,19 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ната инфраструктур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дец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подкрепя в съответствие с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ционалната стратегия „Визия за деинституционализация на децата в Република България“ с хоризонт 2025 и Плана за действие за изпълнението 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ната инфраструктур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възрастни хор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подкрепя в съответствие с Плана към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ционалната стратегия за дългосрочна гриж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те бенефициенти и обхвата на инвестициит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ще бъдат определени в Насоките за кандидатстване след изготвяне на посочените по-горе документи от страна на Министерство на труда и социалната политика, което е отговорна институция за провеждане на цялостната национална политика в социалната сфе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лед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зето решение за определяне на фокуса на интервенци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6 «Регионален туризъ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ПО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tent Placeholder 2"/>
          <p:cNvSpPr/>
          <p:nvPr/>
        </p:nvSpPr>
        <p:spPr>
          <a:xfrm>
            <a:off x="0" y="139536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азвитие на туристически атракци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й 2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инансова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крепа се осигурява чрез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омбинирано финансиране на БФП и финансови инструмент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Общият размер на средствата за подкрепа на регионалния туризъм по ОПРР 2014-2020 се разпределя в съотношение 50% БФП и 50% финансов инстр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за БФ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98 530 688,35 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средствата за туризъм (БФП+фин.инструмент) – 197 млн.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МК, общини, институции на вероизповеданията и техни местни по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Развитие на обекти н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ултурното наследство от национално и световно знач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омагане развитието на туристически продукти, развитие на туристическата инфраструктура, необходима за нуждите на атракциите, развитие на допълнителна дребномащабна техническа инфраструктура 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8 «Техническа помощ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ПО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ontent Placeholder 2"/>
          <p:cNvSpPr/>
          <p:nvPr/>
        </p:nvSpPr>
        <p:spPr>
          <a:xfrm>
            <a:off x="108000" y="1484280"/>
            <a:ext cx="8712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Бюджетна линия за АП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януари 2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за БФ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2 045 220,00 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ен бенефици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Аген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„Пътна инфраструктур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8720" indent="-28584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ждане 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пециализирани обуч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бластта на ЕСИФ за програмен период 2014-20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8720" indent="-285840" algn="just"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ставка на специализирано техническо оборудване и софтуе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одернизиране на централната администрация на АПИ и 27 областни пътни управления във връзка с изпълнението на Приоритетна ос 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„Регионална пътна инфраструктура“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8 «Техническа помощ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ПО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tent Placeholder 2"/>
          <p:cNvSpPr/>
          <p:nvPr/>
        </p:nvSpPr>
        <p:spPr>
          <a:xfrm>
            <a:off x="98280" y="1317600"/>
            <a:ext cx="88981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Бюджетна линия за конкретните бенефициенти по приоритетна ос 3 - МОН, ММС, МК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януари 2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за БФ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650 000,00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 –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стерство на образованието и науката, Министерство на младежта и спорта, Министерство на култу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3556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учение на персона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работни срещи, семинари, обмен на добри практики и опит и др.) с конкретна насоченост към инвестициите в рамките на приоритетна ос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3556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рганизиране на конференции, „пътуващи“ изложби и семина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информационни кампании, анализи на общностите, кръгли маси и фокус групи, публикации, анкети, проучвания, семинари за стимулиране на гражданската подкрепа и отговорност за предлаганите инвест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дложение за решение на К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270000" y="1317600"/>
            <a:ext cx="847872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итетът за наблюдение на Оперативна програма «Региони в растеж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14-2020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брява предложената Индикативна годишна работна програма за предстоящи процедури за безвъзмездна финансова помощ през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042920" y="1844640"/>
            <a:ext cx="7274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ч.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anita Birazova</cp:lastModifiedBy>
  <cp:lastPrinted>2015-04-28T17:44:28Z</cp:lastPrinted>
  <dcterms:modified xsi:type="dcterms:W3CDTF">2015-11-20T13:27:47Z</dcterms:modified>
  <cp:revision>1195</cp:revision>
  <dc:subject/>
  <dc:title>Diapositiva 1</dc:title>
</cp:coreProperties>
</file>