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C4E3-A627-44DF-BA1C-4C2F7F869AC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5571-F025-40D3-83B1-A258BEAB928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DDC-F78C-40DD-8E47-936B2D3A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123-B83C-4FA6-A5F0-2009AE58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C66-1CDB-45C8-A2EC-062835A2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E07-260A-4648-9634-B83A4AD0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542A-CAAC-41F0-864B-C9F73099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9617-49CE-4FC8-80DB-8ABA6945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42CD-D2E4-4827-A9E9-612E373A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A53F-7ABB-4075-9318-BEC124C8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5401-1568-4C8C-B1F1-EE089BFA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E6E2-FDEF-4987-B0B4-194BDB6A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2CD6-9C7A-4CD6-AB99-88F6B1CB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75C-FFBF-4AA8-877C-428161BB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EC08-66E7-4B7B-8662-DF8CDE87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2CA7-E658-4DFB-B894-26A30F57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49F1-EC60-45CB-9F2E-E8E96375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1608-18D3-4729-87C8-1F01226C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49B0-6C2C-4CD8-84C6-8544DC58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6491-5F4F-4362-B760-6E21D07A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12AEB-892E-4CAE-91BC-882B73D0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FAC7-8AEF-4B1C-A582-0D70FA09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C030-494C-4894-A762-8D9EDF4F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3A4BD-E33C-49E4-8528-970965F1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957-F6F1-43BA-9926-AC7A6D20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0EA42-1E6D-4F04-A18F-4B317FC9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E5164-C59C-44DC-A813-4945904B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C58D3-588E-4223-A17B-4C56F60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7FAF-9D99-4CD7-9393-5AE0F03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D610-5A10-48E9-B632-0BD4DA9C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1D76E-FD65-4F23-B7F1-59527A989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ED70-8C99-4DB2-843B-87FD5BF8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288-AB69-4DDD-9F6D-5E403E6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3CC-90F8-4E07-BB39-7E74F2F1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354-5C02-4B54-A412-0BA3BDD5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DB8-BF5F-4002-85F3-52D866A5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64BD-241A-49E2-BB2C-56016F55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385-3B49-4E3A-ABF5-A26A88AD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2B6-0B84-4E06-96CC-8E5ACCDB8B1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BD3-40C9-49C7-B203-BED261C1610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2DCA-F117-4655-B78D-C2E8E579365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3500280"/>
            <a:ext cx="622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666720" y="4653000"/>
            <a:ext cx="57056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ПРОЕКТ НА ИНДИКАТИВНА ГОДИШНА РАБОТНА ПРОГРАМА ЗА 201</a:t>
            </a: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6</a:t>
            </a: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«Регионална здравна инфраструктура» (ПО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-7920" y="140652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егионална здрав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септември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3 502 132,68 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ен 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фици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инистерство на здравеопазване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рнизацията на системата за спешна медицинска помощ ще се извърши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дин голям прое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ъответствие с член 100 от Регламент (ЕС) № 1303/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магане на спешните отделения в областните многопрофилни болници да развият капацитет за оказване на спешна медицинска помощ, строителство, реконструкция, ремонт, оборудване и обзавеждане  на ЦСМП и техните филиали, 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упуване на съвременни санитарни превозни средства, техническа подкрепа за изпълнението на големия проект и на имащите отношение критерии на предварително условие 9.3 и осигуряване на усточйивост на инвестици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5 «Регион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лна социална инфраструктура» (ПО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0" y="1407960"/>
            <a:ext cx="910908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егионална социал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й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99 468 980,19 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ната инфраструктур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дец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дкрепя в съответствие с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ционалната стратегия „Визия за деинституционализация на децата в Република България“ с хоризонт 2025 и Плана за действие за изпълнението 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ната инфраструктур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възрастни хор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дкрепя в съответствие с Плана към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ционалната стратегия за дългосрочна гриж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те бенефициенти и обхвата на инвестициит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бъдат определени в Насоките за кандидатстване след изготвяне на посочените по-горе документи от страна на Министерство на труда и социалната политика, което е отговорна институция за провеждане на цялостната национална политика в социалната сфе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лед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зето решение за определяне на фокуса на интервенци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6 «Регионален туризъ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ПО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tent Placeholder 2"/>
          <p:cNvSpPr/>
          <p:nvPr/>
        </p:nvSpPr>
        <p:spPr>
          <a:xfrm>
            <a:off x="0" y="139536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азвитие на туристически атракци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й 2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нсова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крепа се осигурява чрез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бинирано финансиране на БФП и финансови инструмен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щият размер на средствата за подкрепа на регионалния туризъм по ОПРР 2014-2020 се разпределя в съотношение 50% БФП и 50% финансов инстр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за БФ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98 530 688,35 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средствата за туризъм (БФП+фин.инструмент) – 197 млн.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МК, общини, институции на вероизповеданията и техни местни по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Развитие на обекти н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ултурното наследство от национално и световно знач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магане развитието на туристически продукти, развитие на туристическата инфраструктура, необходима за нуждите на атракциите, развитие на допълнителна дребномащабна техническа инфраструктура 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8 «Техническа помощ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ПО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ontent Placeholder 2"/>
          <p:cNvSpPr/>
          <p:nvPr/>
        </p:nvSpPr>
        <p:spPr>
          <a:xfrm>
            <a:off x="108000" y="1484280"/>
            <a:ext cx="8712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Бюджетна линия за АП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януари 2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за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 045 220,00 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ен бенефици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Агенц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„Път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-28584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ждане 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пециализирани обуч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бластта на ЕСИФ за програмен период 2014-20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-285840" algn="just">
              <a:spcBef>
                <a:spcPts val="1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ставка на специализирано техническо оборудване и софтуе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модернизиране на централната администрация на АПИ и 27 областни пътни управления във връзка с изпълнението на Приоритетна ос 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„Регионална пътна инфраструктура“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8 «Техническа помощ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ПО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 Placeholder 2"/>
          <p:cNvSpPr/>
          <p:nvPr/>
        </p:nvSpPr>
        <p:spPr>
          <a:xfrm>
            <a:off x="98280" y="1317600"/>
            <a:ext cx="88981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Бюджетна линия за конкретните бенефициенти по приоритетна ос 3 - МОН, ММС, МК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януари 2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за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650 000,00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 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стерство на образованието и науката, Министерство на младежта и спорта, Министерство на култу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3556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учение на персона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работни срещи, семинари, обмен на добри практики и опит и др.) с конкретна насоченост към инвестициите в рамките на приоритетна ос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3556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рганизиране на конференции, „пътуващи“ изложби и семина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информационни кампании, анализи на общностите, кръгли маси и фокус групи, публикации, анкети, проучвания, семинари за стимулиране на гражданската подкрепа и отговорност за предлаганите инвест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дложение за решение на 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270000" y="1317600"/>
            <a:ext cx="847872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итетът за наблюдение на Оперативна програма «Региони в растеж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14-2020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обрява предложената Индикативна годишна работна програма за предстоящи процедури за безвъзмездна финансова помощ през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042920" y="1844640"/>
            <a:ext cx="727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ч.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anita Birazova</cp:lastModifiedBy>
  <cp:lastPrinted>2015-04-28T17:44:28Z</cp:lastPrinted>
  <dcterms:modified xsi:type="dcterms:W3CDTF">2015-11-20T13:27:47Z</dcterms:modified>
  <cp:revision>1195</cp:revision>
  <dc:subject/>
  <dc:title>Diapositiva 1</dc:title>
</cp:coreProperties>
</file>