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AFA3-7981-4D1B-9526-9733EAD0FBE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7A09-810B-4568-9E1A-502453B5875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6A3-540F-4FEF-A3ED-EA3F939D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9BA-9F04-4707-9E0E-0E3878C1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B85-6AC2-43D4-BBC2-598738F3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B88-A489-4528-8826-076B898C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A95-E9B5-4FEE-8EFF-998B803B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549-D912-4905-ABA5-E0951851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D70-D9B3-46AC-96E8-DA7F182F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1E2-2D79-4E47-8C04-1B30B7B9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1A7-E4E9-40B4-B21D-3EC9F6D1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A99-53A8-4BCD-8901-FB7A919F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D06-01F9-440F-8F67-FC79BFF6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449-82D3-451F-AE20-65D9EF40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7312-070D-4903-9502-77F03F5C35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108360" y="4005360"/>
            <a:ext cx="6264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ПРОМЯНА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ИТЕРИИ ЗА ИЗБОР НА ОПЕРАЦИИ ПО ПРИОРИТЕТНА ОС 8 „ТЕХНИЧЕСКА ПОМОЩ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0"/>
          <p:cNvSpPr/>
          <p:nvPr/>
        </p:nvSpPr>
        <p:spPr>
          <a:xfrm>
            <a:off x="284040" y="5383080"/>
            <a:ext cx="6567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4067280" y="24444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7524720" y="210960"/>
            <a:ext cx="1487520" cy="1198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МЕНИ В КРИТЕРИИТЕ ЗА </a:t>
            </a:r>
            <a:br>
              <a:rPr sz="2000"/>
            </a:b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О 8 „ТЕХНИЧЕСКА ПОМОЩ“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483920"/>
            <a:ext cx="8856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лед проведена  писмена процедура с  Решение от 30.07.2015 г. на КН на ОПРР 2014-2020 г. е одобрена Методология и критерии за избор на операции по Приоритетна ос 8 „Техническа помощ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еобходими промени в одобрените критерии по ПО 8 „Техническа помощ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В „Допустими кандидати“ отпа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нистерството на земеделието и хранит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ади промяна в Закона за предучилищното и училищното образование, съгласно която заварените до влизането в сила на закона професионални гимназии (в сила от 01.08.2016 г.), финансирани от Министерството на земеделието и храните, стават общинс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зи връзка Министерство на земеделието и храните няма да бъде конкретен бенефициент по Приоритетна ос 3 „Регионална образователна инфраструктура“ на ОПРР 2014 -2020 г. и съответно се изключва като конкретен бенефициент (допустим кандидат) чрез бюджетна линия по Приоритетна ос 8 „Техническа помощ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63440" y="1628640"/>
            <a:ext cx="872964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устими дейности“ към дейност „наемане и поддържане на дълготрайни материални активи за нуждите на УО на ОПРР 2014-2020“ се добавя  „закупуване“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което дейността се променя на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купуване и/или наемане и поддържане на дълготрайни материални активи за нуждите на УО на ОПРР 2014-2020 г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мките на текущата си работа УО ОПРР 2014-2020 г. се нуждае от закупуване на дълготрайни материални активи (компютри, транспортни средства, офис оборудване и др.) за извършване на дейности по управление, наблюдение, контрол, публичност на ОПРР 2014-2002 г. и други оперативни нуж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зи връзка добавянето на закупуване е целесъобразно от гледна точка изпълняване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ите на Управляващ орган на ОПРР 2014-20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МЕНИ В КРИТЕРИИТЕ ЗА </a:t>
            </a:r>
            <a:br>
              <a:rPr sz="2000"/>
            </a:b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О 8 „ТЕХНИЧЕСКА ПОМОЩ“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39640" y="1366920"/>
            <a:ext cx="8209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ahoma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-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2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anita Birazova</cp:lastModifiedBy>
  <dcterms:modified xsi:type="dcterms:W3CDTF">2015-11-20T14:46:05Z</dcterms:modified>
  <cp:revision>815</cp:revision>
  <dc:subject/>
  <dc:title>Diapositiva 1</dc:title>
</cp:coreProperties>
</file>