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D400-511A-4ECB-844A-D240AC1C237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988F-73E3-4861-9519-9D61C089548A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2A76-F422-4296-82E8-E66AF3FE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F85-6D64-421E-9329-F2718A76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F0C-B0B9-4719-9A8B-5C87BFBF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FB5-7116-498D-8B02-3D1C863B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564-5BA7-4AE7-9F38-CE1EFA4E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696B-4FAB-40CA-90E4-1622AE7E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97A-ED27-4AFF-9D3F-32FCF4FC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E5CC-81F7-486E-BBEA-1135DABF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5A3A-A2AF-48E2-BA0E-E588296F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09F0-9CD7-4780-A6C8-E5735AC6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CE1-DEF0-4CB2-83AB-E88F1392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5AF-9D4F-4436-89AC-482CAEF1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C8BB-8AF7-4262-BABC-647E865207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108360" y="4005360"/>
            <a:ext cx="6264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ПРОМЯНА В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ИТЕРИИ ЗА ИЗБОР НА ОПЕРАЦИИ ПО ПРИОРИТЕТНА ОС 8 „ТЕХНИЧЕСКА ПОМОЩ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0"/>
          <p:cNvSpPr/>
          <p:nvPr/>
        </p:nvSpPr>
        <p:spPr>
          <a:xfrm>
            <a:off x="284040" y="5383080"/>
            <a:ext cx="65674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4067280" y="24444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4"/>
          <a:stretch/>
        </p:blipFill>
        <p:spPr>
          <a:xfrm>
            <a:off x="7524720" y="210960"/>
            <a:ext cx="1487520" cy="11988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ОМЕНИ В КРИТЕРИИТЕ ЗА </a:t>
            </a:r>
            <a:br>
              <a:rPr sz="2000"/>
            </a:b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О 8 „ТЕХНИЧЕСКА ПОМОЩ“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8000" y="1483920"/>
            <a:ext cx="8856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лед проведена  писмена процедура с  Решение от 30.07.2015 г. на КН на ОПРР 2014-2020 г. е одобрена Методология и критерии за избор на операции по Приоритетна ос 8 „Техническа помощ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Необходими промени в одобрените критерии по ПО 8 „Техническа помощ“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В „Допустими кандидати“ отпад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нистерството на земеделието и храните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ади промяна в Закона за предучилищното и училищното образование, съгласно която заварените до влизането в сила на закона професионални гимназии (в сила от 01.08.2016 г.), финансирани от Министерството на земеделието и храните, стават общинс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ази връзка Министерство на земеделието и храните няма да бъде конкретен бенефициент по Приоритетна ос 3 „Регионална образователна инфраструктура“ на ОПРР 2014 -2020 г. и съответно се изключва като конкретен бенефициент (допустим кандидат) чрез бюджетна линия по Приоритетна ос 8 „Техническа помощ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63440" y="1628640"/>
            <a:ext cx="8729640" cy="40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пустими дейности“ към дейност „наемане и поддържане на дълготрайни материални активи за нуждите на УО на ОПРР 2014-2020“ се добавя  „закупуване“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което дейността се променя на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Закупуване и/или наемане и поддържане на дълготрайни материални активи за нуждите на УО на ОПРР 2014-2020 г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мките на текущата си работа УО ОПРР 2014-2020 г. се нуждае от закупуване на дълготрайни материални активи (компютри, транспортни средства, офис оборудване и др.) за извършване на дейности по управление, наблюдение, контрол, публичност на ОПРР 2014-2002 г. и други оперативни нужд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ази връзка добавянето на закупуване е целесъобразно от гледна точка изпълняване н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функциите на Управляващ орган на ОПРР 2014-202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ОМЕНИ В КРИТЕРИИТЕ ЗА </a:t>
            </a:r>
            <a:br>
              <a:rPr sz="2000"/>
            </a:b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О 8 „ТЕХНИЧЕСКА ПОМОЩ“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539640" y="1366920"/>
            <a:ext cx="82090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Tahoma"/>
              </a:rPr>
              <a:t>БЛАГОДАРЯ 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Мария Стане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Началник-отдел „Изпълнение на програмните приоритет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02 деке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Yanita Birazova</cp:lastModifiedBy>
  <dcterms:modified xsi:type="dcterms:W3CDTF">2015-11-20T14:46:05Z</dcterms:modified>
  <cp:revision>815</cp:revision>
  <dc:subject/>
  <dc:title>Diapositiva 1</dc:title>
</cp:coreProperties>
</file>