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DC4-6E5C-4B56-B644-ED670066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ADA-9E01-4355-8630-E99F1E37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9E9D-E64A-4380-B38A-7E274F8E0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243-12CC-4610-B55C-74F8E101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B68-DCF8-47CB-9343-A0E4B650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DC3-FCE8-4D4F-88CC-D32500C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35C-6576-4A28-9DCC-D0330498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4989-6482-40B2-A0FC-791D5A85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858-85FE-45FF-BC57-C24DB30D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029-69DA-40A1-9954-B9EB0484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144-D3CB-4FD9-8DA9-E88258E9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594-07CC-4117-9957-21164961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C55B-8B40-421C-9A17-CCC3914557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3789360"/>
            <a:ext cx="545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Методология и к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ритерии за избор на операции по процедура BG16RFOP001-7.001 ”Регионални пътища“</a:t>
            </a: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74760" y="5635800"/>
            <a:ext cx="51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5640" y="274320"/>
            <a:ext cx="633564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Основн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араметри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Приоритетна ос 7 «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егионална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ътна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инфраструкту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293480"/>
            <a:ext cx="9036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1360" indent="-261360" algn="just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пецифична цел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свързаността и достъпността до TEN-T мрежата за товари и пътници чрез строителство, реконструкция и рехабилитация на първокласни, второкласни и третокласни път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Бюджет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80 461 585,94 лева (194 526 920,00 евро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Бенефициент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генция „Пътна инфраструк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Допустими дейности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троителство, реконструкция и рехабилитация на първокласни и второкласни (извън Трансевропейската транспортна мрежа) и третокласни пътища; Инженерни решения за зелена инфраструктура, препятстващи и насочващи съоръжения (шумозаглушителни еко стени, огради), конструктивни съоръжения за пресичане под и над инфраструктурата (еко-надлези за диви животни, тунели за земноводни и дребни животни)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1360" indent="-26136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Допустими разходи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ходи за СМР, проектиране, авторски/строителен надзор, оценка на съответствието, одит по пътна безопаснос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ценка на въздействието върху пътната безопаснос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купуване на земя и/или придобиване на ограничени вещни права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само за ново строителств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, въвеждане в експлоатация, разходи за услуги, пряко свързани с проекта 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еоложки/геодезически проучавания, предпроектни проучвания, АРП, анализ на потребностите, ОВОС и др.)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рганизация и управление, публичност, финансов оди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08000" y="3636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7596360" y="44280"/>
            <a:ext cx="1444320" cy="116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0520" y="1411200"/>
            <a:ext cx="8944200" cy="44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съответствие –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верка за представяне на всички задължително изискуеми документи за кандидатстване, кат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 з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ътната отсечка има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ботен/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хнически проек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готвен съгласно ЗУТ, Наредб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ответствие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с съществените изисквания към строежи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пис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договор за СМР з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вестиционния проект ще има влязло в сила Разрешение за строеж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новище на РИОСВ/МОСВ з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ходимостта от провеждане на съгласувателни процедури по ред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ЗОО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Закона за биологичното разнообразие и Закона за защитените територ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ъответните решения, в случай на необходимо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ът включва всички необходими мерки за осигуряване на достъпна архитектурна среда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при преминаване през населено мя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9532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ът предвижд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ени предложения 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шумозащит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рк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където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е приложим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съответствие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000" y="1317600"/>
            <a:ext cx="8858160" cy="59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Общинския съве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елементите на подземната техническа инфраструктура под обекта на интервенция са напълно изградени/реконструирани към момента на кандидатстване и не се предвижда планово изграждане/реконструкция до 5 години след приключване на дейностите по проекта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, че обектът на интервенция преминава през населено мя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и от бенефициен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че проектът не е финансиран от други публични източници; не генерира приходи; съгласие за предоставяне на данни от НСИ към У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требностите, Оценка на въздействието върху пътната безопасност, Одит за пътна безопасн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 на увеличаване на габарита на пътното платн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дпроектно проучване, Анализ разходи и ползи, ОВОС, Оценка на въздействието върху пътната безопасност, Одит по пътна безопаснос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 на ново строителств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3"/>
          <a:stretch/>
        </p:blipFill>
        <p:spPr>
          <a:xfrm>
            <a:off x="75992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1413000"/>
            <a:ext cx="910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– проверка/оценка на следните 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ътната отсечк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е част от приоритизирания списък с обекти (от 1-24 място)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ътната отсечка осигуряв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пряка връзка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с второстепенни и третостепенни пътни възли с TEN-T мрежа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ътната отсечка е включена в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Средносрочната рамкова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 оперативна програма за изпълнение на Стратегия за развитие на пътната инфраструктура в Република България 2014-2020 г.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Проектът НЕ е физически завършен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ли изцяло осъществен преди подаването му за финансиран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одължителност на изпълнение на проек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едвидени са мерки за информация и комуникация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оектното предложение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е в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съответствие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 с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хоризонталните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 политики на ЕО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устойчи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развит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оектното предложение допринася за изпълнението н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Стратегията на ЕС за Дунавския реги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2"/>
          <a:stretch/>
        </p:blipFill>
        <p:spPr>
          <a:xfrm>
            <a:off x="7572240" y="428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4920" y="1446120"/>
            <a:ext cx="88581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техническа и финансова оценка 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оценка на качеството на проекта, включваща критерии като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Целта на проектното предложение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е ясно формулирана и съответства на целта на приоритетната ос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ът доказв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ефективност на вложените ресурси спрямо целените резултати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сигуряване на достъп до летище, ферибот/пристанище или жп гара, спестено време на километър готов път, технико-експлоатационно състояние на пътя)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5 х 2 т.);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ното предложение допринася з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кономическото и социално развити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на региона 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</a:rPr>
              <a:t>ролята на пътя за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величаване на пътникопотока и товаропотока; подобряване на регионална достъпност, осигуряване на връзки между икономически и/или административни центрове, в т.ч. между областен център и град, който не е областен център, подобряване достъпа до обекти с туристически потенциал, повишаване безопасността на движе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5 х 2 т.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7583400" y="32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4920" y="1446120"/>
            <a:ext cx="885816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14240" indent="-3524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Дейностит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по проекта с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писани подробно и обхватът и времетраенето им е ясен; планът за действие е реалистичен; разпределението на дейности във времето е балансирано и позволява гладко управление и изпълнение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2440" algn="just"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ът предвижд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ясна институционална организация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управление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лъжностите на членовете на екипа са подробно описани, предвидени са ефективни механизми за мониторинг и контрол на изпълнителите, предвидена е възможност за осъществяване на самооценка и периодично отчитане на напредъка по изпълнението на проектните дейности)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352440" algn="just">
              <a:spcBef>
                <a:spcPts val="18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Бюджетните пера са ясни и детайлн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и са необходими и достатъчни за изпълнение на проект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ложените средства са добре разпределени за разходване във времето)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5 т.)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7583400" y="32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9640" y="1366920"/>
            <a:ext cx="820908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ИПП “, ГД „ПРР 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%USERNAME%</cp:lastModifiedBy>
  <dcterms:modified xsi:type="dcterms:W3CDTF">2015-11-23T13:56:13Z</dcterms:modified>
  <cp:revision>833</cp:revision>
  <dc:subject/>
  <dc:title>Diapositiva 1</dc:title>
</cp:coreProperties>
</file>