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0E64-B5C3-473B-B8AB-044BE99191E4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6017-09AF-4DCD-A168-02E8400CE23E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C336-6396-4FA7-BAB0-AB2C77AB5E30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1350-1886-4860-98B0-094F8F1BE88D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0B65-C817-4B10-BC95-CBF7EF53202F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31C3-B199-48A2-AB5C-614F563C91D3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3E5F-3829-431C-A811-260E84B1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80A3-3747-471E-955F-954F6AF1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82C2-12B9-4F6E-BBE9-768D6074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CAAB-1B34-4718-BC64-A5627D58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5290-0CBC-40C2-9720-01382606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B16A-AA7D-460F-B22F-8CB1ECDC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101C-9CAE-4A98-96B4-2ADC92F4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8F9C-6255-4079-AF1F-44250D40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0AF7-E4F6-442F-914E-EC87E560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4183-A5C0-4C14-8064-3C89949D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8D86-A37B-4E0D-A49A-EBDD8677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7BDC-49D0-40AE-9B18-9A01531B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E3DD-85F0-4EEF-B8C5-68B5187518C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4005360"/>
            <a:ext cx="6084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ЕТОД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ОЛОГИЯ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И КРИТЕРИИ ЗА ИЗБОР НА ОПЕРАЦИИ ПО ПРИОРИТЕТНА ОС 3 „РЕГИОНАЛНА ОБРАЗОВАТЕЛНА ИНФРАСТРУКТУРА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0"/>
          <p:cNvSpPr/>
          <p:nvPr/>
        </p:nvSpPr>
        <p:spPr>
          <a:xfrm>
            <a:off x="380880" y="5886360"/>
            <a:ext cx="656748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Sylfaen"/>
              </a:rPr>
              <a:t>Четвърто заседание</a:t>
            </a:r>
            <a:r>
              <a:rPr b="1" lang="en-US" sz="2000" spc="-1" strike="noStrike">
                <a:solidFill>
                  <a:srgbClr val="000066"/>
                </a:solidFill>
                <a:latin typeface="Sylfaen"/>
              </a:rPr>
              <a:t> </a:t>
            </a:r>
            <a:r>
              <a:rPr b="1" lang="bg-BG" sz="2000" spc="-1" strike="noStrike">
                <a:solidFill>
                  <a:srgbClr val="000066"/>
                </a:solidFill>
                <a:latin typeface="Sylfaen"/>
              </a:rPr>
              <a:t>на ОПРР 2014-2020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02 декемвр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5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гр.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3924360" y="192240"/>
            <a:ext cx="1177920" cy="1215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4"/>
          <a:stretch/>
        </p:blipFill>
        <p:spPr>
          <a:xfrm>
            <a:off x="7451640" y="201600"/>
            <a:ext cx="1487520" cy="1197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1446120"/>
            <a:ext cx="9072720" cy="39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елевите стойности на ииндикаторите за продукт са ясно и точно </a:t>
            </a:r>
            <a:r>
              <a:rPr b="0" lang="bg-BG" sz="1600" spc="-1" strike="noStrike">
                <a:solidFill>
                  <a:srgbClr val="ff0000"/>
                </a:solidFill>
                <a:latin typeface="Arial"/>
              </a:rPr>
              <a:t>остойностени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и ще допринесат за постигане на заложената цел на ниво приоритетна о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йностите са описани подробно, обхватът и времетраенето им е ясен; планът за действие е реалистичен, разпределнието на дейностите във времето е балансиран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ът предвижда ясна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институционална организация за управ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9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9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Бюджетните пера са ясни и детайлн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са необходими и достатъчни за изпълнение на 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Критерии за техническа и финансова оценка 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648036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Методология за оценка на проектни предло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Diagram 3" descr=""/>
          <p:cNvPicPr/>
          <p:nvPr/>
        </p:nvPicPr>
        <p:blipFill>
          <a:blip r:embed="rId4"/>
          <a:stretch/>
        </p:blipFill>
        <p:spPr>
          <a:xfrm>
            <a:off x="49320" y="1432080"/>
            <a:ext cx="89787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539640" y="1366920"/>
            <a:ext cx="82090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ГЛАВНА ДИРЕКЦИЯ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ПРОГРАМИРАНЕ НА РЕГИОНАЛНОТО РАЗВИТИЕ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Tahoma"/>
              </a:rPr>
              <a:t>БЛАГОДАРЯ 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Иван По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Началник-отдел „ПОИП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02 декемвр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5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гр.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2060"/>
                </a:solidFill>
                <a:latin typeface="Arial"/>
              </a:rPr>
              <a:t>ПО З „РЕГИОНАЛНА ОБРАЗОВАТЕЛНА ИНФРАСТРУКТУРА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480" y="1379160"/>
            <a:ext cx="9036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 u="sng">
                <a:solidFill>
                  <a:srgbClr val="ff0000"/>
                </a:solidFill>
                <a:uFillTx/>
                <a:latin typeface="Arial"/>
              </a:rPr>
              <a:t>Специфична цел: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Подобряване на условията за модерни образователни услуг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 u="sng">
                <a:solidFill>
                  <a:srgbClr val="ff0000"/>
                </a:solidFill>
                <a:uFillTx/>
                <a:latin typeface="Arial"/>
              </a:rPr>
              <a:t>Общ размер на БФП:</a:t>
            </a:r>
            <a:r>
              <a:rPr b="1" lang="bg-BG" sz="17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224 717 990,30 ле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 u="sng">
                <a:solidFill>
                  <a:srgbClr val="ff0000"/>
                </a:solidFill>
                <a:uFillTx/>
                <a:latin typeface="Arial"/>
              </a:rPr>
              <a:t>Допустими дейности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троителство, реконструкция и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ремонт на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</a:rPr>
              <a:t>държавни и общински училища от национално и регионално значение,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както и на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</a:rPr>
              <a:t>висши училища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, включително прилежащото дворно пространство, както и прилежащите общежития към средните училища, конструктивни обследвания на съответните сгради, подобряване на достъпа за хора с увреждания до образователните сгради като част от СМР, свързани с тях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ff0000"/>
                </a:solidFill>
                <a:latin typeface="Arial"/>
              </a:rPr>
              <a:t>Допустими бенефициенти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0000"/>
                </a:solidFill>
                <a:latin typeface="Arial"/>
                <a:ea typeface="Calibri"/>
              </a:rPr>
              <a:t>МОН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Calibri"/>
              </a:rPr>
              <a:t>– за държавни професионални училища в негово управление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0000"/>
                </a:solidFill>
                <a:latin typeface="Arial"/>
                <a:ea typeface="Calibri"/>
              </a:rPr>
              <a:t>МК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Calibri"/>
              </a:rPr>
              <a:t>– за държавни училища по култура и по изкуства в негово управление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0000"/>
                </a:solidFill>
                <a:latin typeface="Arial"/>
                <a:ea typeface="Calibri"/>
              </a:rPr>
              <a:t>ММС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Calibri"/>
              </a:rPr>
              <a:t>– за държавни спортни училища в негово управление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0000"/>
                </a:solidFill>
                <a:latin typeface="Arial"/>
                <a:ea typeface="Calibri"/>
              </a:rPr>
              <a:t>Общини за професионални училища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Calibri"/>
              </a:rPr>
              <a:t>от национално и регионално зна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Държавни висши училища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 съответните интервенции във висшите училищ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46080" y="44280"/>
            <a:ext cx="1006560" cy="1163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"/>
          <p:cNvPicPr/>
          <p:nvPr/>
        </p:nvPicPr>
        <p:blipFill>
          <a:blip r:embed="rId2"/>
          <a:stretch/>
        </p:blipFill>
        <p:spPr>
          <a:xfrm>
            <a:off x="7628040" y="60480"/>
            <a:ext cx="1444680" cy="11635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0" y="1411200"/>
            <a:ext cx="9072720" cy="45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Критерии за административно съответствие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верка за представяне на всички задължително изискуеми документи за кандидатстване, като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окумент за собственост върху недвижимия имот, обект на интервенция по проекта, от който става ясно, че недвижимият имот е </a:t>
            </a:r>
            <a:r>
              <a:rPr b="0" lang="bg-BG" sz="1600" spc="-1" strike="noStrike">
                <a:solidFill>
                  <a:srgbClr val="ff0000"/>
                </a:solidFill>
                <a:latin typeface="Arial"/>
              </a:rPr>
              <a:t>държавна, общинска собственост и/или собственост на партнь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кларации от бенефициен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че проектът не е финансиран от други публични източници; не генерира приходи; съгласие за предоставяне на данни от НСИ към УО</a:t>
            </a:r>
            <a:r>
              <a:rPr b="0" lang="bg-BG" sz="1600" spc="-1" strike="noStrike">
                <a:solidFill>
                  <a:srgbClr val="ff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Декларация от бенефициента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за съответствие на </a:t>
            </a:r>
            <a:r>
              <a:rPr b="0" lang="bg-BG" sz="1600" spc="-1" strike="noStrike">
                <a:solidFill>
                  <a:srgbClr val="ff0000"/>
                </a:solidFill>
                <a:latin typeface="Arial"/>
              </a:rPr>
              <a:t>инвестиционния проект с нормативните изисквания за енергийна ефективност и достъпна сре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Декларация от бенефициента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Решение на Общинския съвет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в случай на общинска собственост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, че </a:t>
            </a:r>
            <a:r>
              <a:rPr b="0" lang="bg-BG" sz="1600" spc="-1" strike="noStrike">
                <a:solidFill>
                  <a:srgbClr val="ff0000"/>
                </a:solidFill>
                <a:latin typeface="Arial"/>
              </a:rPr>
              <a:t>предназначението на сградите, обект на интервенция по проекта, няма да бъде променяно за период не по-малък от 5 години след приключване на дейностите по проекта и че съответната институция няма да бъде закри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едставено е обследване за ЕЕ </a:t>
            </a:r>
            <a:r>
              <a:rPr b="0" lang="bg-BG" sz="1600" spc="-1" strike="noStrike">
                <a:solidFill>
                  <a:srgbClr val="ff0000"/>
                </a:solidFill>
                <a:latin typeface="Arial"/>
              </a:rPr>
              <a:t>с оглед съблюдаване на изискването за постигане най-малко клас на енергопотребление „С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"/>
          <p:cNvPicPr/>
          <p:nvPr/>
        </p:nvPicPr>
        <p:blipFill>
          <a:blip r:embed="rId3"/>
          <a:stretch/>
        </p:blipFill>
        <p:spPr>
          <a:xfrm>
            <a:off x="7628040" y="60480"/>
            <a:ext cx="1444680" cy="11635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ритерии за административно съответствие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1411200"/>
            <a:ext cx="9072720" cy="46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кларация от бенефициента, ч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1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едставеният сертификат за енергийни характеристики е валиден и след издаването му не са извършвани дейности, водещи до подобряване на цялостните енергийни характеристики на сградата, както и че не са настъпили изменения в условията, при които сертификатът е издаден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 инвестиционния проект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а включени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за обекти, които кандидатстват с пълен инвестиционен проект) /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ще бъдат включени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за обекти, които кандидатстват без инвестиционен проект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ички задължителни енергоспестяващи мерки, предписани в обследването за енергийна ефективност, в т.ч. мерки за оползотворяване на възобновяеми енергийни източници (при доказана техническа осъществимост и икономическа целесъобразнос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ички задължителни мерки, предписани в техническото обследван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й-ефективният пакет от енергоспестяващи мерки за сградата, с който се постигат нормативните изисквания за енергийна ефективност - най-малко клас „С“ енергопотребл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ички необходими мерки за осигуряване на достъпна архитектурна среда съгласно действащата нормативна уредба, в т. ч. и Наредба № 4 от 1 юли 2009 г. за преструктуриране, изпълнение и поддържане на строежите в съответствие с изискванията за достъпна среда за населението, включително за хора с уврежд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"/>
          <p:cNvPicPr/>
          <p:nvPr/>
        </p:nvPicPr>
        <p:blipFill>
          <a:blip r:embed="rId3"/>
          <a:stretch/>
        </p:blipFill>
        <p:spPr>
          <a:xfrm>
            <a:off x="7628040" y="60480"/>
            <a:ext cx="1444680" cy="11635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ритерии за административно съответствие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1411200"/>
            <a:ext cx="9072720" cy="42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Декларация от ръководството на съответната образователна институция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, обект на интервенция, че е съгласно с предложения проект, вкл. и с конкретното проектно решение, както и че ще съдейства за реализиране на проекта в съответствие със своите задължения и компетенции, вкл. и по отношение на гарантиране на устойчивостта на инвестициите и опазване на об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кларация от бенефициен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чрез която да се декларира, ч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1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ъответната образователна институция няма да бъде закрита за период не по-малък от 5 години след приключване на дейностите по проек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1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изпълнение на дейностите, включени в подаденото проектно предложение, ще се постигне цялостна модернизация на образователната институ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артньорско споразумение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между бенефициента и партньора по проекта, уреждащо правата и задълженията на партньорите във връзка с изпълнението на дейностите по проектите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ако е приложим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"/>
          <p:cNvPicPr/>
          <p:nvPr/>
        </p:nvPicPr>
        <p:blipFill>
          <a:blip r:embed="rId3"/>
          <a:stretch/>
        </p:blipFill>
        <p:spPr>
          <a:xfrm>
            <a:off x="7628040" y="60480"/>
            <a:ext cx="1444680" cy="1163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ритерии за административно съответствие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Критерии за допустим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1312920"/>
            <a:ext cx="9144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Критерии за допустимост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верка/оценка на следните специфични критерии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ователната институция, обект на интервенция,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е част от  приоритизирания списък с обекти, изготвен въз основа на Методологията за приоритизиране на образователната инфраструктура в Р. България, одобрена от МО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сшето училище, обект на интервенция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, е част от приоритизирания списък с университети, изготвен въз основа на Методика за приоритизация на държавните висши училища за целите на изпълнението на ОПРР 2014-2020, одобрена от М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опустимост на дейности и разход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бследването за енергийна ефективност и придружаващият го сертификат доказват, че предложените мерки ще доведат до най-малко клас „С“ енергопотребл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0000"/>
                </a:solidFill>
                <a:latin typeface="Arial"/>
              </a:rPr>
              <a:t>Проектът НЕ е физически завършен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ли изцяло осъществен преди подаването му за финансиран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ът допринася за изпълнението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на Стратегията на ЕС за Дунавския реги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видени са мерки за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информация и комуникац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ът е в </a:t>
            </a:r>
            <a:r>
              <a:rPr b="0" lang="bg-BG" sz="1600" spc="-1" strike="noStrike">
                <a:solidFill>
                  <a:srgbClr val="ff0000"/>
                </a:solidFill>
                <a:latin typeface="Arial"/>
              </a:rPr>
              <a:t>съответствие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с хоризонталните политики на Е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устойчиво развити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1446120"/>
            <a:ext cx="9072720" cy="51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ритерии за техническа и финансова оценка –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ценка на качеството на проекта, включваща критерии, ка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Целта на проектното предложение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е ясно и точно формулирана и съответства на целта на процедурата за БФ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ектът </a:t>
            </a: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обосновава ясно и точно необходимите инвестиции за модернизация на образователните институции с оглед подобряване качеството на предлаганите образователни услуги</a:t>
            </a:r>
            <a:r>
              <a:rPr b="0" lang="bg-BG" sz="1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bg-BG" sz="1500" spc="-1" strike="noStrike">
                <a:solidFill>
                  <a:srgbClr val="000000"/>
                </a:solidFill>
                <a:latin typeface="Arial"/>
              </a:rPr>
              <a:t>напр. усъвършенстване на капацитета на учителския състав, разкриване на нови паралелки,  осигуряване на целодневно обучение или обучение на две смени, намаляване на броя на преждевременно напускащите ученици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 u="sng">
                <a:solidFill>
                  <a:srgbClr val="000000"/>
                </a:solidFill>
                <a:uFillTx/>
                <a:latin typeface="Arial"/>
              </a:rPr>
              <a:t>Спортни училищ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ектното предложение съответства и допринася за постигане на целите на приоритетната ос, от гледна точка на следното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ключва спортни училища, в които се обучават минимум 250 ученици, във всяко едно от тя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включва спортни училища, в които се обучават повече от 10 национални състезатели, във всяко едно от тя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Критерии за техническа и финансова оценка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36360" y="1150920"/>
            <a:ext cx="9072720" cy="48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 u="sng">
                <a:solidFill>
                  <a:srgbClr val="000000"/>
                </a:solidFill>
                <a:uFillTx/>
                <a:latin typeface="Arial"/>
              </a:rPr>
              <a:t>Висши училищ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ното предложение съответства и допринася за постигане на целите на приоритетната ос, от гледна точка на следно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йностите на проекта са пряко насочени към подкрепа и развитие на водещите професионални направления във висшето училищ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 u="sng">
                <a:solidFill>
                  <a:srgbClr val="000000"/>
                </a:solidFill>
                <a:uFillTx/>
                <a:latin typeface="Arial"/>
              </a:rPr>
              <a:t>Училища по изкуства и култу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ното предложение съответства и допринася за постигане на целите на приоритетната о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, кат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ключва училища по изкуства и култура, всяко от които отговаря на поне три от следните услов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8584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училището се обучават повече от 100 учениц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8584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лището е от национално и регионално значение за развитие на изкуствата и културата и за местната общност като културен институт за развитие и опазване на местните тради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8584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ум 10% от учениците са от друга административна облас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8584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училището се обучават ученици с изявени дарби отличени през последните три годин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Критерии за техническа и финансова оценка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1409760"/>
            <a:ext cx="9072720" cy="51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 u="sng">
                <a:solidFill>
                  <a:srgbClr val="000000"/>
                </a:solidFill>
                <a:uFillTx/>
                <a:latin typeface="Arial"/>
              </a:rPr>
              <a:t>Професионални училищ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ектното предложение съответства и допринася за постигане на целите на приоритетната ос, като включв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Професионални училища, с водещо професионално направление, различни от „Ветеринарн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дицина“, „Горско стопанство“ или „Растениевъдство и животновъдство“, всяко от които отговаря н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не две от следните услов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училището се обучават минимум 250 ученика редовна форма (към 15.09.2015 г.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училището над 30% от учениците се обучават по приоритетни професионални направл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нимум 5 % от учениците са от друга община или училището се намира в гранична община (община, чийто държавна граница съвпада с държавна границ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. Професионални училища с водещо професионално направление „Ветеринарна медицина“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„Горско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топанство“ или „Растениевъдство, всяко от които отговарят на поне две от следните услов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училището се обучават минимум 200 ученика редовна форма (към 15.09.2015 г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училището над 30% от учениците се обучават по приоритетни професионални на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нимум 5 % от учениците са от друга община или училището се намира в гранична община (община, чийто държавна граница съвпада с държавна границ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Критерии за техническа и финансова оценка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Dimcho Dimov</cp:lastModifiedBy>
  <dcterms:modified xsi:type="dcterms:W3CDTF">2015-11-25T13:51:00Z</dcterms:modified>
  <cp:revision>823</cp:revision>
  <dc:subject/>
  <dc:title>Diapositiva 1</dc:title>
</cp:coreProperties>
</file>