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32.wmf" ContentType="image/x-wmf"/>
  <Override PartName="/ppt/media/image19.jpeg" ContentType="image/jpeg"/>
  <Override PartName="/ppt/media/image25.png" ContentType="image/png"/>
  <Override PartName="/ppt/media/image28.jpeg" ContentType="image/jpeg"/>
  <Override PartName="/ppt/media/image18.png" ContentType="image/png"/>
  <Override PartName="/ppt/media/image20.jpeg" ContentType="image/jpe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4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70B-0940-47DC-9643-C74FDD35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4B1-E93E-4B9C-8BB7-77BC1DCD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872-3D67-4BC2-9E98-C675BB17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4DA-5163-4FAE-AEDD-9E7F14D2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A425-9816-49D9-856A-A4AB227A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546-A289-4526-906F-733E81D8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37A-C563-489F-8E8E-982FFA56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4AA-F9CD-4EB6-A346-21CD72C5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C36-7463-43BE-BEC2-A888E4A2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252-2858-47B0-AF9D-883A449D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91A-55D3-4ED6-8FC6-643AF3C0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5FF-2342-4E89-9557-D5E85898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9172-0240-4866-9B5C-60AD376A80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08000" y="393372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0000"/>
                </a:solidFill>
                <a:latin typeface="Arial"/>
                <a:ea typeface="Arial"/>
              </a:rPr>
              <a:t>Оценка на въздействието на интервенциите по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OПРР 2007-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Втори тригодишен екологичен доклад по наблюдението и контрола при прилагането на програмата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39640" y="258300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и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се извършат проучвания за събиране на данни и информация, която не може да бъде предоставена от окончателните технически доклади на бенефициентите и съответно от ИСУН, за напредъка по екологичните индикатори по ОПР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оцени въздействието върху околната среда на интервенциите по ОПРР, на основа на събраните данни и информация за напредъка по индикатор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5"/>
          <p:cNvSpPr/>
          <p:nvPr/>
        </p:nvSpPr>
        <p:spPr>
          <a:xfrm>
            <a:off x="468360" y="1628640"/>
            <a:ext cx="8207280" cy="95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ължителен доклад, съгласно становището на МОСВ No 4-3/2007 г. по Екологичната оценка (ЕО)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Втори тригодишен екологичен доклад по наблюдението и контрола при прилагането на програмат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539640" y="1455840"/>
            <a:ext cx="806616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и изводи и резулта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ъздействието върху околната среда като цяло е положително; не са установени нови или отрицателни въздействия, различни от  оценените в Екологичната оценка на ОПРР 2007–2013 или от тези, оценени в първия тригодишен докла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к или косвен положителен ефект върху околната среда най-вече чрез подкрепата за мерки, свързани с енергийна ефективност 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обряване 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дската ср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каторите за наблюдение и контрол – адекватно заложени в ОПРР и в схемите за БФП (отчитани и докладвани от бенефициентит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5"/>
          <p:cNvSpPr/>
          <p:nvPr/>
        </p:nvSpPr>
        <p:spPr>
          <a:xfrm>
            <a:off x="468360" y="4869000"/>
            <a:ext cx="8209080" cy="95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ладът е одобрен от МОСВ – януари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189080" y="-27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ефективността (отношението между целите и постигнатите резултати) на интервенциите по ОПРР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31840" y="1508040"/>
          <a:ext cx="8661240" cy="4297320"/>
        </p:xfrm>
        <a:graphic>
          <a:graphicData uri="http://schemas.openxmlformats.org/drawingml/2006/table">
            <a:tbl>
              <a:tblPr/>
              <a:tblGrid>
                <a:gridCol w="1995480"/>
                <a:gridCol w="1832040"/>
                <a:gridCol w="2668320"/>
                <a:gridCol w="216540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ритетна ос на ОПР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во на ефектив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гане на целевите стойности на индикатори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еле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йчиво и интегрирано градско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повечето индикатори са постигнати или се очаква да бъдат постигнати до края на 2015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авяне при постигането на междинната целева стой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на и местна достъп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могат да бъдат направени окончателни изв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могат да бъдат направени окончателни изв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формацията за резултатите от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ите 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пълн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а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ът з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Т мрежа не е приключ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Устойчиво развитие на туриз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гнати с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ите стойности на индикаторите за резултат и въз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 проекти все още са в изпъ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естно развитие и сътрудн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гнати с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ите стойности на индикаторите за резултат и въз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авяне при постигането на междинната целева стой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89080" y="14940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устойчивостта на интервенциите по ОПРР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Diagram 3" descr=""/>
          <p:cNvPicPr/>
          <p:nvPr/>
        </p:nvPicPr>
        <p:blipFill>
          <a:blip r:embed="rId3"/>
          <a:stretch/>
        </p:blipFill>
        <p:spPr>
          <a:xfrm>
            <a:off x="324000" y="1736640"/>
            <a:ext cx="8350200" cy="2433600"/>
          </a:xfrm>
          <a:prstGeom prst="rect">
            <a:avLst/>
          </a:prstGeom>
          <a:ln w="0">
            <a:noFill/>
          </a:ln>
        </p:spPr>
      </p:pic>
      <p:sp>
        <p:nvSpPr>
          <p:cNvPr id="149" name="Rounded Rectangle 10"/>
          <p:cNvSpPr/>
          <p:nvPr/>
        </p:nvSpPr>
        <p:spPr>
          <a:xfrm>
            <a:off x="324000" y="4707000"/>
            <a:ext cx="8208720" cy="95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тегриран ефек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паралелно изпълнение на проекти по различни оперативни програми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лючов фактор за устойчивос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ПРР и ОПРЧР за деинституционализацията, ОПРР и ОПТ за пътна инфраструкту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189080" y="-324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непланираните ефекти и интегрирания ефект от изпълнението на ОПРР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Diagram 9" descr=""/>
          <p:cNvPicPr/>
          <p:nvPr/>
        </p:nvPicPr>
        <p:blipFill>
          <a:blip r:embed="rId3"/>
          <a:stretch/>
        </p:blipFill>
        <p:spPr>
          <a:xfrm>
            <a:off x="-2554200" y="1547640"/>
            <a:ext cx="10796400" cy="8291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1"/>
          <p:cNvSpPr/>
          <p:nvPr/>
        </p:nvSpPr>
        <p:spPr>
          <a:xfrm>
            <a:off x="7218360" y="2631960"/>
            <a:ext cx="173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Ефекти от изпълнението на ОПРР, спрямо сценария с нулево усвояване по програм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89080" y="4428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териториално разпределение по административни единици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hart 11" descr=""/>
          <p:cNvPicPr/>
          <p:nvPr/>
        </p:nvPicPr>
        <p:blipFill>
          <a:blip r:embed="rId3"/>
          <a:stretch/>
        </p:blipFill>
        <p:spPr>
          <a:xfrm>
            <a:off x="36360" y="1494000"/>
            <a:ext cx="4986360" cy="46688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250920" y="1341360"/>
            <a:ext cx="36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ДБФП по области и стату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Chart 13" descr=""/>
          <p:cNvPicPr/>
          <p:nvPr/>
        </p:nvPicPr>
        <p:blipFill>
          <a:blip r:embed="rId4"/>
          <a:stretch/>
        </p:blipFill>
        <p:spPr>
          <a:xfrm>
            <a:off x="3780000" y="1657440"/>
            <a:ext cx="4900320" cy="23968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4"/>
          <p:cNvSpPr/>
          <p:nvPr/>
        </p:nvSpPr>
        <p:spPr>
          <a:xfrm>
            <a:off x="4356000" y="135252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ДБФП по райони и стату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4071960" y="4255920"/>
            <a:ext cx="4387680" cy="1465560"/>
          </a:xfrm>
          <a:prstGeom prst="rect">
            <a:avLst/>
          </a:prstGeom>
          <a:noFill/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риторията само на 30 общини не са изпълнявани проекти по ОПРР (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3.4% от населението на страната), т.е. до голяма степен ОПРР покрива цялото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851280" y="3500280"/>
            <a:ext cx="5221440" cy="2376720"/>
          </a:xfrm>
          <a:prstGeom prst="rect">
            <a:avLst/>
          </a:prstGeom>
          <a:solidFill>
            <a:srgbClr val="bbe0e3">
              <a:alpha val="18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189080" y="4428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териториално разпределение по административни единиц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Chart 12" descr=""/>
          <p:cNvPicPr/>
          <p:nvPr/>
        </p:nvPicPr>
        <p:blipFill>
          <a:blip r:embed="rId3"/>
          <a:stretch/>
        </p:blipFill>
        <p:spPr>
          <a:xfrm>
            <a:off x="3889440" y="4078440"/>
            <a:ext cx="5121360" cy="19443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5"/>
          <p:cNvSpPr/>
          <p:nvPr/>
        </p:nvSpPr>
        <p:spPr>
          <a:xfrm>
            <a:off x="4838760" y="3651120"/>
            <a:ext cx="412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общините по бр. проекти и обща стойност на проекти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79280" y="1484280"/>
            <a:ext cx="49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Изпълнение стратегията на програмата (към края на 2014 г.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Chart 15" descr=""/>
          <p:cNvPicPr/>
          <p:nvPr/>
        </p:nvPicPr>
        <p:blipFill>
          <a:blip r:embed="rId4"/>
          <a:stretch/>
        </p:blipFill>
        <p:spPr>
          <a:xfrm>
            <a:off x="0" y="1736640"/>
            <a:ext cx="6083280" cy="34578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5327640" y="1779480"/>
            <a:ext cx="3745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Основен извод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ложените минимални прагове на средства, които трябва да бъдат инвестирани в агломерационните ареали в страната, ще бъдат надхвърлени, макар и в минимална степ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189080" y="10944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Разпределение на средствата на ед. жител – ниво Обл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StoyanovI\Desktop\PROEKT 077\CD - Okonchatelno plashtane - project 077\Дейности и разходи\4.2.1 Оценка\Техническа документация - продукти\Окончателен доклад\Pictures\3.5_province_per capita.jpg"/>
          <p:cNvPicPr/>
          <p:nvPr/>
        </p:nvPicPr>
        <p:blipFill>
          <a:blip r:embed="rId3"/>
          <a:stretch/>
        </p:blipFill>
        <p:spPr>
          <a:xfrm>
            <a:off x="684360" y="1503360"/>
            <a:ext cx="7777080" cy="430200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189080" y="10944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Разпределение на средствата на ед. жител – ниво Общ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Users\StoyanovI\Desktop\PROEKT 077\CD - Okonchatelno plashtane - project 077\Дейности и разходи\4.2.1 Оценка\Техническа документация - продукти\Окончателен доклад\Pictures\3.6_municipalities_per capita.jpg"/>
          <p:cNvPicPr/>
          <p:nvPr/>
        </p:nvPicPr>
        <p:blipFill>
          <a:blip r:embed="rId3"/>
          <a:stretch/>
        </p:blipFill>
        <p:spPr>
          <a:xfrm>
            <a:off x="666720" y="1514520"/>
            <a:ext cx="7866000" cy="429084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3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189080" y="4428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Разпределение на средствата за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Градска среда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на ед. жител – ниво Общ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C:\Users\StoyanovI\Desktop\PROEKT 077\CD - Okonchatelno plashtane - project 077\Дейности и разходи\4.2.1 Оценка\Техническа документация - продукти\Окончателен доклад\Pictures\3.13_urban.jpg"/>
          <p:cNvPicPr/>
          <p:nvPr/>
        </p:nvPicPr>
        <p:blipFill>
          <a:blip r:embed="rId4"/>
          <a:stretch/>
        </p:blipFill>
        <p:spPr>
          <a:xfrm>
            <a:off x="660240" y="1484280"/>
            <a:ext cx="7583760" cy="432108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9080" y="-27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на интервенциите по ОПРР 2007-2013 - Обща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Diagram 7" descr=""/>
          <p:cNvPicPr/>
          <p:nvPr/>
        </p:nvPicPr>
        <p:blipFill>
          <a:blip r:embed="rId3"/>
          <a:stretch/>
        </p:blipFill>
        <p:spPr>
          <a:xfrm>
            <a:off x="262080" y="1328760"/>
            <a:ext cx="85579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189080" y="-27000"/>
            <a:ext cx="676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Разпределение на средствата за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културна инфраструктура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на ед. жител – ниво Общ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C:\Users\StoyanovI\Desktop\PROEKT 077\CD - Okonchatelno plashtane - project 077\Дейности и разходи\4.2.1 Оценка\Техническа документация - продукти\Окончателен доклад\Pictures\3.9_culture.jpg"/>
          <p:cNvPicPr/>
          <p:nvPr/>
        </p:nvPicPr>
        <p:blipFill>
          <a:blip r:embed="rId3"/>
          <a:stretch/>
        </p:blipFill>
        <p:spPr>
          <a:xfrm>
            <a:off x="704880" y="1484280"/>
            <a:ext cx="7756560" cy="434196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– териториално разпределение на интервенциите, съгласно възприетия модел за умерен полицентризъм по НКПР 2013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Chart 16" descr=""/>
          <p:cNvPicPr/>
          <p:nvPr/>
        </p:nvPicPr>
        <p:blipFill>
          <a:blip r:embed="rId3"/>
          <a:stretch/>
        </p:blipFill>
        <p:spPr>
          <a:xfrm>
            <a:off x="268200" y="1627200"/>
            <a:ext cx="3144960" cy="1822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108000" y="141300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проектите за градска сре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Chart 17" descr=""/>
          <p:cNvPicPr/>
          <p:nvPr/>
        </p:nvPicPr>
        <p:blipFill>
          <a:blip r:embed="rId4"/>
          <a:stretch/>
        </p:blipFill>
        <p:spPr>
          <a:xfrm>
            <a:off x="4657680" y="1673280"/>
            <a:ext cx="3340080" cy="18637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8"/>
          <p:cNvSpPr/>
          <p:nvPr/>
        </p:nvSpPr>
        <p:spPr>
          <a:xfrm>
            <a:off x="4572000" y="141300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проектите за образователна инфраструк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Chart 19" descr=""/>
          <p:cNvPicPr/>
          <p:nvPr/>
        </p:nvPicPr>
        <p:blipFill>
          <a:blip r:embed="rId5"/>
          <a:stretch/>
        </p:blipFill>
        <p:spPr>
          <a:xfrm>
            <a:off x="219240" y="3809880"/>
            <a:ext cx="3444840" cy="19684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0"/>
          <p:cNvSpPr/>
          <p:nvPr/>
        </p:nvSpPr>
        <p:spPr>
          <a:xfrm>
            <a:off x="108000" y="366696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проектите за социална инфраструк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Chart 21" descr=""/>
          <p:cNvPicPr/>
          <p:nvPr/>
        </p:nvPicPr>
        <p:blipFill>
          <a:blip r:embed="rId6"/>
          <a:stretch/>
        </p:blipFill>
        <p:spPr>
          <a:xfrm>
            <a:off x="4400640" y="3859200"/>
            <a:ext cx="3944880" cy="19083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2"/>
          <p:cNvSpPr/>
          <p:nvPr/>
        </p:nvSpPr>
        <p:spPr>
          <a:xfrm>
            <a:off x="4500720" y="364500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проектите за културна инфраструк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– териториално разпределение на средствата з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градска среда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, съгласно възприетия модел за умерен полицентризъм по НКПР 2013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7" descr=""/>
          <p:cNvPicPr/>
          <p:nvPr/>
        </p:nvPicPr>
        <p:blipFill>
          <a:blip r:embed="rId3"/>
          <a:stretch/>
        </p:blipFill>
        <p:spPr>
          <a:xfrm>
            <a:off x="630360" y="1484280"/>
            <a:ext cx="7758000" cy="440676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  <p:pic>
        <p:nvPicPr>
          <p:cNvPr id="239" name="Picture 18" descr=""/>
          <p:cNvPicPr/>
          <p:nvPr/>
        </p:nvPicPr>
        <p:blipFill>
          <a:blip r:embed="rId4"/>
          <a:stretch/>
        </p:blipFill>
        <p:spPr>
          <a:xfrm>
            <a:off x="5651640" y="5300640"/>
            <a:ext cx="255240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– териториално разпределение на средствата з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културна инфраструктура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, съгласно възприетия модел за умерен полицентризъм по НКПР 2013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3"/>
          <a:stretch/>
        </p:blipFill>
        <p:spPr>
          <a:xfrm>
            <a:off x="619200" y="1484280"/>
            <a:ext cx="7697880" cy="439272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  <p:pic>
        <p:nvPicPr>
          <p:cNvPr id="248" name="Picture 11" descr=""/>
          <p:cNvPicPr/>
          <p:nvPr/>
        </p:nvPicPr>
        <p:blipFill>
          <a:blip r:embed="rId4"/>
          <a:stretch/>
        </p:blipFill>
        <p:spPr>
          <a:xfrm>
            <a:off x="5608800" y="5276880"/>
            <a:ext cx="24192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контрафактологичен анализ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6300720" y="1628640"/>
            <a:ext cx="266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зползван мет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азлика в разликите“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равняване на общини-бенефициенти и общини-небенефициенти по показатели „Ниво на регистриран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безработиц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по общини“ и „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Механичен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ирас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на населението по общини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9"/>
          <p:cNvGraphicFramePr/>
          <p:nvPr/>
        </p:nvGraphicFramePr>
        <p:xfrm>
          <a:off x="270000" y="1628640"/>
          <a:ext cx="5814720" cy="41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00" y="1628640"/>
                    <a:ext cx="5814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контрафактологичен анализ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5132520" y="1557360"/>
            <a:ext cx="383220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сновни извод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общините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олучили най-много средства от ОПРР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глава от населението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езработицата е по-ниск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т тази в общините, неполучили или получили най-малко средства на глава от население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оказател «Механичен прираст на населението»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еният ефект също е положител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не е статистически знач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49532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189080" y="14940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върху административния капац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24000" y="1612800"/>
          <a:ext cx="8432640" cy="4192560"/>
        </p:xfrm>
        <a:graphic>
          <a:graphicData uri="http://schemas.openxmlformats.org/drawingml/2006/table">
            <a:tbl>
              <a:tblPr/>
              <a:tblGrid>
                <a:gridCol w="2782800"/>
                <a:gridCol w="5649840"/>
              </a:tblGrid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и резултати/ изво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9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на проекти, финансирани по ПО 5 „Техническа помощ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тивно ниво на усвояване на финансовите 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шно постигнати целеви стойности на индикатор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на структурните промени в У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изирана структур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ст от подобряване на комуникацията между отделите на централно ниво и регионалните отде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7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на административния капацитет на У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ението и мотивацията на служителите – ключово за работата на У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чество на служители в УО – различно в различните отде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ки отдел – с различна н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обходимост от увеличаване на капаците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на административния капацитет на бенефициент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90% от бенефициентите подкрепата по ПО „Техническа помощ” е много положител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ълнителен ефект от обученията – изграждане на контакти и връзки между самите бенефициен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79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на системи и процедури на работа, както и материално-техническа ба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ество промени в Наръчника, но водещи до облекчаване на процедур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приноса на интервенциите за изпълнение на хоризонталните политики на ЕС  - основни изводи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Diagram 5" descr=""/>
          <p:cNvPicPr/>
          <p:nvPr/>
        </p:nvPicPr>
        <p:blipFill>
          <a:blip r:embed="rId3"/>
          <a:stretch/>
        </p:blipFill>
        <p:spPr>
          <a:xfrm>
            <a:off x="311040" y="1487520"/>
            <a:ext cx="83631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приноса на интервенциите за изпълнение на хоризонталните политики на ЕС – основни изводи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Diagram 4" descr=""/>
          <p:cNvPicPr/>
          <p:nvPr/>
        </p:nvPicPr>
        <p:blipFill>
          <a:blip r:embed="rId3"/>
          <a:stretch/>
        </p:blipFill>
        <p:spPr>
          <a:xfrm>
            <a:off x="262080" y="1487520"/>
            <a:ext cx="86374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от приложените мерки на Комуникационния план за информация и публичност на ОПРР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3240" y="1557360"/>
            <a:ext cx="90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езултати от проведено социологическо проуч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Chart 13" descr=""/>
          <p:cNvPicPr/>
          <p:nvPr/>
        </p:nvPicPr>
        <p:blipFill>
          <a:blip r:embed="rId3"/>
          <a:stretch/>
        </p:blipFill>
        <p:spPr>
          <a:xfrm>
            <a:off x="36360" y="2639880"/>
            <a:ext cx="4859640" cy="28101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5"/>
          <p:cNvSpPr/>
          <p:nvPr/>
        </p:nvSpPr>
        <p:spPr>
          <a:xfrm>
            <a:off x="169920" y="2122560"/>
            <a:ext cx="43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Разпознаваемост на ОПРР по възрастови груп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5294160" y="2014560"/>
            <a:ext cx="266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Самооценки за степ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на информираност за ОПР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Chart 17" descr=""/>
          <p:cNvPicPr/>
          <p:nvPr/>
        </p:nvPicPr>
        <p:blipFill>
          <a:blip r:embed="rId4"/>
          <a:stretch/>
        </p:blipFill>
        <p:spPr>
          <a:xfrm>
            <a:off x="4645080" y="2852640"/>
            <a:ext cx="47433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89080" y="22212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на интервенциите по ОПРР 2007-2013 -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Diagram 18" descr=""/>
          <p:cNvPicPr/>
          <p:nvPr/>
        </p:nvPicPr>
        <p:blipFill>
          <a:blip r:embed="rId3"/>
          <a:stretch/>
        </p:blipFill>
        <p:spPr>
          <a:xfrm>
            <a:off x="450720" y="139536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от приложените мерки на Комуникационния план за информация и публичност на ОПРР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3240" y="1557360"/>
            <a:ext cx="90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езултати от проведено социологическо проуч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34920" y="2122560"/>
            <a:ext cx="90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ласти на инвестиции по ОПРР, по мнение на изследваните лиц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Chart 14" descr=""/>
          <p:cNvPicPr/>
          <p:nvPr/>
        </p:nvPicPr>
        <p:blipFill>
          <a:blip r:embed="rId3"/>
          <a:stretch/>
        </p:blipFill>
        <p:spPr>
          <a:xfrm>
            <a:off x="396720" y="2639880"/>
            <a:ext cx="792972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1189080" y="10944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на изпълнението на комуникационните методи и канали, заложени в Комуникационния план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3240" y="1413000"/>
            <a:ext cx="90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езултати от проведено социологическо проуч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Chart 13" descr=""/>
          <p:cNvPicPr/>
          <p:nvPr/>
        </p:nvPicPr>
        <p:blipFill>
          <a:blip r:embed="rId3"/>
          <a:stretch/>
        </p:blipFill>
        <p:spPr>
          <a:xfrm>
            <a:off x="268200" y="2494080"/>
            <a:ext cx="5529240" cy="34369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"/>
          <p:cNvSpPr/>
          <p:nvPr/>
        </p:nvSpPr>
        <p:spPr>
          <a:xfrm>
            <a:off x="682560" y="1969920"/>
            <a:ext cx="43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и канали, по кои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обществото се  е информирало за ОПР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Chart 15" descr=""/>
          <p:cNvPicPr/>
          <p:nvPr/>
        </p:nvPicPr>
        <p:blipFill>
          <a:blip r:embed="rId4"/>
          <a:stretch/>
        </p:blipFill>
        <p:spPr>
          <a:xfrm>
            <a:off x="4718160" y="2554200"/>
            <a:ext cx="4316400" cy="33703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6"/>
          <p:cNvSpPr/>
          <p:nvPr/>
        </p:nvSpPr>
        <p:spPr>
          <a:xfrm>
            <a:off x="4788000" y="1844640"/>
            <a:ext cx="43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почитания на българското общество към информационните канали, от които да се осведомяват за ОПРР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179280" y="1484280"/>
            <a:ext cx="87854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Arial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  <a:ea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Иван По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Началник отдел „Програмиране, оценка, информация и публичност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  <a:ea typeface="Arial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 декември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01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5 г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, 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гр. 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89080" y="-27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на интервенциите по ОПРР 2007-2013 – Специфични доклади/проду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Diagram 4" descr=""/>
          <p:cNvPicPr/>
          <p:nvPr/>
        </p:nvPicPr>
        <p:blipFill>
          <a:blip r:embed="rId3"/>
          <a:stretch/>
        </p:blipFill>
        <p:spPr>
          <a:xfrm>
            <a:off x="244440" y="1414440"/>
            <a:ext cx="858204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189080" y="-27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на интервенциите по ОПРР 2007-2013 – използвани мет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Diagram 9" descr=""/>
          <p:cNvPicPr/>
          <p:nvPr/>
        </p:nvPicPr>
        <p:blipFill>
          <a:blip r:embed="rId3"/>
          <a:stretch/>
        </p:blipFill>
        <p:spPr>
          <a:xfrm>
            <a:off x="244440" y="1414440"/>
            <a:ext cx="85820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189080" y="-27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Аналитичен доклад за удовлетвореността от туристическите обекти, подпомогнати по ОПРР 2007-2013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50920" y="1484280"/>
            <a:ext cx="842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тодика на изследването – социологическо проучване/ стандартизирано интервю и обработка на данните с подходящ софтуер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хват на изследването – 2 030 посетители в 40 туристически обекта (общински и държавни), подкрепени по 3 схеми за БФП по Приоритетна ос 3 „Устойчиво развитие на туризм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следвани обекти – НИАР „Плиска”, ИАР „Николопис ад Иструм”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ки джамия с музей на религиите в община Ст. Загора, „Палеонтологично находище - с. Дорково” в община Ракитово, Национално изложение на художествените занаяти и изкуствата в с. Орешак в община Троян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сноантична крепост с църковен ансамбъл и оброк на хълма Свети Спас, с. Белчин” в община Самоков, Античен град „Никополис ад Нестум“ в община Гърмен, Антична вила Армира в община Ивайловград, Поморийски солници в община Помор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189080" y="-27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Аналитичен доклад за удовлетвореността от туристическите обекти, подпомогнати по ОПРР 2007-2013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08000" y="1484280"/>
            <a:ext cx="338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азличен профил на респондентите (54% жени и 46% мъже): всички възрастови групи, различен образователен статус, различно постоянно местоживеене (вкл. в чужбина), различни начини и модели за посещение на обек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Diagram 5" descr=""/>
          <p:cNvPicPr/>
          <p:nvPr/>
        </p:nvPicPr>
        <p:blipFill>
          <a:blip r:embed="rId3"/>
          <a:stretch/>
        </p:blipFill>
        <p:spPr>
          <a:xfrm>
            <a:off x="3481560" y="1414440"/>
            <a:ext cx="5424480" cy="453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StoyanovI\Desktop\bul_map1.gif"/>
          <p:cNvPicPr/>
          <p:nvPr/>
        </p:nvPicPr>
        <p:blipFill>
          <a:blip r:embed="rId4"/>
          <a:stretch/>
        </p:blipFill>
        <p:spPr>
          <a:xfrm>
            <a:off x="779400" y="4473720"/>
            <a:ext cx="22798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189080" y="11592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Подкрепа за туризма по ОПРР 2007-2013 - Разпределение на средствата за Туристическа инфраструктура / жител – ниво Общ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StoyanovI\Desktop\PROEKT 077\CD - Okonchatelno plashtane - project 077\Дейности и разходи\4.2.1 Оценка\Техническа документация - продукти\Окончателен доклад\Pictures\3.16_turism.jpg"/>
          <p:cNvPicPr/>
          <p:nvPr/>
        </p:nvPicPr>
        <p:blipFill>
          <a:blip r:embed="rId3"/>
          <a:stretch/>
        </p:blipFill>
        <p:spPr>
          <a:xfrm>
            <a:off x="522360" y="1484280"/>
            <a:ext cx="8082000" cy="439272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  <p:sp>
        <p:nvSpPr>
          <p:cNvPr id="106" name="TextBox 7"/>
          <p:cNvSpPr/>
          <p:nvPr/>
        </p:nvSpPr>
        <p:spPr>
          <a:xfrm>
            <a:off x="6642000" y="3141720"/>
            <a:ext cx="167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0000"/>
                </a:solidFill>
                <a:latin typeface="Arial"/>
                <a:ea typeface="Arial"/>
              </a:rPr>
              <a:t>община Бяла, област Вар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189080" y="22212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Специфичен доклад за ефикасност на интервенциите по ОПРР 2007-20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3"/>
          <a:stretch/>
        </p:blipFill>
        <p:spPr>
          <a:xfrm>
            <a:off x="268200" y="1584360"/>
            <a:ext cx="86997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Yanita Birazova</cp:lastModifiedBy>
  <cp:lastPrinted>2015-11-11T14:03:12Z</cp:lastPrinted>
  <dcterms:modified xsi:type="dcterms:W3CDTF">2015-11-20T13:27:10Z</dcterms:modified>
  <cp:revision>1263</cp:revision>
  <dc:subject/>
  <dc:title>Diapositiva 1</dc:title>
</cp:coreProperties>
</file>