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AB0-B8FE-4E1D-B4F8-AB28C5F8FBB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8F5E-16F9-492B-950D-5950B8E4169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4AF-4537-4B49-B90F-BD658FCA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5A3-54C9-4EDB-95E1-557A84C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A20-5B8E-48D8-AFC7-5DB45E3A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CD7-EFAE-4739-8643-ABDC51A7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55DC-3F31-428E-A9FD-8CBD44077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60D4-864D-498E-BA85-430CE42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4323-4205-4756-AEC9-9D6931A0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47D1-69EF-49E3-9059-4A4A12C4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617B-822A-469F-AB16-5380AAFF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DD49-9CA9-43CD-BE1B-D53D594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3167-A877-4F9F-BA4B-4C9B1093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916-5A8E-454B-A30A-914803C9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3A95-9EEC-4FA8-A5E5-BBD56039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1B13-A35C-4701-9519-B273A2F4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D669-5F4A-4339-9B2A-4BB0D98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A5C2-7FFE-413B-BC8F-6272D5DD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4F30-FCF7-47C4-AB81-9E7A6153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A2D2-AC27-4C62-8094-DE3F3F33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5EF91-4F5C-46B1-9F1C-2E3F6589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62EA-DFC0-4769-9670-0E7AA0D4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A7DF-B218-4357-BCF2-157B4C2E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36E9-80AA-49D9-AED3-C1656840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EDF-009B-4842-9EA5-5AEBB7BF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F8864-0B4A-42A3-8682-003F925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D4AA7-D96E-4146-8E04-7D446BF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CF6CA-65A2-4492-BCD3-073F07E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BB07-F1CF-4F6A-B90D-2B095B4D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7368-9321-42F1-82A2-53DD428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8F63-C09E-434B-8BC2-ABC00A3F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A280D-407F-4803-85EE-899EB9EA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8121-DF3B-47CD-A2BF-DF770357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274F4-0A1F-4623-9B50-828FFEAF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D12A-D01B-457B-874C-18A764BE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FDD9-146B-46B5-9F12-8A36E9F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50FC1-0928-443A-936B-0A39209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57AD-A1E6-4AAC-A688-9364EDB3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989B-00A0-4C2F-9FDA-68E3016C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7F17-1710-4ABD-BCF7-FF641F7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87E0-8892-4C51-B8BB-F6CF9601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0467-F925-4AE2-9E75-42DAB7C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590D-9DCC-43C0-973C-9865D92F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733E-86A6-4701-9953-43D79164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6010C-A021-4B66-80CD-3DA37527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AD1-8E2C-465C-8D62-848FE512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067-07CA-42BF-8856-EB374DB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8CA-1B3C-4BA4-A7CF-A0036CB5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C79-2174-4868-B235-06D47FB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B8D-DD68-481C-8CC5-62714D13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BBA3-C88C-4425-A2E8-3A9358AD77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0363-42F5-4228-B70F-B4C344C1EA7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3490-E604-4941-96A5-9ED03E6EC3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2B03-6ACF-46CE-9E2F-0AD7C9FAA7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3924360" y="16020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7524720" y="177840"/>
            <a:ext cx="1487520" cy="1198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0"/>
          <p:cNvSpPr/>
          <p:nvPr/>
        </p:nvSpPr>
        <p:spPr>
          <a:xfrm>
            <a:off x="395280" y="4221000"/>
            <a:ext cx="5437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НАПРЕДЪК В ИЗПЪЛНЕНИЕТО НА ОПРР 2014-2020 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95280" y="5638680"/>
            <a:ext cx="59054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Четвър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2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319040" y="20952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КТУАЛНО СЪСТОЯНИЕ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0" y="1413000"/>
            <a:ext cx="910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з 2015 г. следва да бъдат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9 процедури 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БФП за всички процедури за 2015 г.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,284 млрд. лв. или 76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момента са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5 процедури за БФ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ПО 1 „Устойчиво и интегрирано градско развитие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 бр.), по ПО 2 „Подкрепа за енергийна ефективност в опорни центрове в периферните райони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1 бр.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 ПО 8 „Техническа помощ“ (3 бр.)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 стойност на БФП – 1,679 млрд. лв. или 56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 месец декември 2015 г. предстои да бъдат обявен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таналите 4 процедур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 ПО 3 „Регионална образователна инфраструктура“ (3 бр.) и по ПО 7 „Регионална пътна инфраструктура“ (1 бр.)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а стойност на БФП – 605 млн. лв. или 20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о договорени средства –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60 млн. лв. ил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2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98" name="Diagram 3" descr=""/>
          <p:cNvPicPr/>
          <p:nvPr/>
        </p:nvPicPr>
        <p:blipFill>
          <a:blip r:embed="rId4"/>
          <a:stretch/>
        </p:blipFill>
        <p:spPr>
          <a:xfrm>
            <a:off x="85680" y="1378080"/>
            <a:ext cx="894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УЧЕНИЯ НА МЕЖДИННИТЕ ЗВЕНА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66600" y="1290600"/>
            <a:ext cx="9006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08" name="Diagram 3" descr=""/>
          <p:cNvPicPr/>
          <p:nvPr/>
        </p:nvPicPr>
        <p:blipFill>
          <a:blip r:embed="rId4"/>
          <a:stretch/>
        </p:blipFill>
        <p:spPr>
          <a:xfrm>
            <a:off x="176040" y="1554120"/>
            <a:ext cx="889488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СТЪПК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В ИЗПЪЛНЕНИЕТО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tent Placeholder 2"/>
          <p:cNvSpPr/>
          <p:nvPr/>
        </p:nvSpPr>
        <p:spPr>
          <a:xfrm>
            <a:off x="0" y="1413000"/>
            <a:ext cx="910908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яване на структурата и състава на всички 39 Междинни звена по процедура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F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01-1.001-039 „Изпълнение на Интегрирани планове за градско възстановяване и 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2014-20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лючван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пълнителни анекси към Споразуменията за делегиране на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които да бъдат отразени одобрените документи, свързани с определяне на Междинните зве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Финализиране на процеса на оценка на ИП, подадени в периода 15-30 септември 2015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даване на Решение за одобряване на ИП  и сключване на споразумение за изпълнение на ИП с всяка общ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вяване на Насоки за кандидатстване по процедури по ПО 3 и ПО 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ултура и спорт в училищ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крепа за професионалните училища в Република Бълг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крепа за висшите училища в Република Бълг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гионални път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042920" y="1844640"/>
            <a:ext cx="727416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.министър на РРБ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1-30T08:50:06Z</dcterms:modified>
  <cp:revision>1281</cp:revision>
  <dc:subject/>
  <dc:title>Diapositiva 1</dc:title>
</cp:coreProperties>
</file>