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2581-8D94-4E60-8565-C0C26D24F79A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3369-5D56-4523-94ED-B3C047230062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D64A-2EB9-42EF-9084-8F1EB84C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AC7-2F9B-47A1-9DC1-09468580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D8C-D3F0-4EA6-8174-0A68AA85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4E7C-F3FB-4ACE-B7B8-BCF91727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D599-934F-4F1D-9830-F8434511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4BC5-D8FE-4C75-903B-1F34D2A7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D0DE-4698-469B-B874-9A1476A8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018E-3E35-460E-8D06-875314AD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CC44-DE4E-4F67-9164-A2560B4C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AE18-5E08-4FB2-8E86-514BE4A1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A884-4BF7-4C55-91D5-DEF9E23A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3FB-71DB-4E0D-9DFF-F7236012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3B23-AE0A-4C97-9C83-E7EA44DC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4042-7C2A-4D5E-95F0-B8EDB6BF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4640-B473-4627-8CA4-F2595FA1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610B-D7A4-4659-BD2E-39B3E532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0D86-AD69-4959-A5DB-9CEA6A44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4A88F-2757-4633-BB27-EA506611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CE74E-85C1-43F8-8F1F-FC374D51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FEA3C-FD6E-4DAF-8328-CDEF904C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38D08-F3C9-4E8C-829A-B3B70541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01A63-0B23-4D06-A18B-E1EB29A5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170-7740-4F87-B15E-4CC6D03B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E5B84-FACC-43E1-BE56-C4275032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7C257-1534-4DE6-97F0-8F900C06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03F48-D9EE-41C5-A886-A827F5C3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D278-BBF1-4210-B87D-1CAEFE57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E995E-E142-4504-9039-E7EFD206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CF1ED-AD22-406A-A8C8-EA142927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7538D-0205-46BF-BC8E-C461B0F2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DB7AB-34EE-4E84-86F9-C7FA639A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E918E-5253-45A4-9A4E-7137CB45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0E0A4-8EE0-4254-9538-DEE00069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D1A-3E5F-41C0-912D-A5F406D4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EC6AA-C129-40E1-83AD-FCFDFEB2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54306-6E1F-4C84-904B-6EF3AF6D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9BAC6-E9F3-4766-A9D4-1BE30CD0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83642-D941-46C2-9FAC-22568B2A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6312D-E136-4E1A-BC4E-4CDA8660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074E0-3CC9-4E63-B1E1-72429E5C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E1720-953B-4088-AE8C-EFF3A6CF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4A357-4282-4E33-ADE5-9E72A468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F4FB9-2AEE-469E-A154-75717CB4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9BA-4696-4703-B67E-F8359F6D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CFAF-C842-4D7E-88A9-E5C7EF22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38E-098A-43F0-9ABA-615DF934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83E-C627-4E27-B4B9-16E3A731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011-BD2D-4508-8E69-9E5B6C18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ADC7-F957-4733-A538-F7723174F3A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8716-BD4D-4E95-8570-809E63DA9D6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CA71-9988-4CEA-949D-7E4FB060A30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3574-68E8-4FE2-AF66-9DB3940063C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3924360" y="16020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0"/>
          <p:cNvSpPr/>
          <p:nvPr/>
        </p:nvSpPr>
        <p:spPr>
          <a:xfrm>
            <a:off x="146160" y="4005360"/>
            <a:ext cx="622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"/>
          <p:cNvPicPr/>
          <p:nvPr/>
        </p:nvPicPr>
        <p:blipFill>
          <a:blip r:embed="rId4"/>
          <a:stretch/>
        </p:blipFill>
        <p:spPr>
          <a:xfrm>
            <a:off x="7524720" y="177840"/>
            <a:ext cx="1487520" cy="11984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70"/>
          <p:cNvSpPr/>
          <p:nvPr/>
        </p:nvSpPr>
        <p:spPr>
          <a:xfrm>
            <a:off x="395280" y="4221000"/>
            <a:ext cx="54370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0000"/>
                </a:solidFill>
                <a:latin typeface="Arial"/>
              </a:rPr>
              <a:t>НАПРЕДЪК В ИЗПЪЛНЕНИЕТО НА ОПРР 2014-2020 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395280" y="5638680"/>
            <a:ext cx="59054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Четвърт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на КН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2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319040" y="209520"/>
            <a:ext cx="5977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АКТУАЛНО СЪСТОЯНИЕ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tent Placeholder 2"/>
          <p:cNvSpPr/>
          <p:nvPr/>
        </p:nvSpPr>
        <p:spPr>
          <a:xfrm>
            <a:off x="0" y="1413000"/>
            <a:ext cx="910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з 2015 г. следва да бъдат обявени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9 процедури за БФ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БФП за всички процедури за 2015 г. -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2,284 млрд. лв. или 76% от бюджета на програ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 момента са обявени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5 процедури за БФП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 ПО 1 „Устойчиво и интегрирано градско развитие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1 бр.), по ПО 2 „Подкрепа за енергийна ефективност в опорни центрове в периферните райони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1 бр.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по ПО 8 „Техническа помощ“ (3 бр.)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бща стойност на БФП – 1,679 млрд. лв. или 56% от бюджета на програ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з месец декември 2015 г. предстои да бъдат обявени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станалите 4 процедур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по ПО 3 „Регионална образователна инфраструктура“ (3 бр.) и по ПО 7 „Регионална пътна инфраструктура“ (1 бр.)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бща стойност на БФП – 605 млн. лв. или 20% от бюджета на програ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о договорени средства –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60 млн. лв. или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2% от бюджета на програ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8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ехническа помощ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”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98" name="Diagram 3" descr=""/>
          <p:cNvPicPr/>
          <p:nvPr/>
        </p:nvPicPr>
        <p:blipFill>
          <a:blip r:embed="rId4"/>
          <a:stretch/>
        </p:blipFill>
        <p:spPr>
          <a:xfrm>
            <a:off x="85680" y="1378080"/>
            <a:ext cx="894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187280" y="115920"/>
            <a:ext cx="63327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БУЧЕНИЯ НА МЕЖДИННИТЕ ЗВЕНА ПО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ontent Placeholder 2"/>
          <p:cNvSpPr/>
          <p:nvPr/>
        </p:nvSpPr>
        <p:spPr>
          <a:xfrm>
            <a:off x="66600" y="1290600"/>
            <a:ext cx="900612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08" name="Diagram 3" descr=""/>
          <p:cNvPicPr/>
          <p:nvPr/>
        </p:nvPicPr>
        <p:blipFill>
          <a:blip r:embed="rId4"/>
          <a:stretch/>
        </p:blipFill>
        <p:spPr>
          <a:xfrm>
            <a:off x="176040" y="1554120"/>
            <a:ext cx="889488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1319040" y="333360"/>
            <a:ext cx="5977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СТОЯЩИ СТЪПКИ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В ИЗПЪЛНЕНИЕТО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ontent Placeholder 2"/>
          <p:cNvSpPr/>
          <p:nvPr/>
        </p:nvSpPr>
        <p:spPr>
          <a:xfrm>
            <a:off x="0" y="1413000"/>
            <a:ext cx="910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Одобряване на структурата и състава на всички 39 Междинни звена по процедура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FO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01-1.001-039 „Изпълнение на Интегрирани планове за градско възстановяване и развит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2014-20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лючване н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пълнителни анекси към Споразуменията за делегиране на фун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в които да бъдат отразени одобрените документи, свързани с определяне на Междинните зве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инализиране на процеса на оценка на ИП, подадени в периода 15-30 септември 2015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даване на Решение за одобряване на ИП  и сключване на споразумение за изпълнение на ИП с всяка общ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вяване на Насоки за кандидатстване по процедури по ПО 3 и ПО 7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584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Култура и спорт в училищ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584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крепа за професионалните училища в Република Българ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584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крепа за висшите училища в Република Българ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584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Регионални път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042920" y="1844640"/>
            <a:ext cx="7274160" cy="31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Зам.министър на РРБ и Ръководител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4-28T17:44:28Z</cp:lastPrinted>
  <dcterms:modified xsi:type="dcterms:W3CDTF">2015-11-30T08:50:06Z</dcterms:modified>
  <cp:revision>1281</cp:revision>
  <dc:subject/>
  <dc:title>Diapositiva 1</dc:title>
</cp:coreProperties>
</file>