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F82-DAC3-4A88-A800-2B48DF8E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7C2-8EE9-48CA-AF1C-02359DF7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E72-C3CA-4F96-9AE2-5C176C6D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010-A537-45CE-9E7E-1BF131D5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B0C2-7FE0-44FD-9E10-2122A828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EF09-EED3-4988-9406-8B607A6A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0E2C-5100-45B5-A861-4DB16D43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D601-D9CF-4A3B-994D-7AA09729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9BBE-6B9B-4C64-905A-CC3A9CCF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5A5D-278C-4B21-A444-5F9C6FBC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6EC0-254C-4826-8244-F5B8B4C3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2BB-B1FC-4D44-9209-F9DA8F3C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83D5-E4A3-4B3A-92A1-0EF857EE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2FEB-4175-43E2-A71E-F7A85613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3511-4BEB-4044-BE8D-6E0D090A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5705-2E83-4218-B046-60218991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A544-448C-4E51-8016-555F7F99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2C38F-B7EA-43CF-8C28-44D81A51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46EE-DDFB-40EC-8416-2B2CBB5F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65CD3-8C24-4A12-A69A-254D5478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25CE6-8363-48D8-A6A5-4287BE27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3AD47-5DAF-41F8-898A-227C0F9B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0E6-5346-46D8-A7A1-9FC8711C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335E2-0F33-430B-8C7A-02707D82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75916-2450-47FB-B0C6-9DDED8F9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53E4E-1FDF-46A6-8CC1-E8C8CAD7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20C44-52FB-4D90-9BA9-8052858C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EC98B-B6B2-4B78-B509-4528AD5D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28D4E-7DDE-4474-ADAC-47C861CB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F2188-1839-4695-9012-0F1FE9FB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45B6-BEAD-4843-91EC-582D8384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058-FC64-4860-BB9E-4AE7B55E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832-A0C0-45F1-8DEA-F4037008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78C-1DB2-486F-BF3D-5AB25194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E42-DFA6-4A12-945B-990A6577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CBF-F7D6-4C2F-A470-85C5DF52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AC94-5700-4C9B-8996-7BC2E43F89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1E30-A4D5-4367-A572-2E958FA3B2E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6AE4-4085-4FEF-9359-D9EC8121F82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14400" y="4653000"/>
            <a:ext cx="64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Напредък в изпълнението на ОП “Регионално развитие” 2007- 2013 г. – рискови про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332000" y="95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Общ преглед на изпълнението на ОПРР към 15.09.2015 г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560" y="1412640"/>
            <a:ext cx="8859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Публикуван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8 схем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за предоставяне на БФП на обща стойност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3,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31 млрд.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лв.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100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бюджета на ОПРР </a:t>
            </a:r>
            <a:r>
              <a:rPr b="0" i="1" lang="bg-BG" sz="2200" spc="-1" strike="noStrike">
                <a:solidFill>
                  <a:srgbClr val="000066"/>
                </a:solidFill>
                <a:latin typeface="Arial"/>
              </a:rPr>
              <a:t>(3,131 млрд.</a:t>
            </a: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bg-BG" sz="2200" spc="-1" strike="noStrike">
                <a:solidFill>
                  <a:srgbClr val="000066"/>
                </a:solidFill>
                <a:latin typeface="Arial"/>
              </a:rPr>
              <a:t>лв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209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брой сключени договор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 109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с общ размер на предоставената БФП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3,267 млрд. лв.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04%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т бюджета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размер на плащанията по договори –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,690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 млрд.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лв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.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82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т размера на договорираните средства и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86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% от бюджета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размер на сертифицираните разходи по договори –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2 103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  млрд. лв.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64,37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размера на договорираните средства и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67,16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бюджета на ОПРР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152360" y="112680"/>
            <a:ext cx="68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Анализ на риска на изпълнението на ОПРР 2007-201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Chart 11" descr=""/>
          <p:cNvPicPr/>
          <p:nvPr/>
        </p:nvPicPr>
        <p:blipFill>
          <a:blip r:embed="rId3"/>
          <a:stretch/>
        </p:blipFill>
        <p:spPr>
          <a:xfrm>
            <a:off x="4138560" y="1414440"/>
            <a:ext cx="5005440" cy="43894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88920" y="1433520"/>
            <a:ext cx="3835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36"/>
                </a:solidFill>
                <a:latin typeface="Arial"/>
              </a:rPr>
              <a:t>УО извършва регулярно актуализиране на вътрешния анализ относно изпълнението на ОПРР 2007-2013 г. на проектно ни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3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36"/>
                </a:solidFill>
                <a:latin typeface="Arial"/>
              </a:rPr>
              <a:t>Последна актуализация на анализ на риска  - към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0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.10.201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щият брой проекти в изпълнение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02 бр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 - обща стойност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1,27 млрд. л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2 бр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исокорискови проекти без сключен основен договор -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4 млн.л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4 бр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исокорискови проекти на обща стойност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487 млн. л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138320" y="171360"/>
            <a:ext cx="70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Анализ на риска на изпълнението на ОПРР 2007-201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39640" y="144144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уализиран вътрешен анализ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ъм 3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10.2015 г.  относно изпълнението на ОПРР на проектно н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Chart 10" descr=""/>
          <p:cNvPicPr/>
          <p:nvPr/>
        </p:nvPicPr>
        <p:blipFill>
          <a:blip r:embed="rId3"/>
          <a:stretch/>
        </p:blipFill>
        <p:spPr>
          <a:xfrm>
            <a:off x="396720" y="2084400"/>
            <a:ext cx="84981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187280" y="158760"/>
            <a:ext cx="684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</a:rPr>
              <a:t>Рискови проекти по ОПРР 2007-20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34720" y="1413000"/>
            <a:ext cx="8280360" cy="70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4920" y="1422360"/>
          <a:ext cx="9056520" cy="4527720"/>
        </p:xfrm>
        <a:graphic>
          <a:graphicData uri="http://schemas.openxmlformats.org/drawingml/2006/table">
            <a:tbl>
              <a:tblPr/>
              <a:tblGrid>
                <a:gridCol w="5848200"/>
                <a:gridCol w="3208320"/>
              </a:tblGrid>
              <a:tr h="165240">
                <a:tc>
                  <a:txBody>
                    <a:bodyPr lIns="30600" rIns="30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за предоставяне на БФ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нефициен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 gridSpan="2"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сокорискови проекти  без сключен основен договор с изпълните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1.2-02/2011 „Подкрепа за осигуряване на съвременни социални жилища за настаняване на уязвими, малцинствени и социално слаби групи от населението и други групи в неравностойно полож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проект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община Вар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5-02/2012 "В подкрепа за следващия програмен период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проект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община Габро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440">
                <a:tc gridSpan="2"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сокорискови  проекта – 34 б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01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1.1-03/2008 Подкрепа за осигуряване на подходяща и ефективна държавна социална инфраструктура, допринасяща за развитието на устойчиви градски ареал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2 проекта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Агенция за социално подпомаган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1.1-08/2010  „Подкрепа за реконструкция, обновяване и оборудване на държавни лечебни и здравни заведения в градските агломер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3 проекта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Министерство на здравеопазванет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1.1.-09/2010 “Подкрепа за прилагане на мерки за енергийна ефективност в общинска образователна инфраструктура в градските агломерац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проект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община Соп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1.2-01/2011 Подкрепа за енергийна ефективност в многофамилни жилищни сград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проект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Дирекция Жилищна политика (МРРБ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: BG161PO001/1.4-09/2012 „Зелена и достъпна градска среда”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5 проекта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община Варна, община Силистра, община Велико Търново, община Ямбол, Столична общи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2.1-01/2007 "Подкрепа за рехабилитация и реконструкция на второкласни и третокласни пътища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2 проекта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на Агенция „Пътна инфраструктура“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3.1-01/2008 Подкрепа за паметници на културата с национално и световно значение допринасящи за устойчивото развитие на туриз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проект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Министерство на култура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3.1-04/2011 Реставрация и консервация на дворец "Евксиноград" и прилежащия му пар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проект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Министерски съв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3.3-01/2008 Подкрепа за ефективен национален маркетинг на туристическия продукт и подобряване на информационното обслужван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проект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Министерство на туризм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5-02/2012 "В подкрепа за следващия програмен период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6 проекта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Столична община, община Стара Загора, община Велико Търново, община Варна, община Плевен, община Ловеч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 BG161PO001/5-03/2013 "Подкрепа за интегрирани планове за градско възстановяване и развитие II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600" rIns="30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1 проект </a:t>
                      </a:r>
                      <a:r>
                        <a:rPr b="0" lang="bg-BG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община Самок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274760" y="3254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Предприети мерки за намаляване на р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6240" y="1412640"/>
            <a:ext cx="8859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съществяване на </a:t>
            </a:r>
            <a:r>
              <a:rPr b="1" lang="bg-BG" sz="2200" spc="-1" strike="noStrike">
                <a:solidFill>
                  <a:srgbClr val="000066"/>
                </a:solidFill>
                <a:latin typeface="Arial"/>
              </a:rPr>
              <a:t>писмена кореспонденция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с бенефициентите с рискови проек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Бенефициентите се информират, че крайният срок за допустимост на разходите е 31.12.2015 г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Бенефициентите представят информация за дейностите, които ще бъдат изпълнени и съответно средствата, които ще бъдат разплатени до 31.12.2015г., както и информация за дейностите, които няма да бъдат изпълнени, съответно разплатени до тази да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66"/>
                </a:solidFill>
                <a:latin typeface="Arial"/>
              </a:rPr>
              <a:t>Осъществяване на срещи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с бенефициентите с рискови проек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Определяне на конкретни последващи действия за ускоряване изпълнението на проектните дей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0000"/>
                </a:solidFill>
                <a:latin typeface="Arial"/>
              </a:rPr>
              <a:t>Крайна мярка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при невъзможност за изпълнение на дейностите в срок – </a:t>
            </a:r>
            <a:r>
              <a:rPr b="0" lang="bg-BG" sz="2200" spc="-1" strike="noStrike">
                <a:solidFill>
                  <a:srgbClr val="ff0000"/>
                </a:solidFill>
                <a:latin typeface="Arial"/>
              </a:rPr>
              <a:t>прекратяване  на договора за БФП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66"/>
                </a:solidFill>
                <a:uFillTx/>
                <a:latin typeface="Arial"/>
              </a:rPr>
              <a:t>ЦЕЛ: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Приключване на проектите и извършване на окончателни разплащания по всички сключени договори за БФП в рамките на крайните срокове за приключване на ОПРР 2007-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Заместник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министър и Ръководител на У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деке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Yanita Birazova</cp:lastModifiedBy>
  <dcterms:modified xsi:type="dcterms:W3CDTF">2015-11-20T14:46:37Z</dcterms:modified>
  <cp:revision>1025</cp:revision>
  <dc:subject/>
  <dc:title>Diapositiva 1</dc:title>
</cp:coreProperties>
</file>