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5BA-2FDC-45AC-B55E-EFC6B824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3D5-3869-4AF5-ABD0-6472EF06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D66-CBE7-455B-9B19-22129948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299-EB3F-49C0-899C-DB5CBF23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61A5-DBB9-426A-8DE9-B56ACCFF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7159-1D83-47DF-8F3D-13E0CBC1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AFD8-3939-4EB8-99A7-809EAEE1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61B4-7F8B-4210-867F-699C5136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2D7F-686E-490F-A1C9-2BB653D2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5815-9912-4E23-99EC-914F75AA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0A3F-6BB3-4795-A9B0-8C07258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5B9-8041-4455-988C-BB964944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168A-7A01-40B0-A926-377BB655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B77C-1220-45C8-BE2B-491EF070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70EC-0A8D-4ADD-94CA-2A28FE3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ED41-AA73-448F-90BC-5A60247D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EF14-56FC-4441-B3B8-E9536A6F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65EB-FC2D-4C5F-BF9A-7D918ADF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AF4F-8C05-4088-9530-6E2867E0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D4581-35E8-491C-B585-46F15FC0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00E8-B245-4267-8ACC-54B8DC12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50662-77FF-4159-89B6-239B49EE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1DF-7443-4F41-9D6C-E54E70CC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BB04-5B78-463A-9A0B-EE728F69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4BBE1-0DE3-40B4-BE05-B4A99476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912C-B464-4129-8E65-E510A584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B7817-1E8C-499D-B9E0-FE247F77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D8CC-82D0-4BBD-A6EE-9681A184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DB02F-D5F1-4E1F-B403-E2D9EB48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342B-2C07-429E-86B1-2C297870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26E-4470-4C8F-8807-48C28225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6BC-ECF9-4DE0-9B20-2D6167A8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738-0537-4064-8ED8-DC31CBDE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1A1-6E11-45CC-BF56-C6245C42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852-7F75-4655-95F7-4D7A5B6A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01C-AF75-41AB-AD07-8090D294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7486-46E6-4488-BD6A-AE7D13781A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6A56-81E1-43A6-9898-7B3EA68946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111A-B2AC-4689-BCFF-F2D33BB47F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4400" y="465300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Напредък в изпълнението на ОП “Регионално развитие” 2007- 2013 г. – рискови про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332000" y="95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Общ преглед на изпълнението на ОПРР към 15.09.2015 г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560" y="1412640"/>
            <a:ext cx="8859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Публикуван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8 схем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за предоставяне на БФП на обща стойност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3,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31 млрд.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лв.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100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бюджета на ОПРР </a:t>
            </a:r>
            <a:r>
              <a:rPr b="0" i="1" lang="bg-BG" sz="2200" spc="-1" strike="noStrike">
                <a:solidFill>
                  <a:srgbClr val="000066"/>
                </a:solidFill>
                <a:latin typeface="Arial"/>
              </a:rPr>
              <a:t>(3,131 млрд.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bg-BG" sz="2200" spc="-1" strike="noStrike">
                <a:solidFill>
                  <a:srgbClr val="000066"/>
                </a:solidFill>
                <a:latin typeface="Arial"/>
              </a:rPr>
              <a:t>лв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брой сключени договор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 109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с общ размер на предоставената БФП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3,267 млрд. лв.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04%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размер на плащанията по договори –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,690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млрд.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лв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.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82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т размера на договорираните средства и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86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% 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размер на сертифицираните разходи по договори –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2 103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 млрд. лв.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64,37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размера на договорираните средства и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67,16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бюджета на ОПРР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152360" y="112680"/>
            <a:ext cx="68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Анализ на риска на изпълнението на ОПРР 2007-201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Chart 11" descr=""/>
          <p:cNvPicPr/>
          <p:nvPr/>
        </p:nvPicPr>
        <p:blipFill>
          <a:blip r:embed="rId3"/>
          <a:stretch/>
        </p:blipFill>
        <p:spPr>
          <a:xfrm>
            <a:off x="4138560" y="1414440"/>
            <a:ext cx="5005440" cy="43894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88920" y="1433520"/>
            <a:ext cx="3835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36"/>
                </a:solidFill>
                <a:latin typeface="Arial"/>
              </a:rPr>
              <a:t>УО извършва регулярно актуализиране на вътрешния анализ относно изпълнението на ОПРР 2007-2013 г. на проектно ни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3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36"/>
                </a:solidFill>
                <a:latin typeface="Arial"/>
              </a:rPr>
              <a:t>Последна актуализация на анализ на риска  - към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.10.201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щият брой проекти в изпълнение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02 бр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 - обща стойност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1,27 млрд. 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2 бр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сокорискови проекти без сключен основен договор -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4 млн.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4 бр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сокорискови проекти на обща стойност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487 млн. 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38320" y="171360"/>
            <a:ext cx="70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Анализ на риска на изпълнението на ОПРР 2007-201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39640" y="14414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иран вътрешен анализ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м 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10.2015 г.  относно изпълнението на ОПРР на проектно н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Chart 10" descr=""/>
          <p:cNvPicPr/>
          <p:nvPr/>
        </p:nvPicPr>
        <p:blipFill>
          <a:blip r:embed="rId3"/>
          <a:stretch/>
        </p:blipFill>
        <p:spPr>
          <a:xfrm>
            <a:off x="396720" y="2084400"/>
            <a:ext cx="84981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187280" y="158760"/>
            <a:ext cx="68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</a:rPr>
              <a:t>Рискови проекти по ОПРР 2007-20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34720" y="1413000"/>
            <a:ext cx="828036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4920" y="1422360"/>
          <a:ext cx="9056520" cy="4527720"/>
        </p:xfrm>
        <a:graphic>
          <a:graphicData uri="http://schemas.openxmlformats.org/drawingml/2006/table">
            <a:tbl>
              <a:tblPr/>
              <a:tblGrid>
                <a:gridCol w="5848200"/>
                <a:gridCol w="3208320"/>
              </a:tblGrid>
              <a:tr h="165240"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за предоставяне на БФ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нефициен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 gridSpan="2"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окорискови проекти  без сключен основен договор с изпълните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1.2-02/2011 „Подкрепа за осигуряване на съвременни социални жилища за настаняване на уязвими, малцинствени и социално слаби групи от населението и други групи в неравностойно полож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община Вар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5-02/2012 "В подкрепа за следващия програмен период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община Габр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 gridSpan="2"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окорискови  проекта – 34 б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1.1-03/2008 Подкрепа за осигуряване на подходяща и ефективна държавна социална инфраструктура, допринасяща за развитието на устойчиви градски ареа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2 проекта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Агенция за социално подпомага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1.1-08/2010  „Подкрепа за реконструкция, обновяване и оборудване на държавни лечебни и здравни заведения в градските агломер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3 проекта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инистерство на здравеопазванет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1.1.-09/2010 “Подкрепа за прилагане на мерки за енергийна ефективност в общинска образователна инфраструктура в градските агломер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община Соп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1.2-01/2011 Подкрепа за енергийна ефективност в многофамилни жилищни сград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Дирекция Жилищна политика (МРРБ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: BG161PO001/1.4-09/2012 „Зелена и достъпна градска среда”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5 проекта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община Варна, община Силистра, община Велико Търново, община Ямбол, Столична общ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2.1-01/2007 "Подкрепа за рехабилитация и реконструкция на второкласни и третокласни пътища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2 проекта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а Агенция „Пътна инфраструктура“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3.1-01/2008 Подкрепа за паметници на културата с национално и световно значение допринасящи за устойчивото развитие на туриз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инистерство на култура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3.1-04/2011 Реставрация и консервация на дворец "Евксиноград" и прилежащия му пар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инистерски съв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3.3-01/2008 Подкрепа за ефективен национален маркетинг на туристическия продукт и подобряване на информационното обслужва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инистерство на туриз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5-02/2012 "В подкрепа за следващия програмен период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6 проекта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Столична община, община Стара Загора, община Велико Търново, община Варна, община Плевен, община Лове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5-03/2013 "Подкрепа за интегрирани планове за градско възстановяване и развитие II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община Сам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274760" y="325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Предприети мерки за намаляване на р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6240" y="1412640"/>
            <a:ext cx="8859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съществяване на </a:t>
            </a:r>
            <a:r>
              <a:rPr b="1" lang="bg-BG" sz="2200" spc="-1" strike="noStrike">
                <a:solidFill>
                  <a:srgbClr val="000066"/>
                </a:solidFill>
                <a:latin typeface="Arial"/>
              </a:rPr>
              <a:t>писмена кореспонденция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с бенефициентите с рискови проек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Бенефициентите се информират, че крайният срок за допустимост на разходите е 31.12.2015 г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Бенефициентите представят информация за дейностите, които ще бъдат изпълнени и съответно средствата, които ще бъдат разплатени до 31.12.2015г., както и информация за дейностите, които няма да бъдат изпълнени, съответно разплатени до тази да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Arial"/>
              </a:rPr>
              <a:t>Осъществяване на срещи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с бенефициентите с рискови проек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Определяне на конкретни последващи действия за ускоряване изпълнението на проектните дей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0000"/>
                </a:solidFill>
                <a:latin typeface="Arial"/>
              </a:rPr>
              <a:t>Крайна мярка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при невъзможност за изпълнение на дейностите в срок – </a:t>
            </a:r>
            <a:r>
              <a:rPr b="0" lang="bg-BG" sz="2200" spc="-1" strike="noStrike">
                <a:solidFill>
                  <a:srgbClr val="ff0000"/>
                </a:solidFill>
                <a:latin typeface="Arial"/>
              </a:rPr>
              <a:t>прекратяване  на договора за БФП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66"/>
                </a:solidFill>
                <a:uFillTx/>
                <a:latin typeface="Arial"/>
              </a:rPr>
              <a:t>ЦЕЛ: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Приключване на проектите и извършване на окончателни разплащания по всички сключени договори за БФП в рамките на крайните срокове за приключване на ОПРР 2007-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Заместник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инистър и 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деке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Yanita Birazova</cp:lastModifiedBy>
  <dcterms:modified xsi:type="dcterms:W3CDTF">2015-11-20T14:46:37Z</dcterms:modified>
  <cp:revision>1025</cp:revision>
  <dc:subject/>
  <dc:title>Diapositiva 1</dc:title>
</cp:coreProperties>
</file>