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F36F-5AE2-4EE4-8696-31DB62C57C43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90ED-0BF5-484A-8AE9-3DD43838750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1" name="Notes Placeholder 1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Notes Placeholder 1"/>
          <p:cNvSpPr/>
          <p:nvPr/>
        </p:nvSpPr>
        <p:spPr>
          <a:xfrm>
            <a:off x="679320" y="471636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EEFB-49FD-4765-955E-C9EDDB057170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Във формуляра за кандидатстване кандидатите следва да заложат и предоставят информация п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всички посочени по-долу индикатори за продукт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Грижи за децата и образование: Капацитет на подпомогнатата инфраструктура, предназначена за грижи за децата или образование –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бр. студент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Представители на маргинализирани групи, включително роми, облагодетелствани от модернизирана образователна инфраструктура –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брой студен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Модернизирани образователни институции –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Calibri"/>
              </a:rPr>
              <a:t>б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9671-B005-4829-81AB-F5320A8B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343-ECAA-4981-9044-84C1472D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E8D-D511-4016-971D-74F90EBE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96A-63CA-47C2-982A-487EFD34A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E9F9-54C9-473E-8BF1-874B4624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1EB9-5074-4C61-A865-53EEE90A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C24D-0870-4400-A6F8-6A5A8A03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AFD3-3416-4242-9643-12BD34D3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8158-9D3C-4E16-A387-5B8879A6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4860-6460-48BA-BF94-016111F9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8862-3761-465B-BC3E-0F940380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6AC5-8516-4193-AE5B-DC7BDE5C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48EA-9F58-4F13-ACCD-35DE0252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38CC-D8A8-4A3A-973D-ED0BF90D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8689-30E8-4D4D-9DE1-C22ABC79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8C74-F1F2-42B6-B461-54F7409E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A309-3EF6-4D74-A84B-196A1E11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66805-BF84-45D8-9560-A839E5CE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D416F-5581-435C-AEEB-CB917F21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85972-DF7E-4C67-A80D-E4785B89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3B12-0A69-4AE1-A87C-876E9243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C030A-666D-47B1-8429-FA61D360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32D-6C9A-4276-9E54-379B03F8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0AE0-371F-4D18-9322-4C406680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33EFC-5A3C-48EC-9752-5C6B981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4120-20EA-481C-A26F-59394EC0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ABED6-2BA6-4246-945E-D08A1173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50A2-7AB6-48D2-A704-AB0DC550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A68A2-B9CB-466D-8B1E-BC329DF24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E92C-6664-488F-AC9F-8F3BB2E6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B2D72-568B-49FD-AE84-F95A3695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96D0-6825-4B97-AEAD-DCC364B4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3F76C-B5DE-419C-A72F-20AE6771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B9D-12D9-4DF5-802A-89E78BDD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B924F-A47E-4D5E-B15A-8E892DFC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E98AA-A009-4131-9108-6CEC164C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8363F-7165-47E8-9E22-C69B252F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C258A-2648-4297-9B60-A4AA4A5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9360-3821-4714-8933-7160A625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65F2D-7F73-410E-96CE-E91DF116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F1B13-6B6D-410E-B79B-8D26D6F8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B83CE-0E23-4137-8838-0C46990B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B49AA-DCAB-402A-956E-BA7ABC61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AF0F8-BC33-4219-ADF0-49D99399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BE4-A9BB-4AFB-A4F6-AD48FD8A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C2635-2332-45F7-B4D6-1C6A6EE5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619B0-4413-4A78-B9C5-0D2C20C8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E61E-45DC-433D-95A0-E79913EB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F740A-3E32-4CF5-B9B3-46DE8D0E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38B13-1133-443B-8718-2A0906D2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1C94D-FEFF-4E3F-957D-C7A2642F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3724-1C12-4288-991A-E1A6FB1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7468C-8A5A-4E82-A657-66820D23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1126E-0B08-423D-9EA7-9183BFE8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FC3F5-6AD9-4736-BAE5-5431D2B4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82C-E46B-46AC-AA4F-5D32D12F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DCA64-6FF0-41D9-B41E-EBC42232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0F6-339A-4583-9768-14158F03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2DB-2926-4E83-935E-54EB8C17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CDB-31F4-4C6F-BAF3-D1AAD069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F8F9-ED7F-43F8-89D2-60924F83877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F87C-9AF0-436E-92D3-B993B5C8AFF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0839-302F-4029-93BD-499AF2A15E7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282D-3988-4F87-8E4D-45400D24E03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4594-E50C-41FE-8DD8-8C0ED7E1EF7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eumis2020.government.bg/" TargetMode="External"/><Relationship Id="rId3" Type="http://schemas.openxmlformats.org/officeDocument/2006/relationships/hyperlink" Target="https://eumis2020.government.bg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179280" y="3905280"/>
            <a:ext cx="554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Процедура BG16RFOP001-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.00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  „ПОДКРЕПА ЗА ВИСШИТЕ УЧИЛИЩА В РЕПУБЛИКА БЪЛГАРИЯ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Информационен ден – гр. Соф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.03.2016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221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tent Placeholder 2"/>
          <p:cNvSpPr/>
          <p:nvPr/>
        </p:nvSpPr>
        <p:spPr>
          <a:xfrm>
            <a:off x="0" y="1290600"/>
            <a:ext cx="9072720" cy="47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Към Формуляра за кандидатстване трябва да бъде приложено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на академичния съвет или Решение на Общинския съве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й на общинска собственост)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ожим документ от собственика на сградат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й на държавна собственост)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чрез което да се поема ангажимент, че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назначението на сградите, обект на интервенция по проекта, няма да бъде променяно за период не по-малък от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 години след приключване на дейностите по проек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на академичния съвет,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чрез което се поема ангажимент, че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исшето училище няма да бъде закрито за период не по-малък от 5 години след приключване на дейностите по проект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емът по съответното приоритетно направление/я няма да бъде прекратен  за период не по-малък от 5 години след приключване на дейностите по проект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 изпълнение на дейностите, включени в подаденото проектно предложение, ще се постигне цялостна модернизация на висшето училище по съответното приоритетно направление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tent Placeholder 2"/>
          <p:cNvSpPr/>
          <p:nvPr/>
        </p:nvSpPr>
        <p:spPr>
          <a:xfrm>
            <a:off x="270000" y="1413000"/>
            <a:ext cx="847872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ажно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, съответно инвестиционните проекти за обектите на интервенция, следва да включв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задължителни енергоспестяващи мерки, предписани в обследването за енергийна ефективнос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 т.ч. мерки за оползотворяване на възобновяеми енергийни източници (при доказана техническа осъществимост и икономическа целесъобразност),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ъответствие на сградата с нормативните изисквания за енергийна ефективност -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й-малко клас на енергопотребление „С“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задължителни мерки, предписани в техническото обслед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Изисквания във връзка с правилата по държавните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179280" y="1413000"/>
            <a:ext cx="856944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ажно: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 връзка с новопостъпили коментари от страна на Министерство на финансите във връзка с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мк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държавна помощ за научни изследвания, развитие и иноваци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стоят промени в Насоките за кандидатст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Допустимо е финансиране само на помещения, които няма да се използват за стопанска дейност в периода на изпълнение и устойчивост на проекта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учай че бенефициентът възнамерява да интервенира в помещения със смесено ползване (помещения, ползвани и за образование и за стопанска дейност), бенефициентът следва да финансира обновяването на тези помещения със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обствени средства извън БФП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Промяна в изискваните докумен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120600" y="1390680"/>
            <a:ext cx="864072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зпълнение на изискването за финансиране само на нестопански дейности бенефициентите следва да представ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екларация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 проектите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генерират прих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екларация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яма да се финансира стопанска дейнос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че интервенции в помещения със смесено ползване, при наличие на такива, ще се поемат със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 принос извън Б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Решение на академичния съве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че финансираната инфраструктур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ползва за нестопанска дейнос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 периода на изпълнение и устойчивост на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 връзка с посочените промени ще бъдат прецизирани и текстовете в критериите за под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tent Placeholder 2"/>
          <p:cNvSpPr/>
          <p:nvPr/>
        </p:nvSpPr>
        <p:spPr>
          <a:xfrm>
            <a:off x="-14400" y="129384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 всеки обект на интервенция задължително се представ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бследване за енергийна ефективнос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валиден сертифика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енергийни характеристики на сграда в експлоа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бследване за установяване на техническите характеристик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свързани с удовлетворяване на изискванията по чл.169, ал.1, т.1–5 и ал.2 от ЗУТ и технически па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еклар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 зависимост от степента на проектна готовност на всеки обект (сграда)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 в инвестиционния проект са/ще бъдат включ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задължителни ЕСМ, включени в енергийното обслед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задължителни мерки, включени в техническото обслед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-ефективният пакет от ЕСМ, с който се постига най-малко клас на енергопотребление «С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необходими мерки за осигуряване на достъпна архитектурна с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ектна гото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ontent Placeholder 2"/>
          <p:cNvSpPr/>
          <p:nvPr/>
        </p:nvSpPr>
        <p:spPr>
          <a:xfrm>
            <a:off x="0" y="1413000"/>
            <a:ext cx="89298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Техническият/работният проект няма да бъде предмет на оценка и в тази връзка не се представя на етапа на кандидатстван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случай, че на етапа на кандидатстване няма инвестицион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н проект в пълна проектна готовност (вкл. разрешение за строеж), предвидените дейности следва да се основават на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схема/архитектурен план, заверен от главния архитект на общината.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Задължени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на бенефициен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е да съхранява инвестиционния проект в целия му наличен обем и свързаната с него налична документация (съгласувания, одобрения и разрешения и др., вкл. обследване за енергийна ефективност, валиден сертификат за енергийни характеристики, обследване за установяване на техническите характеристики),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която се представя на етапа на верификация на разход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случай че на етапа на верификация бъдат установени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разходи за СМР върху собственост, различна от тази на бенефициента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както и недопустими разходи съгласно Насоките за кандидатстване, тези разходи няма да се финансират чрез БФП и ще се поемат като собствен принос на бенефициен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ontent Placeholder 2"/>
          <p:cNvSpPr/>
          <p:nvPr/>
        </p:nvSpPr>
        <p:spPr>
          <a:xfrm>
            <a:off x="0" y="1298520"/>
            <a:ext cx="907272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ране и авторски надзор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– до 5% от стойността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МР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финансиран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от БФП, одобрена на етапа на кандидатства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прилага при инженеринг (проектиране+авт.надзор+СМ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рамките на общата стойност на СМР могат да се включат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предвидени разходи до 10% от общата стойност на СМР, финансирани от БФП по проек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ри инженеринг –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са допустим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редвидени разходи за СМ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ителен надз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разходите за СМР, финансирани от БФП, одобрена на етап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на съответствие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инвестиционните проект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стойността на разходите за проектиране и авторски надзор, финансирани от БФП, одобрени на етапа на кандидатст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!!!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нженеринг – разходите за строителен надзор и оценка на съответствието са общо до 5% от стойността на инженерин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(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ontent Placeholder 2"/>
          <p:cNvSpPr/>
          <p:nvPr/>
        </p:nvSpPr>
        <p:spPr>
          <a:xfrm>
            <a:off x="0" y="1436760"/>
            <a:ext cx="90727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, свързани с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авяне на необходими разрешителни документ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свързаните с тях такси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както 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еждането на обекта в експлоатац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извършване н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енергийна ефективност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ертификат за актуално състояние,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установяване на техническите характеристик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град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авка на оборудване/обзавеждане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уги, пряко свързани с проекта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оито са необходими за неговата подготовка и изпълнение, като инженерни, технически изследвания, геоложки/геодезически проучвания, за предпроектни проучвания, ОВОС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ontent Placeholder 2"/>
          <p:cNvSpPr/>
          <p:nvPr/>
        </p:nvSpPr>
        <p:spPr>
          <a:xfrm>
            <a:off x="0" y="141300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азходи за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публичност и визуализация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до 1% от общите преки допустими разходи, финансирани от безвъзмездната финансова помощ по проекта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управление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а </a:t>
            </a:r>
            <a:r>
              <a:rPr b="0" i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награждения за екипите за управление и изпълнение на проектните предложен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до 2% общите преки допустими разходи, финансирани от БФП по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А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онсултантски услуги за попълване на формуляра за кандидатстване и приложенията към него, както и за подготовка на документация за възлагане на обществени поръчк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не са допустими за финанси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рок за кандидатст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ontent Placeholder 2"/>
          <p:cNvSpPr/>
          <p:nvPr/>
        </p:nvSpPr>
        <p:spPr>
          <a:xfrm>
            <a:off x="0" y="1413000"/>
            <a:ext cx="907272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Проектни предложения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гат да бъдат подавани текущо до </a:t>
            </a:r>
            <a:r>
              <a:rPr b="1" lang="bg-BG" sz="19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30 юни 2016 г., 19:00 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андидатстването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е осъществява изцяло по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електронен път чрез Модула за електронни услуги н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„ИСУН 2020“ (</a:t>
            </a:r>
            <a:r>
              <a:rPr b="0" lang="ru-RU" sz="1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eumis2020.government.bg</a:t>
            </a:r>
            <a:r>
              <a:rPr b="0" lang="ru-RU" sz="1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дидатите могат да искат 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яснения в срок до 3 (три) седмици преди изтичане на крайния срок за кандидатстване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. Разясненията се съобщават в срок до 2 (две) седмици преди изтичане на крайния срок за кандидатстване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говорите на въпросите се публикуват на сайта на ОПРР и в ИСУН 202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Публикуваните отговори на въпроси, представляват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фициално становище на Управляващия орган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и трябва да бъдат взимани под внимание от кандидата при изготвяне на документацията за кандидатстван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"/>
          <p:cNvPicPr/>
          <p:nvPr/>
        </p:nvPicPr>
        <p:blipFill>
          <a:blip r:embed="rId5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цедура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BG16RFOP001-3.003 „Подкрепа за висшите училища в Р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ontent Placeholder 2"/>
          <p:cNvSpPr/>
          <p:nvPr/>
        </p:nvSpPr>
        <p:spPr>
          <a:xfrm>
            <a:off x="0" y="1628640"/>
            <a:ext cx="900576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 26 февруари 2016 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яв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цедура за директно предоставяне на БФП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BG16RFOP001-3.003 „Подкрепа за висшите училища в РБългария”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приоритетна ос 3 „Регионална образовател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 бенефициенти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исши училища съгласно приоритизиран списъ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ъотвествие с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иката за приоритизация на държавните висши училища за целите на изпълнението на Оперативна програма „Региони в растеж 2014-2020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 бюджет по процедурата –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4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,4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млн.лв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ен срок за кандидатстване: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0 юни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Оценка на проектн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Content Placeholder 2"/>
          <p:cNvSpPr/>
          <p:nvPr/>
        </p:nvSpPr>
        <p:spPr>
          <a:xfrm>
            <a:off x="0" y="1469880"/>
            <a:ext cx="889308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ото предложение се оценява в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ъответствие с критериите, одобрени от Комитета за наблюдение на ОПРР 2014-2020 г.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зцяло по електронен пъ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ектните предложения се оценяват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без сформиране на оценителна комис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Веднага след получаването на проектно предложение, УО ще стартира процедура по неговата оценка. Оценката на проектното предложение се документира чрез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попълване на контролен лист и включва оценка на административното съответствие, допустимостта и техническо и финансово к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установяване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пълноти и/или несъответствия на документит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УО изпраща на бенефициента уведомление за установените несъответствия 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я срок за тяхното отстраняван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йто не може да бъде по-кратък от една седм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0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1042920" y="1844640"/>
            <a:ext cx="72741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местник-министър на регионалното развитие и благоустройството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633276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етодиката за приоритизация на държавните висши училища за целите на изпълнението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7" name="Content Placeholder 7" descr=""/>
          <p:cNvPicPr/>
          <p:nvPr/>
        </p:nvPicPr>
        <p:blipFill>
          <a:blip r:embed="rId4"/>
          <a:stretch/>
        </p:blipFill>
        <p:spPr>
          <a:xfrm>
            <a:off x="0" y="1407960"/>
            <a:ext cx="914400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134136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видуални цели към юни 2018 г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Content Placeholder 2"/>
          <p:cNvSpPr/>
          <p:nvPr/>
        </p:nvSpPr>
        <p:spPr>
          <a:xfrm>
            <a:off x="-17640" y="1413000"/>
            <a:ext cx="9109080" cy="50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Индивидуална етапна цел за всеки бенефициен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верифицирани средства от УО на ОПРР до края на юни 2018 г.)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2% от размера на БФП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определен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всеки бенефициент, въз основа на процента на етапната цел на ниво приоритетна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сертифицирани средства към края на 2018 г.) към бюджета на приоритетна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че бенефициент не е постигнал индивидуалната си етапна цел на верифицираните от УО на ОПРР средства до 30 юни 2018 г.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УО си запазва правото да ревизира определения общ ресурс на БФП (100%) за съответния бенефициен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размера на предоставената до момента БФП по сключените договори с размера на средствата, които не са постигнати като верифици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152280" y="3068640"/>
          <a:ext cx="8812440" cy="1297080"/>
        </p:xfrm>
        <a:graphic>
          <a:graphicData uri="http://schemas.openxmlformats.org/drawingml/2006/table">
            <a:tbl>
              <a:tblPr/>
              <a:tblGrid>
                <a:gridCol w="3506760"/>
                <a:gridCol w="4059360"/>
                <a:gridCol w="12463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Технически университет - София (БФП), л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на цел - верифицирани до 30 юни 2018 г., л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00 0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0 200,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2</a:t>
                      </a: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1332000" y="333360"/>
            <a:ext cx="6188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Цел на процедурат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и максимален размер на проек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4360" y="14130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ел на процедурата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а се създадат условия за модерни образователни услуги в </a:t>
            </a:r>
            <a:r>
              <a:rPr b="1" i="1" lang="bg-BG" sz="1800" spc="-1" strike="noStrike">
                <a:solidFill>
                  <a:srgbClr val="ff0000"/>
                </a:solidFill>
                <a:latin typeface="Arial"/>
              </a:rPr>
              <a:t>сферата на висшето образование чрез обновяване на материалната база, осигуряване на съвременно оборудване и обзавеждане на висшите уч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аксимални праго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проектни предложения за всеки бенефицие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79280" y="3338640"/>
          <a:ext cx="8785440" cy="2151000"/>
        </p:xfrm>
        <a:graphic>
          <a:graphicData uri="http://schemas.openxmlformats.org/drawingml/2006/table">
            <a:tbl>
              <a:tblPr/>
              <a:tblGrid>
                <a:gridCol w="3230640"/>
                <a:gridCol w="2778120"/>
                <a:gridCol w="2776680"/>
              </a:tblGrid>
              <a:tr h="426600"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сшето училище е получило финансиране по ОПРР 2007-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лямо висше училище</a:t>
                      </a:r>
                      <a:br>
                        <a:rPr sz="1400"/>
                      </a:b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над 10 000 учащ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5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о висше училище </a:t>
                      </a:r>
                      <a:br>
                        <a:rPr sz="1400"/>
                      </a:b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от 2 000 до 10 000 учащ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лко висше училище</a:t>
                      </a:r>
                      <a:br>
                        <a:rPr sz="1400"/>
                      </a:b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до 2 000 учащ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 млн.л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1332000" y="333360"/>
            <a:ext cx="6188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бенефици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79280" y="1413000"/>
          <a:ext cx="8785440" cy="3240000"/>
        </p:xfrm>
        <a:graphic>
          <a:graphicData uri="http://schemas.openxmlformats.org/drawingml/2006/table">
            <a:tbl>
              <a:tblPr/>
              <a:tblGrid>
                <a:gridCol w="374760"/>
                <a:gridCol w="4214880"/>
                <a:gridCol w="388800"/>
                <a:gridCol w="3807000"/>
              </a:tblGrid>
              <a:tr h="5032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фийски университет "Св.Климент Охридски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на академия за театрално и филмово изку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618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хнически университет - 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грарен уни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032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ниверситет по архитектура, строителство и геодез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сотехнически уни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618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дицински университет - Соф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на спортна акаде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018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ниверситет за национално и световно стопа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ниверситет по хранителни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04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на музикална академия "Проф.Панчо Владигеров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на художествена акаде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5032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имикотехнологичен и металургичен уни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79280" y="4797360"/>
          <a:ext cx="8785440" cy="1230480"/>
        </p:xfrm>
        <a:graphic>
          <a:graphicData uri="http://schemas.openxmlformats.org/drawingml/2006/table">
            <a:tbl>
              <a:tblPr/>
              <a:tblGrid>
                <a:gridCol w="374760"/>
                <a:gridCol w="4214880"/>
                <a:gridCol w="388800"/>
                <a:gridCol w="3807000"/>
              </a:tblGrid>
              <a:tr h="3603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Резервни бенефициен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кийски универси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но-геоложки университет «Св.Иван Рилс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  <a:tr h="3826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дицински университет - Пловд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332000" y="333360"/>
            <a:ext cx="6188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професионални направления за подкре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" descr=""/>
          <p:cNvPicPr/>
          <p:nvPr/>
        </p:nvPicPr>
        <p:blipFill>
          <a:blip r:embed="rId4"/>
          <a:stretch/>
        </p:blipFill>
        <p:spPr>
          <a:xfrm>
            <a:off x="-15840" y="1413000"/>
            <a:ext cx="9159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Допустими дей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tent Placeholder 2"/>
          <p:cNvSpPr/>
          <p:nvPr/>
        </p:nvSpPr>
        <p:spPr>
          <a:xfrm>
            <a:off x="150840" y="1413000"/>
            <a:ext cx="871200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ителство, реконструкция и ремон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висши училища, включително прилежащото дворно пространство, както и конструктивни обследвания на съответните сгради, подобряване на достъпа за хора с увреждания до образователните сгради като част от строително-монтажните работи, свързани с т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авка и монтаж на оборудване и обзавеждан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горепосочените сгради/помещения, като част от цялостното им обновя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Не е допустимо финансиране за доставка на  оборудване и обзавеждане за научноразвойна и изследователска дейност, включително оборудване и обзавеждане за учебни лаборат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0" y="1407960"/>
            <a:ext cx="907272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тервенции следва да се осъществяват в сградите на висшите училища, в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ито се предоставят образователни услуги по съответните приоритетни направления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те следва да включват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цялостно обновяване на съответните обекти на интервенция и прилежащите дворни пространства (ако е приложим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в формуляра за кандидатстване следва да се представи информация за предвидените за изпълнение в рамките на 5 годишния период на устойчивост на проект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съпътстващи меки мерки, свързани с обновената образователна инфраструктура на висшето училище, с цел подобряване и модернизация на образователния процес и с ясно описани източници на финансиране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йностите по проектите следв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а не са физически завършени или изцяло осъществени преди подаване на съответното проектно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5-05T13:25:48Z</cp:lastPrinted>
  <dcterms:modified xsi:type="dcterms:W3CDTF">2016-03-22T13:05:06Z</dcterms:modified>
  <cp:revision>1475</cp:revision>
  <dc:subject/>
  <dc:title>Diapositiva 1</dc:title>
</cp:coreProperties>
</file>