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B64E-F676-4589-9257-82A10B28843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B03-5DD1-4E36-9C4B-153D04A6825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Notes Placeholder 1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Notes Placeholder 1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C9F0-27B2-476B-B410-9E04FC8273E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Във формуляра за кандидатстване кандидатите следва да заложат и предоставят информация п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всички посочени по-долу индикатори за продукт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Грижи за децата и образование: Капацитет на подпомогнатата инфраструктура, предназначена за грижи за децата или образование –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бр. студент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Представители на маргинализирани групи, включително роми, облагодетелствани от модернизирана образователна инфраструктура –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брой студен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Модернизирани образователни институции –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б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981-1605-4984-83B5-A259FDBB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831-CF11-419D-9B4D-A22EAF6F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F89-49CF-469D-B721-8B6CF03D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893-413F-4E13-8CD5-AA350207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F1ED-5524-4CB6-A471-1AB565CA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399-2449-477F-9F24-B944A5B1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BEE7-BF9D-4890-8947-55ACEDB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A374-D99D-426C-8509-BDE255F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2E2E-EC4C-49C7-9531-B347C47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B6B1-552F-42B3-9FC6-9B3D52E5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AD86-CB31-4002-8AA3-C372D9F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57E-54E6-4ADB-BB9D-1A79C434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7DBB-703E-45BD-B6E6-2B6AB3E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25D0-9993-4D12-ABD9-30B9C932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FDAE-3335-4A4B-A626-B607FA45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DBA7-1B2D-40CD-9100-25F1B0AE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9206-D178-420B-A536-6DFFBAD0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6F1B-ACEF-4AAD-BF5F-C9E9F9FE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F8FF-DE07-4DF5-8AE7-FA3393C2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2D44-56B4-40B3-8987-E2208F78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9EAB-C81A-4B18-BC2C-A324D0DA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2FF4-1E97-438E-8B84-726A4385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091-0F31-4803-9F08-945F3ACB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8A12-2844-4487-AB70-D23190C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4304-6C54-41B4-8B01-E36074E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3D3A-F31D-49EF-A818-69E0D5F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A00C-14D6-445F-A923-66B8700F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35A2-2447-405E-999B-93D70B94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1221-E9B7-4E31-A247-472C9165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B565-CFA4-4D86-BFB1-0164D441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041F-5918-4992-B184-D75DDC90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3712-6B18-4DE2-981B-C240DAF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BF61-725B-4CB7-BD42-F25C23E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F2F-9384-4CAF-9F88-C415D6BB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F666-5B89-4D9C-8DD2-19FE9606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BAE3-54DC-4421-B896-82DE452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54C8-A116-4759-9E01-D271ADA4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B2DD-6FFD-4B88-94D4-E487082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F445-E7D6-4410-A715-7878AED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0B0E-2C4B-4F8B-8FAE-3EA33B91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2D74-D72C-4AB3-BF64-6B7785F1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26E0-1DAD-4390-9AD4-4ACD05B6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2DC8-9A82-4B43-816B-8138CAA6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8C01-4907-4491-8B0F-80D1973F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133-B42D-4730-A5D2-B01C3A7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B2AE0-772D-43EA-BDEE-59CC8C09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48B9-4709-4EA7-8301-8BBBF9E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7EF1-1C03-412D-90DE-E223708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8E73-67B3-4F31-89B1-E95BE7F6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BCBC-9FF7-4895-8C10-1B68A95C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99B8-09DA-4C01-8C79-C8F2E4DC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BA1EF-6DAB-4B15-B38B-C76909C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8AD69-24E4-4FDD-9CC5-92A8CDF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B229E-C493-4857-8210-A40016D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DC1FB-9D66-4351-87AF-BF7F9FFA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612-AB27-4D5B-93C2-59387EC3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D481-6F79-48C3-B168-DAB726A5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69F-F67B-42C6-8E39-D33D17F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53A-3150-4562-AB2E-B4A729B6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0F9-516E-4D98-8622-582586C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AD6C-4449-4CC0-9E23-67CB6675A6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C87C-533B-4F3B-AB70-60634BA4A6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175D-9EA3-4D71-B911-ECE4BCE367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6027-24D6-4B9B-983F-F8FCA7BCD6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B0BD-A305-47CF-98F1-430E6A532B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eumis2020.government.bg/" TargetMode="External"/><Relationship Id="rId3" Type="http://schemas.openxmlformats.org/officeDocument/2006/relationships/hyperlink" Target="https://eumis2020.government.bg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79280" y="3905280"/>
            <a:ext cx="554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оцедура BG16RFOP001-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.00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  „ПОДКРЕПА ЗА ВИСШИТЕ УЧИЛИЩА В 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Информационен ден – гр.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.03.2016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221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tent Placeholder 2"/>
          <p:cNvSpPr/>
          <p:nvPr/>
        </p:nvSpPr>
        <p:spPr>
          <a:xfrm>
            <a:off x="0" y="1290600"/>
            <a:ext cx="907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Към Формуляра за кандидатстване трябва да бъде приложен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академичния съвет или Решение на Общинския съве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 на общинска собственост)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им документ от собственика на сградат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 на държавна собственост)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чрез което да се поема ангажимент, че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назначението на сградите, обект на интервенция по проекта, няма да бъде променяно за период не по-малък от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 години след приключване на дейностите по проек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академичния съвет,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чрез което се поема ангажимент, че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исшето училище няма да бъде закрито за период не по-малък от 5 години след приключване на дейностите по проект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емът по съответното приоритетно направление/я няма да бъде прекратен  за период не по-малък от 5 години след приключване на дейностите по проект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 изпълнение на дейностите, включени в подаденото проектно предложение, ще се постигне цялостна модернизация на висшето училище по съответното приоритетно направлени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270000" y="1413000"/>
            <a:ext cx="8478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ажн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, съответно инвестиционните проекти за обектите на интервенция, следва да включв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енергоспестяващи мерки, предписани в обследването за енергийна ефективнос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.ч. мерки за оползотворяване на възобновяеми енергийни източници (при доказана техническа осъществимост и икономическа целесъобразност)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ъответствие на сградата с нормативните изисквания за енергийна ефективност -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й-малко клас на енергопотребление „С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мерки, предписани в техническото обслед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Изисквания във връзка с правилата по държавните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179280" y="1413000"/>
            <a:ext cx="856944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ажно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 връзка с новопостъпили коментари от страна на Министерство на финансите във връзка с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мк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държавна помощ за научни изследвания, развитие и иноваци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стоят промени в Насоките за кандидатст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Допустимо е финансиране само на помещения, които няма да се използват за стопанска дейност в периода на изпълнение и устойчивост на проект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й че бенефициентът възнамерява да интервенира в помещения със смесено ползване (помещения, ползвани и за образование и за стопанска дейност), бенефициентът следва да финансира обновяването на тези помещения със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обствени средства извън БФП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Промяна в изискваните докумен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20600" y="1390680"/>
            <a:ext cx="8640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пълнение на изискването за финансиране само на нестопански дейности бенефициентите следва да представ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еклара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 проектит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генерират прих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еклара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яма да се финансира стопанска дей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че интервенции в помещения със смесено ползване, при наличие на такива, ще се поемат със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 принос извън Б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ешение на академичния съве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 финансираната инфраструктур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лзва за нестопанска дей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 периода на изпълнение и устойчивост на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 връзка с посочените промени ще бъдат прецизирани и текстовете в критериите за под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-14400" y="129384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секи обект на интервенция задължително се представ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енергийна ефективнос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алиден сертифика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енергийни характеристики на сграда в експлоа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установяване на техническите характеристи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свързани с удовлетворяване на изискванията по чл.169, ал.1, т.1–5 и ал.2 от ЗУТ и технически па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зависимост от степента на проектна готовност на всеки обект (сграда)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 в инвестиционния проект са/ще бъдат вклю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ЕСМ, включени в енергийн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мерки, включени в техническ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-ефективният пакет от ЕСМ, с който се постига най-малко клас на енергопотребление «С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tent Placeholder 2"/>
          <p:cNvSpPr/>
          <p:nvPr/>
        </p:nvSpPr>
        <p:spPr>
          <a:xfrm>
            <a:off x="0" y="1413000"/>
            <a:ext cx="89298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Техническият/работният проект няма да бъде предмет на оценка и в тази връзка не се представя на етапа на кандидатстван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, че на етапа на кандидатстване няма инвестицион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н проект в пълна проектна готовност (вкл. разрешение за строеж), предвидените дейности следва да се основават на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схема/архитектурен план, заверен от главния архитект на общината.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дълже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 бенефициен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е да съхранява инвестиционния проект в целия му наличен обем и свързаната с него налична документация (съгласувания, одобрения и разрешения и др., вкл. обследване за енергийна ефективност, валиден сертификат за енергийни характеристики, обследване за установяване на техническите характеристики),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която се представя на етапа на верификация на разход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на етапа на верификация бъдат установен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разходи за СМР върху собственост, различна от тази на бенефициент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както и недопустими разходи съгласно Насоките за кандидатстване, тези разходи няма да се финансират чрез БФП и ще се поемат като собствен принос на бенефициен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0" y="1298520"/>
            <a:ext cx="90727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ане и авторски надз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– до 5% от стойност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МР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иран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от БФП, одобрена на етапа на кандидатст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прилага при инженеринг (проектиране+авт.надзор+СМ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рамките на общата стойност на СМР могат да се включат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редвидени разходи до 10% от общата стойност на СМР, финансирани от БФП по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и инженеринг 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едвидени разходи за СМ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ен надз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разходите за СМР, финансирани от БФП, одобрена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на съответствие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вестиционните проект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стойността на разходите за проектиране и авторски надзор, финансирани от БФП, одобрени на етапа на кандидатст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!!!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нженеринг – разходите за строителен надзор и оценка на съответствието са общо до 5% от стойността на инженерин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tent Placeholder 2"/>
          <p:cNvSpPr/>
          <p:nvPr/>
        </p:nvSpPr>
        <p:spPr>
          <a:xfrm>
            <a:off x="0" y="1436760"/>
            <a:ext cx="9072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авяне на необходими разрешителни документ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вързаните с тях такс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кто 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ждането на обекта в експлоатац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извършване н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енергийна ефективнос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тификат за актуално състояние,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установяване на техническите характеристик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град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авка на оборудване/обзавежд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яко свързани с проекта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ито са необходими за неговата подготовка и изпълнение, като инженерни, технически изследвания, геоложки/геодезически проучвания, за предпроектни проучвания, ОВОС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публичност и визуализац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до 1% от общите преки допустими разходи, финансирани от безвъзмездната финансова помощ по проекта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управлени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</a:t>
            </a:r>
            <a:r>
              <a:rPr b="0" i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награждения за екипите за управление и изпълнение на проектните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2% общите преки допустими разходи, финансирани от БФП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нсултантски услуги за попълване на формуляра за кандидатстване и приложенията към него, както и за подготовка на документация за възлагане на обществени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е са допустими за финанси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рок за 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tent Placeholder 2"/>
          <p:cNvSpPr/>
          <p:nvPr/>
        </p:nvSpPr>
        <p:spPr>
          <a:xfrm>
            <a:off x="0" y="1413000"/>
            <a:ext cx="907272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Проектни предложения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гат да бъдат подавани текущо до </a:t>
            </a:r>
            <a:r>
              <a:rPr b="1" lang="bg-BG" sz="19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30 юни 2016 г., 19:00 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андидатстването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е осъществява изцяло по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електронен път чрез Модула за електронни услуги н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„ИСУН 2020“ (</a:t>
            </a:r>
            <a:r>
              <a:rPr b="0" lang="ru-RU" sz="1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eumis2020.government.bg</a:t>
            </a:r>
            <a:r>
              <a:rPr b="0" lang="ru-RU" sz="1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дидатите могат да искат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яснения в срок до 3 (три) седмици преди изтичане на крайния срок за кандидатств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 Разясненията се съобщават в срок до 2 (две) седмици преди изтичане на крайния срок за кандидатств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говорите на въпросите се публикуват на сайта на ОПРР и в ИСУН 202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Публикуваните отговори на въпроси, представляват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фициално становище на Управляващия орган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рябва да бъдат взимани под внимание от кандидата при изготвяне на документацията за кандидатст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BG16RFOP001-3.003 „Подкрепа за висшите училища в Р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0" y="1628640"/>
            <a:ext cx="900576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 26 февруари 2016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цедура за директно предоставяне на БФП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BG16RFOP001-3.003 „Подкрепа за висшите училища в РБългария”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риоритетна ос 3 „Регионална образовател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исши училища съгласно приоритизиран списъ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ствие с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ката за приоритизация на държавните висши училища за целите на изпълнението на Оперативна програма „Региони в растеж 2014-2020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бюджет по процедурата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,4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млн.л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ен срок за кандидатстване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0 юни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Оценка на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Content Placeholder 2"/>
          <p:cNvSpPr/>
          <p:nvPr/>
        </p:nvSpPr>
        <p:spPr>
          <a:xfrm>
            <a:off x="0" y="1469880"/>
            <a:ext cx="889308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ото предложение се оценява в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ствие с критериите, одобрени от Комитета за наблюдение на ОПРР 2014-2020 г.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зцяло по електронен пъ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ните предложения се оценяват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без сформиране на оценителна комис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Веднага след получаването на проектно предложение, УО ще стартира процедура по неговата оценка. Оценката на проектното предложение се документира чрез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опълване на контролен лист и включва оценка на административното съответствие, допустимостта и техническо и финансово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установяване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ълноти и/или несъответствия на документ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УО изпраща на бенефициента уведомление за установените несъответствия 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я срок за тяхното отстранява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йто не може да бъде по-кратък от една седм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министър на регионалното развитие и благоустройството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633276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тодиката за приоритизация на държавните висши училища за целите на изпълнението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Content Placeholder 7" descr=""/>
          <p:cNvPicPr/>
          <p:nvPr/>
        </p:nvPicPr>
        <p:blipFill>
          <a:blip r:embed="rId4"/>
          <a:stretch/>
        </p:blipFill>
        <p:spPr>
          <a:xfrm>
            <a:off x="0" y="1407960"/>
            <a:ext cx="91440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134136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ontent Placeholder 2"/>
          <p:cNvSpPr/>
          <p:nvPr/>
        </p:nvSpPr>
        <p:spPr>
          <a:xfrm>
            <a:off x="-17640" y="1413000"/>
            <a:ext cx="910908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верифицирани средства от УО на ОПРР до края на юни 2018 г.)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2% от размера на БФП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определен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еки бенефициент, въз основа на процента на етапната цел на ниво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сертифицирани средства към края на 2018 г.) към бюджета на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бенефициент не е постигнал индивидуалната си етапна цел на верифицираните от УО на ОПРР средства до 30 юни 2018 г.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УО си запазва правото да ревизира определения общ ресурс на БФП (100%) за съответния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размера на предоставената до момента БФП по сключените договори с размера на средствата, които не са постигнати като верифици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2280" y="3068640"/>
          <a:ext cx="8812440" cy="1297080"/>
        </p:xfrm>
        <a:graphic>
          <a:graphicData uri="http://schemas.openxmlformats.org/drawingml/2006/table">
            <a:tbl>
              <a:tblPr/>
              <a:tblGrid>
                <a:gridCol w="3506760"/>
                <a:gridCol w="4059360"/>
                <a:gridCol w="12463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Технически университет - София (БФП)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- верифицирани до 30 юни 2018 г.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0 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 2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2</a:t>
                      </a: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 на процедурат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и максимален размер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4360" y="1413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ел на процедурата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а се създадат условия за модерни образователни услуги в 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сферата на висшето образование чрез обновяване на материалната база, осигуряване на съвременно оборудване и обзавеждане на висшите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симални праг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роектни предложения за всеки бенефици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79280" y="3338640"/>
          <a:ext cx="8785440" cy="2151000"/>
        </p:xfrm>
        <a:graphic>
          <a:graphicData uri="http://schemas.openxmlformats.org/drawingml/2006/table">
            <a:tbl>
              <a:tblPr/>
              <a:tblGrid>
                <a:gridCol w="3230640"/>
                <a:gridCol w="2778120"/>
                <a:gridCol w="2776680"/>
              </a:tblGrid>
              <a:tr h="42660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сшето училище е получило финансиране по ОПРР 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лямо висше училище</a:t>
                      </a:r>
                      <a:br>
                        <a:rPr sz="1400"/>
                      </a:b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над 10 000 учащ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о висше училище </a:t>
                      </a:r>
                      <a:br>
                        <a:rPr sz="1400"/>
                      </a:b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от 2 000 до 10 000 учащ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лко висше училище</a:t>
                      </a:r>
                      <a:br>
                        <a:rPr sz="1400"/>
                      </a:b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до 2 000 учащ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бенефици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79280" y="1413000"/>
          <a:ext cx="8785440" cy="3240000"/>
        </p:xfrm>
        <a:graphic>
          <a:graphicData uri="http://schemas.openxmlformats.org/drawingml/2006/table">
            <a:tbl>
              <a:tblPr/>
              <a:tblGrid>
                <a:gridCol w="374760"/>
                <a:gridCol w="4214880"/>
                <a:gridCol w="388800"/>
                <a:gridCol w="3807000"/>
              </a:tblGrid>
              <a:tr h="5032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фийски университет "Св.Климент Охридски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академия за театрално и филмово изку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61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ически университет - 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грарен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32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ниверситет по архитектура, строителство и геоде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сотехнически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61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дицински университет - 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спортна акаде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1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ниверситет за национално и световно стоп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ниверситет по хранителни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4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музикална академия "Проф.Панчо Владигеров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художествена акаде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32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имикотехнологичен и металургичен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79280" y="4797360"/>
          <a:ext cx="8785440" cy="1230480"/>
        </p:xfrm>
        <a:graphic>
          <a:graphicData uri="http://schemas.openxmlformats.org/drawingml/2006/table">
            <a:tbl>
              <a:tblPr/>
              <a:tblGrid>
                <a:gridCol w="374760"/>
                <a:gridCol w="4214880"/>
                <a:gridCol w="388800"/>
                <a:gridCol w="380700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езервни бенефициен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кийски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но-геоложки университет «Св.Иван Рилс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дицински университет - Пловд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професионални направления за подкре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4"/>
          <a:stretch/>
        </p:blipFill>
        <p:spPr>
          <a:xfrm>
            <a:off x="-15840" y="1413000"/>
            <a:ext cx="9159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Допустими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150840" y="1413000"/>
            <a:ext cx="87120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ство, реконструкция и ремон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висши училища, включително прилежащото дворно пространство, както и конструктивни обследвания на съответните сгради, подобряване на достъпа за хора с увреждания до образователните сгради като част от строително-монтажните работи, свързани с 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авка и монтаж на оборудване и обзавеждан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горепосочените сгради/помещения, като част от цялостното им обновя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Не е допустимо финансиране за доставка на  оборудване и обзавеждане за научноразвойна и изследователска дейност, включително оборудване и обзавеждане за учебни лабор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0" y="1407960"/>
            <a:ext cx="907272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тервенции следва да се осъществяват в сградите на висшите училища, в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ито се предоставят образователни услуги по съответните приоритетни направления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те следва да включват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цялостно обновяване на съответните обекти на интервенция и прилежащите дворни пространства (ако е приложим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формуляра за кандидатстване следва да се представи информация за предвидените за изпълнение в рамките на 5 годишния период на устойчивост на проект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ъпътстващи меки мерки, свързани с обновената образователна инфраструктура на висшето училище, с цел подобряване и модернизация на образователния процес и с ясно описани източници на финансиране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йностите по проектите следв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а не са физически завършени или изцяло осъществени преди подаване на съответното проектно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05T13:25:48Z</cp:lastPrinted>
  <dcterms:modified xsi:type="dcterms:W3CDTF">2016-03-22T13:05:06Z</dcterms:modified>
  <cp:revision>1475</cp:revision>
  <dc:subject/>
  <dc:title>Diapositiva 1</dc:title>
</cp:coreProperties>
</file>