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486-EE4D-4CAB-8B87-D6508FE4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AC2-5B0B-4B71-B636-2E24E1F5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37A-3DD9-491C-970F-86EF210C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5FF1-16DB-4FE2-816F-1135CB2B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B1DB8-7E3D-4FC3-BFCA-C91316E3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B9A45-601C-49DF-891A-838F1C11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9B8E4-2046-41F9-AFAF-49C5B7E5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4D583-627F-4BF3-9558-993AE905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E0F96-D5E3-4ABB-8FED-12309E6C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23EC4-A848-451A-BF98-B9C70013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94332-D2A5-4A65-9CFB-4AF3B892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83B-6E98-4FF7-891F-AFE9AEF1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6A579-5574-47F4-B77D-A34D74BD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A4C41-9BE2-4F0E-9FFB-18BBE57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63A09-2126-4455-A151-F4822CE4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C136C-0C60-41E8-818B-24F70ADF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28B09-0408-4B66-B2B6-BB157CAC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112-719A-4870-8EB8-F792450D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FEF-715A-4A60-98BB-485FCAE8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0F7-8661-45E4-888C-5C403CE2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46C-2EA1-4F55-A9AB-99D9CA00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6797-4C65-4F43-9963-96B2584D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5E9-0274-4BC3-9EAB-2BDDB8AA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1D7-697F-4B93-99C6-F11C3F33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90CE-F321-485C-B825-2AFF86C35753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aea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5c8ff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5c8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FD16-1F82-4F89-9858-F2CBBB75A0B7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916280"/>
            <a:ext cx="84960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a50021"/>
                </a:solidFill>
                <a:latin typeface="Arial"/>
              </a:rPr>
              <a:t>Подписване на договори по схема 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BG161PO001/1.1-08/2010 </a:t>
            </a:r>
            <a:r>
              <a:rPr b="1" lang="bg-BG" sz="2200" spc="-1" strike="noStrike">
                <a:solidFill>
                  <a:srgbClr val="a50021"/>
                </a:solidFill>
                <a:latin typeface="Arial"/>
              </a:rPr>
              <a:t>„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Подкрепа за реконструкция, обновяване и оборудване на държавни лечебни и здравни заведения в градските агломерации</a:t>
            </a:r>
            <a:r>
              <a:rPr b="1" lang="bg-BG" sz="2200" spc="-1" strike="noStrike">
                <a:solidFill>
                  <a:srgbClr val="a50021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28 август 2013 г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8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50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52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5"/>
          <p:cNvSpPr/>
          <p:nvPr/>
        </p:nvSpPr>
        <p:spPr>
          <a:xfrm>
            <a:off x="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1547640" y="907920"/>
            <a:ext cx="75963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179280" y="2276640"/>
            <a:ext cx="8820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692360" y="152100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„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дкрепа за реконструкция, обновяване и оборудване на държавни лечебни и здравни заведения в градските агломерации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” (1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87360" y="2451240"/>
            <a:ext cx="84614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020e"/>
                </a:solidFill>
                <a:latin typeface="Tahoma"/>
              </a:rPr>
              <a:t>Основна цел </a:t>
            </a:r>
            <a:r>
              <a:rPr b="0" lang="ru-RU" sz="1600" spc="-1" strike="noStrike">
                <a:solidFill>
                  <a:srgbClr val="03020e"/>
                </a:solidFill>
                <a:latin typeface="Tahoma"/>
              </a:rPr>
              <a:t>– осигуряване на подходяща и ефективна държавна здравна инфраструктура, допринасяща за развитието на устойчиви градски ареа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3020e"/>
                </a:solidFill>
                <a:latin typeface="Tahoma"/>
              </a:rPr>
              <a:t>Конкретен бенефициент </a:t>
            </a:r>
            <a:r>
              <a:rPr b="0" lang="ru-RU" sz="1600" spc="-1" strike="noStrike">
                <a:solidFill>
                  <a:srgbClr val="03020e"/>
                </a:solidFill>
                <a:latin typeface="Tahoma"/>
              </a:rPr>
              <a:t>– Министерство на здравеопазване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020e"/>
                </a:solidFill>
                <a:latin typeface="Tahoma"/>
              </a:rPr>
              <a:t>„</a:t>
            </a:r>
            <a:r>
              <a:rPr b="1" lang="ru-RU" sz="1800" spc="-1" strike="noStrike">
                <a:solidFill>
                  <a:srgbClr val="03020e"/>
                </a:solidFill>
                <a:latin typeface="Tahoma"/>
              </a:rPr>
              <a:t>Изграждане на регионален център за ранна диагностика на онкологични заболявания в МБАЛ „Проф. д-р Стоян Киркович АД”, гр. Стара Загора,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 (Компонент 1) на обща стойност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5 566 349,40 лв., 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от които БФП в размер на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5 534 464,03 л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020e"/>
                </a:solidFill>
                <a:latin typeface="Tahoma"/>
              </a:rPr>
              <a:t>„</a:t>
            </a:r>
            <a:r>
              <a:rPr b="1" lang="ru-RU" sz="1800" spc="-1" strike="noStrike">
                <a:solidFill>
                  <a:srgbClr val="03020e"/>
                </a:solidFill>
                <a:latin typeface="Tahoma"/>
              </a:rPr>
              <a:t>МБАЛ Габрово АД Изграждане на регионален център за ранна диагностика на онкологични заболявания – Габрово”, 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(Компонент 1) на обща стойност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5 535 608,77 лв.,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 от които БФП в размер на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5 504 090,84 л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49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8"/>
          <p:cNvSpPr/>
          <p:nvPr/>
        </p:nvSpPr>
        <p:spPr>
          <a:xfrm>
            <a:off x="1547640" y="1197000"/>
            <a:ext cx="759636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539640" y="1989000"/>
            <a:ext cx="8209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22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a50021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3" marL="1109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3" marL="1109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692360" y="1557360"/>
            <a:ext cx="660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„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дкрепа за реконструкция, обновяване и оборудване на държавни лечебни и здравни заведения в градските агломерации</a:t>
            </a:r>
            <a:r>
              <a:rPr b="1" lang="bg-BG" sz="1800" spc="-1" strike="noStrike">
                <a:solidFill>
                  <a:srgbClr val="c00000"/>
                </a:solidFill>
                <a:latin typeface="Tahoma"/>
              </a:rPr>
              <a:t>” (2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77920" y="2924280"/>
            <a:ext cx="858816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3020e"/>
                </a:solidFill>
                <a:latin typeface="Tahoma"/>
              </a:rPr>
              <a:t>Общо предоставена БФП на Министерство на здравеопазването -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8 млн. л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В изпълнение договори за </a:t>
            </a:r>
            <a:r>
              <a:rPr b="1" lang="ru-RU" sz="1800" spc="-1" strike="noStrike">
                <a:solidFill>
                  <a:srgbClr val="03020e"/>
                </a:solidFill>
                <a:latin typeface="Tahoma"/>
              </a:rPr>
              <a:t>13 държавни лечебни заведения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 в управление на Министерство на здравеопазването</a:t>
            </a:r>
            <a:r>
              <a:rPr b="0" lang="en-US" sz="1800" spc="-1" strike="noStrike">
                <a:solidFill>
                  <a:srgbClr val="03020e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С подписването на 2-та договора общата стойност на предоставената БФП по схемата ще бъде в размер на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149 млн. л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020e"/>
                </a:solidFill>
                <a:latin typeface="Tahoma"/>
              </a:rPr>
              <a:t>Очаквани резултати от изпълнението на проект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3020e"/>
                </a:solidFill>
                <a:latin typeface="Tahoma"/>
              </a:rPr>
              <a:t>406 </a:t>
            </a:r>
            <a:r>
              <a:rPr b="0" lang="ru-RU" sz="1700" spc="-1" strike="noStrike">
                <a:solidFill>
                  <a:srgbClr val="03020e"/>
                </a:solidFill>
                <a:latin typeface="Tahoma"/>
              </a:rPr>
              <a:t>създадени нови работни мест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3020e"/>
                </a:solidFill>
                <a:latin typeface="Tahoma"/>
              </a:rPr>
              <a:t>4 882 098 души</a:t>
            </a:r>
            <a:r>
              <a:rPr b="0" lang="ru-RU" sz="1700" spc="-1" strike="noStrike">
                <a:solidFill>
                  <a:srgbClr val="03020e"/>
                </a:solidFill>
                <a:latin typeface="Tahoma"/>
              </a:rPr>
              <a:t>, облагодетелствани от обновяването на държавните лечебни заведения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03020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3020e"/>
                </a:solidFill>
                <a:latin typeface="Tahoma"/>
              </a:rPr>
              <a:t>15</a:t>
            </a:r>
            <a:r>
              <a:rPr b="0" lang="ru-RU" sz="1700" spc="-1" strike="noStrike">
                <a:solidFill>
                  <a:srgbClr val="03020e"/>
                </a:solidFill>
                <a:latin typeface="Tahoma"/>
              </a:rPr>
              <a:t> обновени лечебни заведения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179280" y="1989000"/>
            <a:ext cx="8785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ГЛАВНА ДИРЕКЦ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ОГРАМИРАНЕ НА РЕГИОНАЛНОТ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Arial"/>
              </a:rPr>
              <a:t>БЛАГОДАРЯ ЗА ВНИМАНИЕТ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28 август 2013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гр. Соф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Tsvetelina Dimitrova</cp:lastModifiedBy>
  <dcterms:modified xsi:type="dcterms:W3CDTF">2013-08-26T14:16:55Z</dcterms:modified>
  <cp:revision>566</cp:revision>
  <dc:subject/>
  <dc:title>Slide 1</dc:title>
</cp:coreProperties>
</file>