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670675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5C16-C464-44D0-8F95-107BD121C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E97C-CA3F-4412-938D-931B4660D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47DC-09D2-4297-8014-D13BE2541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2F08-583D-4A30-906D-1E6869C2F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541DAF-C934-497E-B391-79DCAB0DE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5B9040-3BD3-4C29-BA4C-B72E9219A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FBDD83-0EE4-4A85-BEC6-36CC71605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EFCF9F-7363-4465-9937-18E2814A1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CB7368-6A9A-4EC0-B593-81D6A886A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BA91D2-A2CB-42FE-9091-6F42EAFF1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FDF362-8C34-44A3-B569-1A0B9D1A7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F042-5FC7-4A3A-BAFF-4FAFE1267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4B9D61-48A7-42DF-8A36-635B72FD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BA5DA0-7063-4157-AA07-57C3208CE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C1377B-F9FF-499C-8E1D-9B13F6DE3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30E8E4-512A-4A5C-85B0-F6217B47D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910C5C-BC4E-4806-B301-19577117B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6F76-38CF-41C5-8096-3DB4E9D8E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FEA2-3EED-4F56-9D14-11E5F1610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C645-CB06-4B10-89F7-96147A1C0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984A-8A2B-47D3-9E93-F5DA4AB36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BE29-91C5-43AD-A175-61D005850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7CB4-3A98-496D-A4D3-B6E07589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8037-0F2D-4BC9-AD7A-73329FF1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56A92-9088-40F3-AA9C-80303004D418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7F585-B0C1-4FA1-BD0E-341191929FBA}" type="slidenum">
              <a:rPr b="0" lang="bg-BG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324000" y="1916280"/>
            <a:ext cx="849600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МИНИСТЕРСТВО НА РЕГИОНАЛНОТО РАЗВИТ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ГЛАВНА ДИРЕКЦИ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ПРОГРАМИРАНЕ НА РЕГИОНАЛНОТО РАЗВИТИ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a50021"/>
                </a:solidFill>
                <a:latin typeface="Arial"/>
              </a:rPr>
              <a:t>Подписване на договори по схема </a:t>
            </a:r>
            <a:r>
              <a:rPr b="1" lang="ru-RU" sz="2200" spc="-1" strike="noStrike">
                <a:solidFill>
                  <a:srgbClr val="a50021"/>
                </a:solidFill>
                <a:latin typeface="Arial"/>
              </a:rPr>
              <a:t>BG161PO001/1.1-08/2010 </a:t>
            </a:r>
            <a:r>
              <a:rPr b="1" lang="bg-BG" sz="2200" spc="-1" strike="noStrike">
                <a:solidFill>
                  <a:srgbClr val="a50021"/>
                </a:solidFill>
                <a:latin typeface="Arial"/>
              </a:rPr>
              <a:t>„</a:t>
            </a:r>
            <a:r>
              <a:rPr b="1" lang="ru-RU" sz="2200" spc="-1" strike="noStrike">
                <a:solidFill>
                  <a:srgbClr val="a50021"/>
                </a:solidFill>
                <a:latin typeface="Arial"/>
              </a:rPr>
              <a:t>Подкрепа за реконструкция, обновяване и оборудване на държавни лечебни и здравни заведения в градските агломерации</a:t>
            </a:r>
            <a:r>
              <a:rPr b="1" lang="bg-BG" sz="2200" spc="-1" strike="noStrike">
                <a:solidFill>
                  <a:srgbClr val="a50021"/>
                </a:solidFill>
                <a:latin typeface="Arial"/>
              </a:rPr>
              <a:t>“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Arial"/>
              </a:rPr>
              <a:t>28 август 2013 г.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bg-BG" sz="1800" spc="-1" strike="noStrike">
                <a:solidFill>
                  <a:srgbClr val="000066"/>
                </a:solidFill>
                <a:latin typeface="Arial"/>
              </a:rPr>
              <a:t>гр. Соф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www.mrrb.government.bg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www.bgregio.eu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9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Rectangle 17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Rectangle 50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Rectangle 52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162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5"/>
          <p:cNvSpPr/>
          <p:nvPr/>
        </p:nvSpPr>
        <p:spPr>
          <a:xfrm>
            <a:off x="0" y="1844640"/>
            <a:ext cx="8785080" cy="48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Rectangle 16"/>
          <p:cNvSpPr/>
          <p:nvPr/>
        </p:nvSpPr>
        <p:spPr>
          <a:xfrm>
            <a:off x="1547640" y="907920"/>
            <a:ext cx="759636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Rectangle 17"/>
          <p:cNvSpPr/>
          <p:nvPr/>
        </p:nvSpPr>
        <p:spPr>
          <a:xfrm>
            <a:off x="179280" y="2276640"/>
            <a:ext cx="882036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1692360" y="1521000"/>
            <a:ext cx="66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c00000"/>
                </a:solidFill>
                <a:latin typeface="Tahoma"/>
              </a:rPr>
              <a:t>„</a:t>
            </a: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Подкрепа за реконструкция, обновяване и оборудване на държавни лечебни и здравни заведения в градските агломерации</a:t>
            </a:r>
            <a:r>
              <a:rPr b="1" lang="bg-BG" sz="1800" spc="-1" strike="noStrike">
                <a:solidFill>
                  <a:srgbClr val="c00000"/>
                </a:solidFill>
                <a:latin typeface="Tahoma"/>
              </a:rPr>
              <a:t>” (1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387360" y="2451240"/>
            <a:ext cx="8461440" cy="38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3020e"/>
                </a:solidFill>
                <a:latin typeface="Tahoma"/>
              </a:rPr>
              <a:t>Основна цел </a:t>
            </a:r>
            <a:r>
              <a:rPr b="0" lang="ru-RU" sz="1600" spc="-1" strike="noStrike">
                <a:solidFill>
                  <a:srgbClr val="03020e"/>
                </a:solidFill>
                <a:latin typeface="Tahoma"/>
              </a:rPr>
              <a:t>– осигуряване на подходяща и ефективна държавна здравна инфраструктура, допринасяща за развитието на устойчиви градски ареал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3020e"/>
                </a:solidFill>
                <a:latin typeface="Tahoma"/>
              </a:rPr>
              <a:t>Конкретен бенефициент </a:t>
            </a:r>
            <a:r>
              <a:rPr b="0" lang="ru-RU" sz="1600" spc="-1" strike="noStrike">
                <a:solidFill>
                  <a:srgbClr val="03020e"/>
                </a:solidFill>
                <a:latin typeface="Tahoma"/>
              </a:rPr>
              <a:t>– Министерство на здравеопазванет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3020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3020e"/>
                </a:solidFill>
                <a:latin typeface="Tahoma"/>
              </a:rPr>
              <a:t>„</a:t>
            </a:r>
            <a:r>
              <a:rPr b="1" lang="ru-RU" sz="1800" spc="-1" strike="noStrike">
                <a:solidFill>
                  <a:srgbClr val="03020e"/>
                </a:solidFill>
                <a:latin typeface="Tahoma"/>
              </a:rPr>
              <a:t>Изграждане на регионален център за ранна диагностика на онкологични заболявания в МБАЛ „Проф. д-р Стоян Киркович АД”, гр. Стара Загора,</a:t>
            </a:r>
            <a:r>
              <a:rPr b="0" lang="ru-RU" sz="1800" spc="-1" strike="noStrike">
                <a:solidFill>
                  <a:srgbClr val="03020e"/>
                </a:solidFill>
                <a:latin typeface="Tahoma"/>
              </a:rPr>
              <a:t> (Компонент 1) на обща стойност </a:t>
            </a: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5 566 349,40 лв., </a:t>
            </a:r>
            <a:r>
              <a:rPr b="0" lang="ru-RU" sz="1800" spc="-1" strike="noStrike">
                <a:solidFill>
                  <a:srgbClr val="03020e"/>
                </a:solidFill>
                <a:latin typeface="Tahoma"/>
              </a:rPr>
              <a:t>от които БФП в размер на </a:t>
            </a: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5 534 464,03 лв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3020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3020e"/>
                </a:solidFill>
                <a:latin typeface="Tahoma"/>
              </a:rPr>
              <a:t>„</a:t>
            </a:r>
            <a:r>
              <a:rPr b="1" lang="ru-RU" sz="1800" spc="-1" strike="noStrike">
                <a:solidFill>
                  <a:srgbClr val="03020e"/>
                </a:solidFill>
                <a:latin typeface="Tahoma"/>
              </a:rPr>
              <a:t>МБАЛ Габрово АД Изграждане на регионален център за ранна диагностика на онкологични заболявания – Габрово”, </a:t>
            </a:r>
            <a:r>
              <a:rPr b="0" lang="ru-RU" sz="1800" spc="-1" strike="noStrike">
                <a:solidFill>
                  <a:srgbClr val="03020e"/>
                </a:solidFill>
                <a:latin typeface="Tahoma"/>
              </a:rPr>
              <a:t>(Компонент 1) на обща стойност </a:t>
            </a: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5 535 608,77 лв.,</a:t>
            </a:r>
            <a:r>
              <a:rPr b="0" lang="ru-RU" sz="1800" spc="-1" strike="noStrike">
                <a:solidFill>
                  <a:srgbClr val="03020e"/>
                </a:solidFill>
                <a:latin typeface="Tahoma"/>
              </a:rPr>
              <a:t> от които БФП в размер на </a:t>
            </a: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5 504 090,84 лв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494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18"/>
          <p:cNvSpPr/>
          <p:nvPr/>
        </p:nvSpPr>
        <p:spPr>
          <a:xfrm>
            <a:off x="1547640" y="1197000"/>
            <a:ext cx="759636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Rectangle 19"/>
          <p:cNvSpPr/>
          <p:nvPr/>
        </p:nvSpPr>
        <p:spPr>
          <a:xfrm>
            <a:off x="539640" y="1989000"/>
            <a:ext cx="820908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522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a50021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3" marL="1109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3" marL="1109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1692360" y="1557360"/>
            <a:ext cx="660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c00000"/>
                </a:solidFill>
                <a:latin typeface="Tahoma"/>
              </a:rPr>
              <a:t>„</a:t>
            </a: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Подкрепа за реконструкция, обновяване и оборудване на държавни лечебни и здравни заведения в градските агломерации</a:t>
            </a:r>
            <a:r>
              <a:rPr b="1" lang="bg-BG" sz="1800" spc="-1" strike="noStrike">
                <a:solidFill>
                  <a:srgbClr val="c00000"/>
                </a:solidFill>
                <a:latin typeface="Tahoma"/>
              </a:rPr>
              <a:t>” (2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277920" y="2924280"/>
            <a:ext cx="8588160" cy="46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3020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3020e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03020e"/>
                </a:solidFill>
                <a:latin typeface="Tahoma"/>
              </a:rPr>
              <a:t>Общо предоставена БФП на Министерство на здравеопазването - </a:t>
            </a: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1</a:t>
            </a:r>
            <a:r>
              <a:rPr b="1" lang="en-US" sz="1800" spc="-1" strike="noStrike">
                <a:solidFill>
                  <a:srgbClr val="c00000"/>
                </a:solidFill>
                <a:latin typeface="Tahoma"/>
              </a:rPr>
              <a:t>3</a:t>
            </a: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8 млн. лв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1360" indent="-171360"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1360" indent="-171360">
              <a:buClr>
                <a:srgbClr val="03020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3020e"/>
                </a:solidFill>
                <a:latin typeface="Tahoma"/>
              </a:rPr>
              <a:t>В изпълнение договори за </a:t>
            </a:r>
            <a:r>
              <a:rPr b="1" lang="ru-RU" sz="1800" spc="-1" strike="noStrike">
                <a:solidFill>
                  <a:srgbClr val="03020e"/>
                </a:solidFill>
                <a:latin typeface="Tahoma"/>
              </a:rPr>
              <a:t>13 държавни лечебни заведения</a:t>
            </a:r>
            <a:r>
              <a:rPr b="0" lang="ru-RU" sz="1800" spc="-1" strike="noStrike">
                <a:solidFill>
                  <a:srgbClr val="03020e"/>
                </a:solidFill>
                <a:latin typeface="Tahoma"/>
              </a:rPr>
              <a:t> в управление на Министерство на здравеопазването</a:t>
            </a:r>
            <a:r>
              <a:rPr b="0" lang="en-US" sz="1800" spc="-1" strike="noStrike">
                <a:solidFill>
                  <a:srgbClr val="03020e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1360" indent="-171360">
              <a:buClr>
                <a:srgbClr val="03020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3020e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3020e"/>
                </a:solidFill>
                <a:latin typeface="Tahoma"/>
              </a:rPr>
              <a:t>С подписването на 2-та договора общата стойност на предоставената БФП по схемата ще бъде в размер на </a:t>
            </a: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149 млн. лв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1360" indent="-171360">
              <a:buClr>
                <a:srgbClr val="03020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1360" indent="-171360">
              <a:buClr>
                <a:srgbClr val="03020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3020e"/>
                </a:solidFill>
                <a:latin typeface="Tahoma"/>
              </a:rPr>
              <a:t>Очаквани резултати от изпълнението на проектит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1360" indent="-171360">
              <a:buClr>
                <a:srgbClr val="03020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3020e"/>
                </a:solidFill>
                <a:latin typeface="Tahoma"/>
              </a:rPr>
              <a:t>406 </a:t>
            </a:r>
            <a:r>
              <a:rPr b="0" lang="ru-RU" sz="1700" spc="-1" strike="noStrike">
                <a:solidFill>
                  <a:srgbClr val="03020e"/>
                </a:solidFill>
                <a:latin typeface="Tahoma"/>
              </a:rPr>
              <a:t>създадени нови работни места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171360" indent="-171360">
              <a:buClr>
                <a:srgbClr val="03020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3020e"/>
                </a:solidFill>
                <a:latin typeface="Tahoma"/>
              </a:rPr>
              <a:t>4 882 098 души</a:t>
            </a:r>
            <a:r>
              <a:rPr b="0" lang="ru-RU" sz="1700" spc="-1" strike="noStrike">
                <a:solidFill>
                  <a:srgbClr val="03020e"/>
                </a:solidFill>
                <a:latin typeface="Tahoma"/>
              </a:rPr>
              <a:t>, облагодетелствани от обновяването на държавните лечебни заведения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171360" indent="-171360">
              <a:buClr>
                <a:srgbClr val="03020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3020e"/>
                </a:solidFill>
                <a:latin typeface="Tahoma"/>
              </a:rPr>
              <a:t>15</a:t>
            </a:r>
            <a:r>
              <a:rPr b="0" lang="ru-RU" sz="1700" spc="-1" strike="noStrike">
                <a:solidFill>
                  <a:srgbClr val="03020e"/>
                </a:solidFill>
                <a:latin typeface="Tahoma"/>
              </a:rPr>
              <a:t> обновени лечебни заведения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171360" indent="-171360"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1360" indent="-171360"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1360" indent="-171360"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179280" y="1989000"/>
            <a:ext cx="878544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МИНИСТЕРСТВО НА РЕГИОНАЛНОТО РАЗВИТ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ГЛАВНА ДИРЕКЦИ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ПРОГРАМИРАНЕ НА РЕГИОНАЛНОТО РАЗВИТИ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5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БЛАГОДАРЯ ЗА ВНИМАНИЕТО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28 август 2013 г.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гр. Соф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www.mrrb.government.bg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www.bgregio.eu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2:48:26Z</dcterms:created>
  <dc:creator>MikovaD</dc:creator>
  <dc:description/>
  <dc:language>en-US</dc:language>
  <cp:lastModifiedBy>Tsvetelina Dimitrova</cp:lastModifiedBy>
  <dcterms:modified xsi:type="dcterms:W3CDTF">2013-08-26T14:16:55Z</dcterms:modified>
  <cp:revision>566</cp:revision>
  <dc:subject/>
  <dc:title>Slide 1</dc:title>
</cp:coreProperties>
</file>