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812F-4834-4B66-AC97-EF217CE49A3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2DB-18BB-4D37-B63E-366E353A10A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55E-123F-485B-A236-8F4E378C443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5280" y="4642920"/>
            <a:ext cx="531792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65600" y="928368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1FE5-1F03-4B18-AD2F-F121DD6E0C2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7C4-5EDC-4032-9AA3-2D7B8834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896-EF17-48E6-9DBE-48CFCF0D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60F3-D504-4EC0-9E87-CE7EF4FF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D97-5719-4F53-97DF-55C9B809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A6E-DC8F-499C-96F7-67372C4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B0C-8AF2-498D-A44F-A20AB2A7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F9E-44A0-4DCE-9FF5-23680AD9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E326-E3C2-4627-980D-8C3759D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FE0-5562-41F3-BA29-CD8321C4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D1C9-75F5-426D-82E7-1887DFC8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ED4-B720-41A0-90D5-1CB08AF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A77-240C-4505-86C8-25D7BD49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90E-61F8-46C5-A4BB-088BE46F7B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74600" y="5964120"/>
            <a:ext cx="632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Второ заседание на КН на ОПРР 2014-2020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Sylfaen"/>
              </a:rPr>
              <a:t>05 юни 2015 г., гр. 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4920" y="3933720"/>
            <a:ext cx="64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азпределение на ресурс по Приоритетна ос 8  „Техническа помощ“ на ОПРР 2014-2020 г. по кодове и </a:t>
            </a:r>
            <a:r>
              <a:rPr b="1" lang="bg-BG" sz="2400" spc="-1" strike="noStrike">
                <a:solidFill>
                  <a:srgbClr val="0070c0"/>
                </a:solidFill>
                <a:latin typeface="Arial"/>
              </a:rPr>
              <a:t>бенефици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64960" y="1773360"/>
            <a:ext cx="862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7405560" y="243000"/>
            <a:ext cx="1487520" cy="119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4"/>
          <a:stretch/>
        </p:blipFill>
        <p:spPr>
          <a:xfrm>
            <a:off x="3987720" y="11592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3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15920"/>
            <a:ext cx="612144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Начин на определяне на ресурса по общини </a:t>
            </a:r>
            <a:br>
              <a:rPr sz="2000"/>
            </a:b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о ПО 8  „Техническа помощ“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2280" y="191628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ределението на средствата по техническа помощ по градове бенефициенти по ОПРР 2014-2020 г. се базира на дела (в %) на бюджета на съответния град (БФП+резерв) спрямо общия бюджет на съответната процедура за БФ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2"/>
          <a:stretch/>
        </p:blipFill>
        <p:spPr>
          <a:xfrm>
            <a:off x="3492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3"/>
          <a:stretch/>
        </p:blipFill>
        <p:spPr>
          <a:xfrm>
            <a:off x="7628040" y="0"/>
            <a:ext cx="1515960" cy="1208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36360" y="23760"/>
            <a:ext cx="1006560" cy="1163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 – 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0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766440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36360" y="44280"/>
            <a:ext cx="1006560" cy="116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04920" y="1413000"/>
          <a:ext cx="6680160" cy="1923840"/>
        </p:xfrm>
        <a:graphic>
          <a:graphicData uri="http://schemas.openxmlformats.org/drawingml/2006/table">
            <a:tbl>
              <a:tblPr/>
              <a:tblGrid>
                <a:gridCol w="4675320"/>
                <a:gridCol w="2004840"/>
              </a:tblGrid>
              <a:tr h="595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пределение на ресурса по Кодове, съгласно област на интервен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1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 Изготвяне, изпълнение, наблюдение и контр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2 717 846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41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. Оценка и проуч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472 6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9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. Информация и комун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 283 515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БЩО предвидени по 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2 473 987,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1176480" y="220680"/>
            <a:ext cx="649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Финансов ресурс на ПО 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4-2020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70000" y="3357720"/>
            <a:ext cx="887400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пустими бенефициент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за разпределение на техническа помощ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правляващия орган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39 общини на градовете от 1-во до 3-то ниво, съгласно НКПР – бенефициенти по Приоритетна ос 1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8 общини на малки градове от 4-то ниво, съгласно НКПР – бенефициенти по Приоритетна ос 2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, МЗХ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К, ММС – бенефициенти по Приоритетна ос 3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ПИ – бенефициент по Приоритетна ос 7 на ОПРР 2014-2020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5724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0520" y="2133720"/>
          <a:ext cx="7616520" cy="2948040"/>
        </p:xfrm>
        <a:graphic>
          <a:graphicData uri="http://schemas.openxmlformats.org/drawingml/2006/table">
            <a:tbl>
              <a:tblPr/>
              <a:tblGrid>
                <a:gridCol w="5597280"/>
                <a:gridCol w="2019240"/>
              </a:tblGrid>
              <a:tr h="7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Разпределение на ресурса по Кодове за Управляващия орган на ОПР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Финансов ресурс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,</a:t>
                      </a: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548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1. Изготвяне, изпълнение, наблюдение и контр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1 208 064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584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2. Оценка и проуч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472 62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740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23. Информация и комуник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 283 515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97160">
                <a:tc>
                  <a:txBody>
                    <a:bodyPr lIns="44280" rIns="4428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ОБЩО предвидени по ТП за УО на ОПРР 2014-2020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936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0 964 205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5"/>
          <p:cNvSpPr/>
          <p:nvPr/>
        </p:nvSpPr>
        <p:spPr>
          <a:xfrm>
            <a:off x="1093680" y="58680"/>
            <a:ext cx="685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а по кодове за УО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2"/>
          <a:stretch/>
        </p:blipFill>
        <p:spPr>
          <a:xfrm>
            <a:off x="7885080" y="3240"/>
            <a:ext cx="1224000" cy="1163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5724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1413000"/>
          <a:ext cx="8802720" cy="4554360"/>
        </p:xfrm>
        <a:graphic>
          <a:graphicData uri="http://schemas.openxmlformats.org/drawingml/2006/table">
            <a:tbl>
              <a:tblPr/>
              <a:tblGrid>
                <a:gridCol w="4157640"/>
                <a:gridCol w="1584360"/>
                <a:gridCol w="1584360"/>
                <a:gridCol w="1476360"/>
              </a:tblGrid>
              <a:tr h="76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Бенефици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Бюджет на процедурата за БФП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% спрямо общата сума на 4-те процеду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44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39 общини на градовете от 1-во до 3-то ниво, съгласно НКПР – бенефициенти по Приоритетна ос 1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372 559 396,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64,1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7 378 368,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15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8 общини на малки градове от 4-то ниво, съгласно НКПР – бенефициенти по Приоритетна ос 2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     </a:t>
                      </a: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06 740 392,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,66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 111 359,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МОН, МЗХ,МК, ММС – бенефициенти по Приоритетна ос 3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81 343 188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8,4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974 833,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АПИ – бенефициент по Приоритетна ос 7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380 461 585,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7,7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 045 220,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858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ОБЩО ресурс по код 121 на ТП, който се разпределя за бенефициентите на ОПРР 2014-2020 г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2 141 169 741,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3366"/>
                          </a:solidFill>
                          <a:latin typeface="Calibri"/>
                        </a:rPr>
                        <a:t>11 509 782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2" name="Rectangle 5"/>
          <p:cNvSpPr/>
          <p:nvPr/>
        </p:nvSpPr>
        <p:spPr>
          <a:xfrm>
            <a:off x="1111320" y="154080"/>
            <a:ext cx="677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70c0"/>
                </a:solidFill>
                <a:latin typeface="Arial"/>
              </a:rPr>
              <a:t>Разпределение на ресурса по Техническа помощ за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бенефициентите на приоритетни оси 1, 2, 3 и 7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7885080" y="3240"/>
            <a:ext cx="1224000" cy="11635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658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„Техническа помощ“ на ОПРР 2014-2020 г.</a:t>
            </a:r>
            <a:br>
              <a:rPr sz="2200"/>
            </a:b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8200" y="1455840"/>
          <a:ext cx="7008840" cy="4095720"/>
        </p:xfrm>
        <a:graphic>
          <a:graphicData uri="http://schemas.openxmlformats.org/drawingml/2006/table">
            <a:tbl>
              <a:tblPr/>
              <a:tblGrid>
                <a:gridCol w="836640"/>
                <a:gridCol w="1396800"/>
                <a:gridCol w="1295640"/>
                <a:gridCol w="2087280"/>
                <a:gridCol w="1392480"/>
              </a:tblGrid>
              <a:tr h="749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0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в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375 234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81 416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р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107 332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2 129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вд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851 031,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4 625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урга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486 982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4 921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036 817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 233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а Заг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53 316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3 044,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ев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 462 582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 141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лагое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841 689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 676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 Тър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382 875,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210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р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139 508,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 023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-213480" y="63738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7628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6360" y="36360"/>
            <a:ext cx="1006560" cy="116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413000"/>
          <a:ext cx="7694640" cy="4516200"/>
        </p:xfrm>
        <a:graphic>
          <a:graphicData uri="http://schemas.openxmlformats.org/drawingml/2006/table">
            <a:tbl>
              <a:tblPr/>
              <a:tblGrid>
                <a:gridCol w="1079640"/>
                <a:gridCol w="1512720"/>
                <a:gridCol w="1440000"/>
                <a:gridCol w="2303640"/>
                <a:gridCol w="135864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р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199 162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 588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с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021 025,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 254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зардж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38 756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974,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ум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032 316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940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ив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895 678,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205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р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39 640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 366,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м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419 253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6 644,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291 834,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 583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а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254 828,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009,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ве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944 737,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 342,3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ърдж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048 163,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 147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л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82 924,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 796,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29 481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 595,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занлъ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58 031,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 674,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сен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334 302,7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 934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7656480" y="0"/>
            <a:ext cx="144468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1680" y="23760"/>
            <a:ext cx="1008000" cy="1163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7859880" cy="4371840"/>
        </p:xfrm>
        <a:graphic>
          <a:graphicData uri="http://schemas.openxmlformats.org/drawingml/2006/table">
            <a:tbl>
              <a:tblPr/>
              <a:tblGrid>
                <a:gridCol w="1020600"/>
                <a:gridCol w="1427400"/>
                <a:gridCol w="1428840"/>
                <a:gridCol w="2253960"/>
                <a:gridCol w="172908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н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65 329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48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на Орях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046 218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385,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це Делч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995 867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 114,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п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775 545,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 930,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юстенд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432 097,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 084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ли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900 372,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225,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митр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782 94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594,5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ъргов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774 897,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 551,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197 998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450,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тр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042 066,0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611,8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щ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18 684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411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н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43 137,5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241,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л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693 358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 361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нагюр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963 364,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 437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9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7664400" y="0"/>
            <a:ext cx="1444680" cy="123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44280" y="23760"/>
            <a:ext cx="1008360" cy="1163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075520" cy="4300560"/>
        </p:xfrm>
        <a:graphic>
          <a:graphicData uri="http://schemas.openxmlformats.org/drawingml/2006/table">
            <a:tbl>
              <a:tblPr/>
              <a:tblGrid>
                <a:gridCol w="1147680"/>
                <a:gridCol w="1311480"/>
                <a:gridCol w="1446120"/>
                <a:gridCol w="2611440"/>
                <a:gridCol w="155880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386 427,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584,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о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70 201,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 509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щ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07 054,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557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ноб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687 513,7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 452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9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а Заг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92 788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 642,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те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544 720,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 308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6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дан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25 526,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668,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вли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21 691,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109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476 152,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 564,6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вен бря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293 967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585,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илен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181 360,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 979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964 704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815,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з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869 628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 304,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8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мор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655 840,3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 154,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7699320" y="15840"/>
            <a:ext cx="1444680" cy="1163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2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87280" y="204840"/>
            <a:ext cx="684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Разпределение на ресурс по ПО 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„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Техническа помощ“ на ОПРР 2014-2020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по градов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93560" y="1413000"/>
          <a:ext cx="7823520" cy="4300560"/>
        </p:xfrm>
        <a:graphic>
          <a:graphicData uri="http://schemas.openxmlformats.org/drawingml/2006/table">
            <a:tbl>
              <a:tblPr/>
              <a:tblGrid>
                <a:gridCol w="1067040"/>
                <a:gridCol w="1284120"/>
                <a:gridCol w="1187640"/>
                <a:gridCol w="2700360"/>
                <a:gridCol w="1584360"/>
              </a:tblGrid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ФП+резерв (100%) по общини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а помощ, пропорционално, л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финансиран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ви паз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42 142,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6,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01 393,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 249,5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7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злоду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71 105,7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323,8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ков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23 925,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995,0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8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трак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927 846,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865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х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333 290,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669,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лат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30 643,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042,8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7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3 224,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895,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нерал Тош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818 550,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902,7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ум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57 671,0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62,7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5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оградч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50 538,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924,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коп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08 848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162,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ко Търн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68 336,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945,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то ни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вайлов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25 299,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176,0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7688160" y="0"/>
            <a:ext cx="1444680" cy="1208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2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18T08:48:09Z</cp:lastPrinted>
  <dcterms:modified xsi:type="dcterms:W3CDTF">2015-06-01T13:13:13Z</dcterms:modified>
  <cp:revision>833</cp:revision>
  <dc:subject/>
  <dc:title>Diapositiva 1</dc:title>
</cp:coreProperties>
</file>