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8864-56CF-42E6-9AF3-68CCF244E18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27E-FC90-448C-BE13-189F8301563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BAE3-D560-4CA2-944D-CCED3009BC8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79BF-BC9A-4941-8FCE-157E60DBA6C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AB4-86BD-4556-842F-607C67CF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F9F-DDE1-4DF8-831B-CC999E28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44F-B45F-4EA0-981C-0739C8B3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AC6-B6A8-450A-ADFB-DDCC9536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582-DFCD-4180-86B8-42DA16EF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3E2-F107-48A4-A72A-01DA217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9FE-FC3B-4667-A3BA-457AE420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819-7AE1-4B50-9B08-B00FB9D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7E4-CDDD-4484-8198-54B07936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A48-D231-4FFC-8474-9917219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708-B969-4317-B510-48227490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357-0033-42F1-9245-3853136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906-94DD-44DC-AF89-E6B6D0C13E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4600" y="5964120"/>
            <a:ext cx="63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Второ заседание на КН на ОПРР 2014-2020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Sylfaen"/>
              </a:rPr>
              <a:t>05 юни 2015 г., гр. 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4920" y="3933720"/>
            <a:ext cx="64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азпределение на ресурс по Приоритетна ос 8  „Техническа помощ“ на ОПРР 2014-2020 г. по кодове и </a:t>
            </a:r>
            <a:r>
              <a:rPr b="1" lang="bg-BG" sz="2400" spc="-1" strike="noStrike">
                <a:solidFill>
                  <a:srgbClr val="0070c0"/>
                </a:solidFill>
                <a:latin typeface="Arial"/>
              </a:rPr>
              <a:t>бенефици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64960" y="1773360"/>
            <a:ext cx="86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7405560" y="243000"/>
            <a:ext cx="1487520" cy="119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4"/>
          <a:stretch/>
        </p:blipFill>
        <p:spPr>
          <a:xfrm>
            <a:off x="3987720" y="11592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15920"/>
            <a:ext cx="612144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Начин на определяне на ресурса по общини </a:t>
            </a: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 ПО 8  „Техническа помощ“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2280" y="191628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пределението на средствата по техническа помощ по градове бенефициенти по ОПРР 2014-2020 г. се базира на дела (в %) на бюджета на съответния град (БФП+резерв) спрямо общия бюджет на съответната процедура за БФ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3492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7628040" y="0"/>
            <a:ext cx="1515960" cy="1208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36360" y="23760"/>
            <a:ext cx="1006560" cy="1163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 – 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0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2"/>
          <a:stretch/>
        </p:blipFill>
        <p:spPr>
          <a:xfrm>
            <a:off x="766440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36360" y="44280"/>
            <a:ext cx="1006560" cy="116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04920" y="1413000"/>
          <a:ext cx="6680160" cy="1923840"/>
        </p:xfrm>
        <a:graphic>
          <a:graphicData uri="http://schemas.openxmlformats.org/drawingml/2006/table">
            <a:tbl>
              <a:tblPr/>
              <a:tblGrid>
                <a:gridCol w="4675320"/>
                <a:gridCol w="2004840"/>
              </a:tblGrid>
              <a:tr h="595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пределение на ресурса по Кодове, съгласно област на интерв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ресур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 Изготвяне, изпълнение, наблюдение и контр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2 717 846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1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. Оценка и проуч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472 6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9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 Информация и комуник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 283 515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БЩО предвидени по 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2 473 987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5"/>
          <p:cNvSpPr/>
          <p:nvPr/>
        </p:nvSpPr>
        <p:spPr>
          <a:xfrm>
            <a:off x="1176480" y="220680"/>
            <a:ext cx="649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Финансов ресурс на ПО 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4-2020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70000" y="3357720"/>
            <a:ext cx="887400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опустими бенефициент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за разпределение на техническа помощ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правляващия орган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9 общини на градовете от 1-во до 3-то ниво, съгласно НКПР – бенефициенти по Приоритетна ос 1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8 общини на малки градове от 4-то ниво, съгласно НКПР – бенефициенти по Приоритетна ос 2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, МЗХ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К, ММС – бенефициенти по Приоритетна ос 3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ПИ – бенефициент по Приоритетна ос 7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724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0520" y="2133720"/>
          <a:ext cx="7616520" cy="2948040"/>
        </p:xfrm>
        <a:graphic>
          <a:graphicData uri="http://schemas.openxmlformats.org/drawingml/2006/table">
            <a:tbl>
              <a:tblPr/>
              <a:tblGrid>
                <a:gridCol w="5597280"/>
                <a:gridCol w="2019240"/>
              </a:tblGrid>
              <a:tr h="72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Разпределение на ресурса по Кодове за Управляващия орган на ОПР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Финансов ресурс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,</a:t>
                      </a: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548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21. Изготвяне, изпълнение, наблюдение и контр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1 208 06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584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22. Оценка и проуч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472 62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740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23. Информация и комун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 283 51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716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ОБЩО предвидени по ТП за УО на ОПРР 2014-202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0 964 205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5"/>
          <p:cNvSpPr/>
          <p:nvPr/>
        </p:nvSpPr>
        <p:spPr>
          <a:xfrm>
            <a:off x="1093680" y="58680"/>
            <a:ext cx="685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а по кодове за УО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2"/>
          <a:stretch/>
        </p:blipFill>
        <p:spPr>
          <a:xfrm>
            <a:off x="7885080" y="3240"/>
            <a:ext cx="1224000" cy="1163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5724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1413000"/>
          <a:ext cx="8802720" cy="4554360"/>
        </p:xfrm>
        <a:graphic>
          <a:graphicData uri="http://schemas.openxmlformats.org/drawingml/2006/table">
            <a:tbl>
              <a:tblPr/>
              <a:tblGrid>
                <a:gridCol w="4157640"/>
                <a:gridCol w="1584360"/>
                <a:gridCol w="1584360"/>
                <a:gridCol w="1476360"/>
              </a:tblGrid>
              <a:tr h="76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Бюджет на процедурата за БФП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% спрямо общата сума на 4-те процеду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Финансов ресурс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,</a:t>
                      </a: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39 общини на градовете от 1-во до 3-то ниво, съгласно НКПР – бенефициенти по Приоритетна ос 1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372 559 396,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64,1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7 378 368,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15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8 общини на малки градове от 4-то ниво, съгласно НКПР – бенефициенти по Приоритетна ос 2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     </a:t>
                      </a: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06 740 392,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,66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111 359,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5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МОН, МЗХ,МК, ММС – бенефициенти по Приоритетна ос 3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81 343 188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,4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74 833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85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АПИ – бенефициент по Приоритетна ос 7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380 461 585,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7,7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 045 22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5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ОБЩО ресурс по код 121 на ТП, който се разпределя за бенефициентите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 141 169 741,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1 509 782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2" name="Rectangle 5"/>
          <p:cNvSpPr/>
          <p:nvPr/>
        </p:nvSpPr>
        <p:spPr>
          <a:xfrm>
            <a:off x="1111320" y="154080"/>
            <a:ext cx="677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Разпределение на ресурса по Техническа помощ за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бенефициентите на приоритетни оси 1, 2, 3 и 7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7885080" y="3240"/>
            <a:ext cx="1224000" cy="1163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5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„Техническа помощ“ на ОПРР 2014-2020 г.</a:t>
            </a:r>
            <a:br>
              <a:rPr sz="2200"/>
            </a:b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8200" y="1455840"/>
          <a:ext cx="7008840" cy="4095720"/>
        </p:xfrm>
        <a:graphic>
          <a:graphicData uri="http://schemas.openxmlformats.org/drawingml/2006/table">
            <a:tbl>
              <a:tblPr/>
              <a:tblGrid>
                <a:gridCol w="836640"/>
                <a:gridCol w="1396800"/>
                <a:gridCol w="1295640"/>
                <a:gridCol w="2087280"/>
                <a:gridCol w="1392480"/>
              </a:tblGrid>
              <a:tr h="749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0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в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375 234,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81 416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107 33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2 129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вд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851 031,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4 625,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рг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486 982,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4 921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036 817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1 233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а Заг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653 316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3 044,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ев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462 582,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 141,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е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841 689,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 676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 Търн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382 875,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210,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139 508,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 023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-213480" y="63738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7628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6360" y="36360"/>
            <a:ext cx="1006560" cy="116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1413000"/>
          <a:ext cx="7694640" cy="4516200"/>
        </p:xfrm>
        <a:graphic>
          <a:graphicData uri="http://schemas.openxmlformats.org/drawingml/2006/table">
            <a:tbl>
              <a:tblPr/>
              <a:tblGrid>
                <a:gridCol w="1079640"/>
                <a:gridCol w="1512720"/>
                <a:gridCol w="1440000"/>
                <a:gridCol w="2303640"/>
                <a:gridCol w="135864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199 16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 588,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с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021 025,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 254,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зардж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38 756,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974,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у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32 316,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940,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ив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95 678,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205,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бр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39 640,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 366,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м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19 253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 644,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91 834,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 583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254 828,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009,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ве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944 737,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 342,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ърдж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048 163,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 147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ол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82 924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 796,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29 481,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595,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анлъ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658 031,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 674,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ен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34 302,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934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7656480" y="0"/>
            <a:ext cx="14446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1680" y="23760"/>
            <a:ext cx="1008000" cy="1163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7859880" cy="4371840"/>
        </p:xfrm>
        <a:graphic>
          <a:graphicData uri="http://schemas.openxmlformats.org/drawingml/2006/table">
            <a:tbl>
              <a:tblPr/>
              <a:tblGrid>
                <a:gridCol w="1020600"/>
                <a:gridCol w="1427400"/>
                <a:gridCol w="1428840"/>
                <a:gridCol w="2253960"/>
                <a:gridCol w="172908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065 329,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488,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на Оряхо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046 218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385,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це Делч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995 867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114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п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775 545,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930,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юстенд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432 097,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 084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и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00 372,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225,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митр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782 948,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 594,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ъргов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774 897,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 551,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197 998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450,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042 066,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611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щ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18 684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411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н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43 137,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241,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693 358,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361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нагюр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963 364,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437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9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7664400" y="0"/>
            <a:ext cx="1444680" cy="123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44280" y="23760"/>
            <a:ext cx="1008360" cy="1163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075520" cy="4300560"/>
        </p:xfrm>
        <a:graphic>
          <a:graphicData uri="http://schemas.openxmlformats.org/drawingml/2006/table">
            <a:tbl>
              <a:tblPr/>
              <a:tblGrid>
                <a:gridCol w="1147680"/>
                <a:gridCol w="1311480"/>
                <a:gridCol w="1446120"/>
                <a:gridCol w="2611440"/>
                <a:gridCol w="155880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п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386 427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584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о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70 201,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509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щ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07 054,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557,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ноб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87 513,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452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а Заг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92 788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642,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те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544 720,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308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дан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25 526,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668,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вли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21 691,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109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76 152,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564,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вен бря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93 967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585,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лен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81 360,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979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64 704,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815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з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69 628,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304,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р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55 840,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154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7699320" y="158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93560" y="1413000"/>
          <a:ext cx="7823520" cy="4300560"/>
        </p:xfrm>
        <a:graphic>
          <a:graphicData uri="http://schemas.openxmlformats.org/drawingml/2006/table">
            <a:tbl>
              <a:tblPr/>
              <a:tblGrid>
                <a:gridCol w="1067040"/>
                <a:gridCol w="1284120"/>
                <a:gridCol w="1187640"/>
                <a:gridCol w="2700360"/>
                <a:gridCol w="158436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и паз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42 142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6,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01 393,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249,5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злоду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71 105,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323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ко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23 925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95,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трак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27 846,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865,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х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33 290,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669,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лат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30 643,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04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3 224,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895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ерал Тош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18 550,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02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м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57 671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62,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оград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50 538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24,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оп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08 848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162,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ко Търн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68 336,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945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йл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25 299,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176,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7688160" y="0"/>
            <a:ext cx="1444680" cy="1208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18T08:48:09Z</cp:lastPrinted>
  <dcterms:modified xsi:type="dcterms:W3CDTF">2015-06-01T13:13:13Z</dcterms:modified>
  <cp:revision>833</cp:revision>
  <dc:subject/>
  <dc:title>Diapositiva 1</dc:title>
</cp:coreProperties>
</file>