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E9B7-D40B-46D9-901E-12F69F58CB79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34E8-8E9B-4C2C-8EC2-D817B68DF865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8FC2-B0AB-4FDE-A98F-A5FEC92F6CDB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E875-00F8-4DEB-84AA-BD8535CF2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0359-A977-4E27-A155-07089D73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69AB-24DB-4BFA-B52B-04EFEF57B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5F52-CD6F-41D7-A78A-2AE1CEB9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CEF0-7FBD-4339-9462-1705DDFF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2626-A10D-47D9-9D2D-BE83BDAC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04CB-FC01-4A90-8357-A61A9D94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8D24-3DEC-4DDC-A1BB-4EEAFDE3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FBD4-EC29-4AE8-8526-6BA202AD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E62B-C758-4C0D-B265-4B3D0722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08E7-BD9F-4DDA-8A7C-5432449B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6EF4-1057-4DA8-B706-F9DD461D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1607-323A-4FAF-8574-3F5217B9012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2"/>
          <a:stretch/>
        </p:blipFill>
        <p:spPr>
          <a:xfrm>
            <a:off x="395280" y="71280"/>
            <a:ext cx="1152360" cy="1224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885080" y="11592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4576680" y="6175440"/>
            <a:ext cx="4572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2160720" y="40464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2d2d8a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179280" y="5977080"/>
            <a:ext cx="668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Sylfaen"/>
              </a:rPr>
              <a:t>Шестнадесето заседание на КН на ОПРР 2007-2013 г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Sylfaen"/>
              </a:rPr>
              <a:t>0</a:t>
            </a:r>
            <a:r>
              <a:rPr b="1" lang="en-US" sz="2000" spc="-1" strike="noStrike">
                <a:solidFill>
                  <a:srgbClr val="000066"/>
                </a:solidFill>
                <a:latin typeface="Sylfaen"/>
              </a:rPr>
              <a:t>5</a:t>
            </a:r>
            <a:r>
              <a:rPr b="1" lang="ru-RU" sz="2000" spc="-1" strike="noStrike">
                <a:solidFill>
                  <a:srgbClr val="000066"/>
                </a:solidFill>
                <a:latin typeface="Sylfaen"/>
              </a:rPr>
              <a:t> юни 2015 г., гр. Соф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34920" y="3933720"/>
            <a:ext cx="64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Н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апредък в изпълнението на Приоритетна ос 5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Техническа помощ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270000" y="1447920"/>
            <a:ext cx="86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А ДИРЕКЦИЯ “ПРОГРАМИРАНЕ НА РЕГИОНАЛНОТО РАЗВИТИЕ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215100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3716280"/>
          <a:ext cx="8893440" cy="2084400"/>
        </p:xfrm>
        <a:graphic>
          <a:graphicData uri="http://schemas.openxmlformats.org/drawingml/2006/table">
            <a:tbl>
              <a:tblPr/>
              <a:tblGrid>
                <a:gridCol w="1297080"/>
                <a:gridCol w="1295280"/>
                <a:gridCol w="1533600"/>
                <a:gridCol w="1554120"/>
                <a:gridCol w="1494000"/>
                <a:gridCol w="1719360"/>
              </a:tblGrid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ансов ресурс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лв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говорени средства, лв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оящи за договаряне, лв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тени средства, лв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боден ресурс, лв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я 5.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 373 026,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4,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000,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 151</a:t>
                      </a: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0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53 541,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я 5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902 624,85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62 921,6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374 808,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9 703,19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я 5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 521 821,67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894 373,5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10 302,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5 064</a:t>
                      </a: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17 146,1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0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 797 473,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 176 779,9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410 302,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3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r>
                        <a:rPr b="1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0</a:t>
                      </a:r>
                      <a:r>
                        <a:rPr b="1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3</a:t>
                      </a:r>
                      <a:r>
                        <a:rPr b="1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10 391,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63" name="Rectangle 5"/>
          <p:cNvSpPr/>
          <p:nvPr/>
        </p:nvSpPr>
        <p:spPr>
          <a:xfrm>
            <a:off x="1176480" y="54000"/>
            <a:ext cx="685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800000"/>
                </a:solidFill>
                <a:latin typeface="Arial"/>
              </a:rPr>
              <a:t>Финансово изпълнение на ПО 5 „Техническа помощ“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Chart 11" descr=""/>
          <p:cNvPicPr/>
          <p:nvPr/>
        </p:nvPicPr>
        <p:blipFill>
          <a:blip r:embed="rId3"/>
          <a:stretch/>
        </p:blipFill>
        <p:spPr>
          <a:xfrm>
            <a:off x="128520" y="1362240"/>
            <a:ext cx="85978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187280" y="204840"/>
            <a:ext cx="68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Операция 5.1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рограмиране, управление, мониторинг, оценка и контрол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Chart 9" descr=""/>
          <p:cNvPicPr/>
          <p:nvPr/>
        </p:nvPicPr>
        <p:blipFill>
          <a:blip r:embed="rId3"/>
          <a:stretch/>
        </p:blipFill>
        <p:spPr>
          <a:xfrm>
            <a:off x="30240" y="1407960"/>
            <a:ext cx="4578120" cy="25243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4284720" y="1557360"/>
            <a:ext cx="478800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Конкретни бенефициенти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-  УО на ОПРР и Дирекция “Вътрешен одит“, МРРБ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Общо 46 проекта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, свързани с укрепване капацитета на УО на ОПРР за закупуване на оборудване, обезпечаване работата на оценителните комисии, специализирани обучения на служителите, оценки на изпълнението на ОПРР, мониторинг и проверки на място на проектите, подготовката на документи за програмен период 2014-2020 г., специализирани юридически услуги, наемане на външни специалисти, размножаване на документи, наем на сграда за УО и помещения за архи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70000" y="4254480"/>
          <a:ext cx="3822480" cy="1365120"/>
        </p:xfrm>
        <a:graphic>
          <a:graphicData uri="http://schemas.openxmlformats.org/drawingml/2006/table">
            <a:tbl>
              <a:tblPr/>
              <a:tblGrid>
                <a:gridCol w="1782720"/>
                <a:gridCol w="2039760"/>
              </a:tblGrid>
              <a:tr h="542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ур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РРБ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(Схема 5-0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говорени в л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 219 484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тени в л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480 151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Chart 9" descr=""/>
          <p:cNvPicPr/>
          <p:nvPr/>
        </p:nvPicPr>
        <p:blipFill>
          <a:blip r:embed="rId3"/>
          <a:stretch/>
        </p:blipFill>
        <p:spPr>
          <a:xfrm>
            <a:off x="176040" y="1481040"/>
            <a:ext cx="4969080" cy="23781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1224000" y="79200"/>
            <a:ext cx="68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перация 5.2 "Комуникация, информация и публичност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5076720" y="1844640"/>
            <a:ext cx="381816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кретен бенефициент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О на ОП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о 6 проек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вързани с осигуряване на информация и публичност и изпълнение на Комуникационния план по ОПРР,  организиране на събития, публикации в електронни и печатни медии, рекламни материали, поддръжка на интернет сайт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ОПР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39640" y="4221000"/>
          <a:ext cx="4105440" cy="1460520"/>
        </p:xfrm>
        <a:graphic>
          <a:graphicData uri="http://schemas.openxmlformats.org/drawingml/2006/table">
            <a:tbl>
              <a:tblPr/>
              <a:tblGrid>
                <a:gridCol w="2016360"/>
                <a:gridCol w="2089080"/>
              </a:tblGrid>
              <a:tr h="637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ур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РРБ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(Схема 5-0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говорени  в л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62 921,6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тени  в л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374 808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187280" y="204840"/>
            <a:ext cx="68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перация 5.3 "Изграждане капацитет на бенефициентите на ОПРР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4920" y="1319040"/>
            <a:ext cx="8929800" cy="39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spcBef>
                <a:spcPts val="11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</a:rPr>
              <a:t>Схема BG161РО001/5-01/2008 – </a:t>
            </a:r>
            <a:r>
              <a:rPr b="0" lang="ru-RU" sz="1700" spc="-1" strike="noStrike">
                <a:solidFill>
                  <a:srgbClr val="0d0d0d"/>
                </a:solidFill>
                <a:latin typeface="Arial"/>
              </a:rPr>
              <a:t>насочена към подобряване на капацитета на бенефициентите-държавни институции - МЗ, МК, МОМН, АСП, АЗ, МВР, АПИ МИЕТ, Дирекция "Обновяване на жилищни сгради", МРРБ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11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66"/>
                </a:solidFill>
                <a:latin typeface="Arial"/>
              </a:rPr>
              <a:t>Схема </a:t>
            </a:r>
            <a:r>
              <a:rPr b="0" lang="ru-RU" sz="1700" spc="-1" strike="noStrike">
                <a:solidFill>
                  <a:srgbClr val="000066"/>
                </a:solidFill>
                <a:latin typeface="Arial"/>
              </a:rPr>
              <a:t>BG161PO001/5-02/2012 – </a:t>
            </a:r>
            <a:r>
              <a:rPr b="0" lang="ru-RU" sz="1700" spc="-1" strike="noStrike">
                <a:solidFill>
                  <a:srgbClr val="0d0d0d"/>
                </a:solidFill>
                <a:latin typeface="Arial"/>
              </a:rPr>
              <a:t>насочена към </a:t>
            </a:r>
            <a:r>
              <a:rPr b="0" lang="bg-BG" sz="1700" spc="-1" strike="noStrike">
                <a:solidFill>
                  <a:srgbClr val="0d0d0d"/>
                </a:solidFill>
                <a:latin typeface="Arial"/>
              </a:rPr>
              <a:t>разработване на 700 бр. готови продукти от 35 общини, които да бъдат финансирани по ОП „Региони в растеж“ 2014-2020 г. </a:t>
            </a:r>
            <a:r>
              <a:rPr b="0" lang="ru-RU" sz="1700" spc="-1" strike="noStrike">
                <a:solidFill>
                  <a:srgbClr val="0d0d0d"/>
                </a:solidFill>
                <a:latin typeface="Arial"/>
              </a:rPr>
              <a:t>До момента в УО са получени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243 бр. </a:t>
            </a:r>
            <a:r>
              <a:rPr b="0" lang="ru-RU" sz="1700" spc="-1" strike="noStrike">
                <a:solidFill>
                  <a:srgbClr val="0d0d0d"/>
                </a:solidFill>
                <a:latin typeface="Arial"/>
              </a:rPr>
              <a:t>готови инвестиционни проекта, от  които са приети (одобрени) 33 броя.  Получени са технически проекти от общините </a:t>
            </a:r>
            <a:r>
              <a:rPr b="0" lang="bg-BG" sz="1700" spc="-1" strike="noStrike">
                <a:solidFill>
                  <a:srgbClr val="0d0d0d"/>
                </a:solidFill>
                <a:latin typeface="Arial"/>
              </a:rPr>
              <a:t>Добрич, Казанлък и Търговище, Столична, Стара Загора, Пловдив, Хасково, Свищов, Петрич, Сливен, Разград, Силистра, Враца и Пазарджик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11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</a:rPr>
              <a:t>Схема BG161PO001/5-03/2013 – </a:t>
            </a:r>
            <a:r>
              <a:rPr b="0" lang="ru-RU" sz="1700" spc="-1" strike="noStrike">
                <a:solidFill>
                  <a:srgbClr val="0d0d0d"/>
                </a:solidFill>
                <a:latin typeface="Arial"/>
              </a:rPr>
              <a:t>насочена към </a:t>
            </a:r>
            <a:r>
              <a:rPr b="0" lang="bg-BG" sz="1700" spc="-1" strike="noStrike">
                <a:solidFill>
                  <a:srgbClr val="0d0d0d"/>
                </a:solidFill>
                <a:latin typeface="Arial"/>
              </a:rPr>
              <a:t>разработване на интегрирани планове за градско възстановяване и развитие (ИПГВР) за градовете от 3-то и 4-то ниво</a:t>
            </a:r>
            <a:r>
              <a:rPr b="0" lang="bg-BG" sz="1700" spc="-1" strike="noStrike">
                <a:solidFill>
                  <a:srgbClr val="422c16"/>
                </a:solidFill>
                <a:latin typeface="Arial"/>
              </a:rPr>
              <a:t>. </a:t>
            </a:r>
            <a:r>
              <a:rPr b="0" lang="bg-BG" sz="1700" spc="-1" strike="noStrike">
                <a:solidFill>
                  <a:srgbClr val="0d0d0d"/>
                </a:solidFill>
                <a:latin typeface="Arial"/>
              </a:rPr>
              <a:t>До момента са получени 21 ИПГВР,  като 12 от тях са одобрени от УО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79280" y="4873680"/>
          <a:ext cx="8893440" cy="1384200"/>
        </p:xfrm>
        <a:graphic>
          <a:graphicData uri="http://schemas.openxmlformats.org/drawingml/2006/table">
            <a:tbl>
              <a:tblPr/>
              <a:tblGrid>
                <a:gridCol w="1297080"/>
                <a:gridCol w="1800360"/>
                <a:gridCol w="2303280"/>
                <a:gridCol w="349272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ур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РРБ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(Схема 5-01),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1" lang="bg-BG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л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(Схеми 5-02 и 5-03), л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ретни бенефициенти, държавни институции 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(Схема 5-0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 л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7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говор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279 948,4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28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3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331 571,1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т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909 834,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238 852,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536 377,3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187280" y="20484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Предложение за вземане на решение и реалокация за ПО 5 „Техническа помощ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4920" y="1319040"/>
            <a:ext cx="89298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spcBef>
                <a:spcPts val="11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Регулярно освобождаваният финансов ресурс по приоритетна ос 5 „Техническа помощ“ на ОПРР 2007-2013 г. (който към 30.05.2015 г. е около 4 млн. лв.), да бъде пренасочван за финансиране на проекти от резервния списък като се задърж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1199"/>
              </a:spcBef>
              <a:buClr>
                <a:srgbClr val="0000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финансов ресурс в размер на </a:t>
            </a:r>
            <a:r>
              <a:rPr b="0" i="1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500 000 лв.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по Операция 5.1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на приоритетна    ос 5 „Техническа помощ“ за текущи нужди на УО на ОПРР във връзка с изпълнението на програм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1199"/>
              </a:spcBef>
              <a:buClr>
                <a:srgbClr val="0000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финансов ресурс в размер на </a:t>
            </a:r>
            <a:r>
              <a:rPr b="0" i="1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1 360 302,04 лв.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по Операция 5.3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на приоритетна ос 5 „Техническа помощ“ с оглед анексиране на договор BG161PO001-5.3.01-0068-C0001 с бенефициент Дирекция „Жилищна политика“ на МРР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1199"/>
              </a:spcBef>
              <a:buClr>
                <a:srgbClr val="0000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финансов ресурс в размер на </a:t>
            </a:r>
            <a:r>
              <a:rPr b="0" i="1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550 000,00 лв.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по Операция 5.3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на приоритетна ос 5 „Техническа помощ“ с оглед сключване на договор за БФП с община Асеновград по схема BG161PO001/5-02/2012 „В подкрепа за следващия програмен период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179280" y="1484280"/>
            <a:ext cx="87854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ГЛАВНА ДИРЕКЦИЯ „ПРОГРАМИРАНЕ НА РЕГИОНАЛНОТ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</a:rPr>
              <a:t>БЛАГОДАРЯ ЗА ВНИМАНИЕТ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ДЕНИЦА НИКО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Ръководител на УО на ОП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66"/>
                </a:solidFill>
                <a:latin typeface="Tahoma"/>
              </a:rPr>
              <a:t>ИНВЕСТИРАМЕ ВЪВ ВАШЕТО БЪДЕЩ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5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юни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01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5 г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гр. Соф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216072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 Stanevska</cp:lastModifiedBy>
  <cp:lastPrinted>2015-06-01T10:26:14Z</cp:lastPrinted>
  <dcterms:modified xsi:type="dcterms:W3CDTF">2015-06-01T11:48:39Z</dcterms:modified>
  <cp:revision>828</cp:revision>
  <dc:subject/>
  <dc:title>Diapositiva 1</dc:title>
</cp:coreProperties>
</file>