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4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B3937-6C31-42B8-9260-EE6D0C6BD729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AD668-3E15-4CAF-B72F-8273E760D707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097A1-9BDD-4FF5-940D-CF49CBB62745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E10B-2676-42DC-89C2-26C7DCC2D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33A7-1788-4385-A94F-544DF66D9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EF43-EE13-4814-B836-55758C4C8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B305-CC9D-48BF-BE6A-6695EE0D2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B3C6-232C-433E-AA79-81161CA7C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0E36-661C-4530-8D00-90FC6D555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789D-54C7-443C-A7B9-C485174F8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ADE5-2A81-41B9-A46D-529677E13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7FA2-66CF-4876-9C37-A1A8FAA4E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EC0C-E04E-4698-AD90-0C04F78A0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F0CB-9AB5-40D3-96D8-E60A3DFB8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8B51-9D33-40E7-AF44-F591F0E37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B20A0-3C34-480B-BDB4-3DFBACEEAE2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"/>
          <p:cNvPicPr/>
          <p:nvPr/>
        </p:nvPicPr>
        <p:blipFill>
          <a:blip r:embed="rId2"/>
          <a:stretch/>
        </p:blipFill>
        <p:spPr>
          <a:xfrm>
            <a:off x="395280" y="71280"/>
            <a:ext cx="1152360" cy="1224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"/>
          <p:cNvPicPr/>
          <p:nvPr/>
        </p:nvPicPr>
        <p:blipFill>
          <a:blip r:embed="rId3"/>
          <a:stretch/>
        </p:blipFill>
        <p:spPr>
          <a:xfrm>
            <a:off x="7885080" y="11592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4576680" y="6175440"/>
            <a:ext cx="4572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2160720" y="40464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2d2d8a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"/>
          <p:cNvSpPr/>
          <p:nvPr/>
        </p:nvSpPr>
        <p:spPr>
          <a:xfrm>
            <a:off x="179280" y="5977080"/>
            <a:ext cx="6683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Sylfaen"/>
              </a:rPr>
              <a:t>Шестнадесето заседание на КН на ОПРР 2007-2013 г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Sylfaen"/>
              </a:rPr>
              <a:t>0</a:t>
            </a:r>
            <a:r>
              <a:rPr b="1" lang="en-US" sz="2000" spc="-1" strike="noStrike">
                <a:solidFill>
                  <a:srgbClr val="000066"/>
                </a:solidFill>
                <a:latin typeface="Sylfaen"/>
              </a:rPr>
              <a:t>5</a:t>
            </a:r>
            <a:r>
              <a:rPr b="1" lang="ru-RU" sz="2000" spc="-1" strike="noStrike">
                <a:solidFill>
                  <a:srgbClr val="000066"/>
                </a:solidFill>
                <a:latin typeface="Sylfaen"/>
              </a:rPr>
              <a:t> юни 2015 г., гр. Соф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"/>
          <p:cNvSpPr/>
          <p:nvPr/>
        </p:nvSpPr>
        <p:spPr>
          <a:xfrm>
            <a:off x="34920" y="3933720"/>
            <a:ext cx="646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800000"/>
                </a:solidFill>
                <a:latin typeface="Arial"/>
              </a:rPr>
              <a:t>Н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апредък в изпълнението на Приоритетна ос 5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“</a:t>
            </a:r>
            <a:r>
              <a:rPr b="1" lang="bg-BG" sz="2400" spc="-1" strike="noStrike">
                <a:solidFill>
                  <a:srgbClr val="800000"/>
                </a:solidFill>
                <a:latin typeface="Arial"/>
              </a:rPr>
              <a:t>Техническа помощ“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270000" y="1447920"/>
            <a:ext cx="862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ИНИСТЕРСТВО НА РЕГИОНАЛНОТО РАЗВИТИЕ И БЛАГОУСТРОЙСТВО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ЛАВНА ДИРЕКЦИЯ “ПРОГРАМИРАНЕ НА РЕГИОНАЛНОТО РАЗВИТИЕ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-213480" y="654372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8"/>
          <p:cNvSpPr/>
          <p:nvPr/>
        </p:nvSpPr>
        <p:spPr>
          <a:xfrm>
            <a:off x="215100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179280" y="3716280"/>
          <a:ext cx="8893440" cy="2084400"/>
        </p:xfrm>
        <a:graphic>
          <a:graphicData uri="http://schemas.openxmlformats.org/drawingml/2006/table">
            <a:tbl>
              <a:tblPr/>
              <a:tblGrid>
                <a:gridCol w="1297080"/>
                <a:gridCol w="1295280"/>
                <a:gridCol w="1533600"/>
                <a:gridCol w="1554120"/>
                <a:gridCol w="1494000"/>
                <a:gridCol w="1719360"/>
              </a:tblGrid>
              <a:tr h="6476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инансов ресурс</a:t>
                      </a: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r>
                        <a:rPr b="1" lang="bg-BG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лв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говорени средства, лв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стоящи за договаряне, лв.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атени средства, лв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ободен ресурс, лв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ерация 5.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 373 026,4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bg-BG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9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bg-BG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4,7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 000,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r>
                        <a:rPr b="0" lang="bg-BG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0 151</a:t>
                      </a:r>
                      <a:r>
                        <a:rPr b="0" lang="bg-BG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0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0" lang="bg-BG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653 541,7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682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ерация 5.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902 624,85 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bg-BG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062 921,66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374 808,1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0" lang="bg-BG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9 703,19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682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ерация 5.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 521 821,67   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bg-BG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 894 373,50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910 302,0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bg-BG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5 064</a:t>
                      </a:r>
                      <a:r>
                        <a:rPr b="0" lang="bg-BG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r>
                        <a:rPr b="0" lang="bg-BG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bg-BG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717 146,13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30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Щ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bg-BG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5 797 473,0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bg-BG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 176 779,93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410 302,0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3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r>
                        <a:rPr b="1" lang="bg-BG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0</a:t>
                      </a:r>
                      <a:r>
                        <a:rPr b="1" lang="bg-BG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3</a:t>
                      </a:r>
                      <a:r>
                        <a:rPr b="1" lang="bg-BG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210 391,0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sp>
        <p:nvSpPr>
          <p:cNvPr id="63" name="Rectangle 5"/>
          <p:cNvSpPr/>
          <p:nvPr/>
        </p:nvSpPr>
        <p:spPr>
          <a:xfrm>
            <a:off x="1176480" y="54000"/>
            <a:ext cx="6851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800000"/>
                </a:solidFill>
                <a:latin typeface="Arial"/>
              </a:rPr>
              <a:t>Финансово изпълнение на ПО 5 „Техническа помощ“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Chart 11" descr=""/>
          <p:cNvPicPr/>
          <p:nvPr/>
        </p:nvPicPr>
        <p:blipFill>
          <a:blip r:embed="rId3"/>
          <a:stretch/>
        </p:blipFill>
        <p:spPr>
          <a:xfrm>
            <a:off x="128520" y="1362240"/>
            <a:ext cx="8597880" cy="25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-213480" y="654372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216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1187280" y="204840"/>
            <a:ext cx="684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800000"/>
                </a:solidFill>
                <a:latin typeface="Arial"/>
              </a:rPr>
              <a:t>Операция 5.1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“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Програмиране, управление, мониторинг, оценка и контрол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Chart 9" descr=""/>
          <p:cNvPicPr/>
          <p:nvPr/>
        </p:nvPicPr>
        <p:blipFill>
          <a:blip r:embed="rId3"/>
          <a:stretch/>
        </p:blipFill>
        <p:spPr>
          <a:xfrm>
            <a:off x="30240" y="1407960"/>
            <a:ext cx="4578120" cy="252432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3"/>
          <p:cNvSpPr/>
          <p:nvPr/>
        </p:nvSpPr>
        <p:spPr>
          <a:xfrm>
            <a:off x="4284720" y="1557360"/>
            <a:ext cx="4788000" cy="43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Конкретни бенефициенти 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-  УО на ОПРР и Дирекция “Вътрешен одит“, МРРБ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Общо 46 проекта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, свързани с укрепване капацитета на УО на ОПРР за закупуване на оборудване, обезпечаване работата на оценителните комисии, специализирани обучения на служителите, оценки на изпълнението на ОПРР, мониторинг и проверки на място на проектите, подготовката на документи за програмен период 2014-2020 г., специализирани юридически услуги, наемане на външни специалисти, размножаване на документи, наем на сграда за УО и помещения за архив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270000" y="4254480"/>
          <a:ext cx="3822480" cy="1365120"/>
        </p:xfrm>
        <a:graphic>
          <a:graphicData uri="http://schemas.openxmlformats.org/drawingml/2006/table">
            <a:tbl>
              <a:tblPr/>
              <a:tblGrid>
                <a:gridCol w="1782720"/>
                <a:gridCol w="2039760"/>
              </a:tblGrid>
              <a:tr h="542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сур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РРБ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(Схема 5-0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говорени в ле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 219 484,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18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атени в ле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 480 151,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6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-213480" y="654372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8"/>
          <p:cNvSpPr/>
          <p:nvPr/>
        </p:nvSpPr>
        <p:spPr>
          <a:xfrm>
            <a:off x="216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Chart 9" descr=""/>
          <p:cNvPicPr/>
          <p:nvPr/>
        </p:nvPicPr>
        <p:blipFill>
          <a:blip r:embed="rId3"/>
          <a:stretch/>
        </p:blipFill>
        <p:spPr>
          <a:xfrm>
            <a:off x="176040" y="1481040"/>
            <a:ext cx="4969080" cy="237816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3"/>
          <p:cNvSpPr/>
          <p:nvPr/>
        </p:nvSpPr>
        <p:spPr>
          <a:xfrm>
            <a:off x="1224000" y="79200"/>
            <a:ext cx="680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Операция 5.2 "Комуникация, информация и публичност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5076720" y="1844640"/>
            <a:ext cx="3818160" cy="35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нкретен бенефициент 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О на ОПР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що 6 проект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свързани с осигуряване на информация и публичност и изпълнение на Комуникационния план по ОПРР,  организиране на събития, публикации в електронни и печатни медии, рекламни материали, поддръжка на интернет сайт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а ОПР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539640" y="4221000"/>
          <a:ext cx="4105440" cy="1460520"/>
        </p:xfrm>
        <a:graphic>
          <a:graphicData uri="http://schemas.openxmlformats.org/drawingml/2006/table">
            <a:tbl>
              <a:tblPr/>
              <a:tblGrid>
                <a:gridCol w="2016360"/>
                <a:gridCol w="2089080"/>
              </a:tblGrid>
              <a:tr h="6375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сур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РРБ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(Схема 5-0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говорени  в ле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062 921,6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18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атени  в ле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374 808,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"/>
          <p:cNvSpPr/>
          <p:nvPr/>
        </p:nvSpPr>
        <p:spPr>
          <a:xfrm>
            <a:off x="-213480" y="654372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216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1187280" y="204840"/>
            <a:ext cx="684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Операция 5.3 "Изграждане капацитет на бенефициентите на ОПРР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34920" y="1319040"/>
            <a:ext cx="8929800" cy="39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 algn="just">
              <a:spcBef>
                <a:spcPts val="1199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66"/>
                </a:solidFill>
                <a:latin typeface="Arial"/>
              </a:rPr>
              <a:t>Схема BG161РО001/5-01/2008 – </a:t>
            </a:r>
            <a:r>
              <a:rPr b="0" lang="ru-RU" sz="1700" spc="-1" strike="noStrike">
                <a:solidFill>
                  <a:srgbClr val="0d0d0d"/>
                </a:solidFill>
                <a:latin typeface="Arial"/>
              </a:rPr>
              <a:t>насочена към подобряване на капацитета на бенефициентите-държавни институции - МЗ, МК, МОМН, АСП, АЗ, МВР, АПИ МИЕТ, Дирекция "Обновяване на жилищни сгради", МРРБ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just">
              <a:spcBef>
                <a:spcPts val="1199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0066"/>
                </a:solidFill>
                <a:latin typeface="Arial"/>
              </a:rPr>
              <a:t>Схема </a:t>
            </a:r>
            <a:r>
              <a:rPr b="0" lang="ru-RU" sz="1700" spc="-1" strike="noStrike">
                <a:solidFill>
                  <a:srgbClr val="000066"/>
                </a:solidFill>
                <a:latin typeface="Arial"/>
              </a:rPr>
              <a:t>BG161PO001/5-02/2012 – </a:t>
            </a:r>
            <a:r>
              <a:rPr b="0" lang="ru-RU" sz="1700" spc="-1" strike="noStrike">
                <a:solidFill>
                  <a:srgbClr val="0d0d0d"/>
                </a:solidFill>
                <a:latin typeface="Arial"/>
              </a:rPr>
              <a:t>насочена към </a:t>
            </a:r>
            <a:r>
              <a:rPr b="0" lang="bg-BG" sz="1700" spc="-1" strike="noStrike">
                <a:solidFill>
                  <a:srgbClr val="0d0d0d"/>
                </a:solidFill>
                <a:latin typeface="Arial"/>
              </a:rPr>
              <a:t>разработване на 700 бр. готови продукти от 35 общини, които да бъдат финансирани по ОП „Региони в растеж“ 2014-2020 г. </a:t>
            </a:r>
            <a:r>
              <a:rPr b="0" lang="ru-RU" sz="1700" spc="-1" strike="noStrike">
                <a:solidFill>
                  <a:srgbClr val="0d0d0d"/>
                </a:solidFill>
                <a:latin typeface="Arial"/>
              </a:rPr>
              <a:t>До момента в УО са получени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243 бр. </a:t>
            </a:r>
            <a:r>
              <a:rPr b="0" lang="ru-RU" sz="1700" spc="-1" strike="noStrike">
                <a:solidFill>
                  <a:srgbClr val="0d0d0d"/>
                </a:solidFill>
                <a:latin typeface="Arial"/>
              </a:rPr>
              <a:t>готови инвестиционни проекта, от  които са приети (одобрени) 33 броя.  Получени са технически проекти от общините </a:t>
            </a:r>
            <a:r>
              <a:rPr b="0" lang="bg-BG" sz="1700" spc="-1" strike="noStrike">
                <a:solidFill>
                  <a:srgbClr val="0d0d0d"/>
                </a:solidFill>
                <a:latin typeface="Arial"/>
              </a:rPr>
              <a:t>Добрич, Казанлък и Търговище, Столична, Стара Загора, Пловдив, Хасково, Свищов, Петрич, Сливен, Разград, Силистра, Враца и Пазарджик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just">
              <a:spcBef>
                <a:spcPts val="1199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66"/>
                </a:solidFill>
                <a:latin typeface="Arial"/>
              </a:rPr>
              <a:t>Схема BG161PO001/5-03/2013 – </a:t>
            </a:r>
            <a:r>
              <a:rPr b="0" lang="ru-RU" sz="1700" spc="-1" strike="noStrike">
                <a:solidFill>
                  <a:srgbClr val="0d0d0d"/>
                </a:solidFill>
                <a:latin typeface="Arial"/>
              </a:rPr>
              <a:t>насочена към </a:t>
            </a:r>
            <a:r>
              <a:rPr b="0" lang="bg-BG" sz="1700" spc="-1" strike="noStrike">
                <a:solidFill>
                  <a:srgbClr val="0d0d0d"/>
                </a:solidFill>
                <a:latin typeface="Arial"/>
              </a:rPr>
              <a:t>разработване на интегрирани планове за градско възстановяване и развитие (ИПГВР) за градовете от 3-то и 4-то ниво</a:t>
            </a:r>
            <a:r>
              <a:rPr b="0" lang="bg-BG" sz="1700" spc="-1" strike="noStrike">
                <a:solidFill>
                  <a:srgbClr val="422c16"/>
                </a:solidFill>
                <a:latin typeface="Arial"/>
              </a:rPr>
              <a:t>. </a:t>
            </a:r>
            <a:r>
              <a:rPr b="0" lang="bg-BG" sz="1700" spc="-1" strike="noStrike">
                <a:solidFill>
                  <a:srgbClr val="0d0d0d"/>
                </a:solidFill>
                <a:latin typeface="Arial"/>
              </a:rPr>
              <a:t>До момента са получени 21 ИПГВР,  като 12 от тях са одобрени от УО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179280" y="4873680"/>
          <a:ext cx="8893440" cy="1384200"/>
        </p:xfrm>
        <a:graphic>
          <a:graphicData uri="http://schemas.openxmlformats.org/drawingml/2006/table">
            <a:tbl>
              <a:tblPr/>
              <a:tblGrid>
                <a:gridCol w="1297080"/>
                <a:gridCol w="1800360"/>
                <a:gridCol w="2303280"/>
                <a:gridCol w="3492720"/>
              </a:tblGrid>
              <a:tr h="7318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сур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РРБ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(Схема 5-01),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1" lang="bg-BG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л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щин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(Схеми 5-02 и 5-03), л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кретни бенефициенти, държавни институции </a:t>
                      </a:r>
                      <a:r>
                        <a:rPr b="1" lang="ru-RU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(Схема 5-01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, л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474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говоре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279 948,48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 28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3</a:t>
                      </a: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331 571,1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ате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909 834,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 238 852,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536 377,3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2"/>
          <p:cNvSpPr/>
          <p:nvPr/>
        </p:nvSpPr>
        <p:spPr>
          <a:xfrm>
            <a:off x="-213480" y="654372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8"/>
          <p:cNvSpPr/>
          <p:nvPr/>
        </p:nvSpPr>
        <p:spPr>
          <a:xfrm>
            <a:off x="216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1187280" y="204840"/>
            <a:ext cx="684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800000"/>
                </a:solidFill>
                <a:latin typeface="Arial"/>
              </a:rPr>
              <a:t>Предложение за вземане на решение и реалокация за ПО 5 „Техническа помощ“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34920" y="1319040"/>
            <a:ext cx="892980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 algn="just">
              <a:spcBef>
                <a:spcPts val="1199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Регулярно освобождаваният финансов ресурс по приоритетна ос 5 „Техническа помощ“ на ОПРР 2007-2013 г. (който към 30.05.2015 г. е около 4 млн. лв.), да бъде пренасочван за финансиране на проекти от резервния списък като се задърж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just">
              <a:spcBef>
                <a:spcPts val="1199"/>
              </a:spcBef>
              <a:buClr>
                <a:srgbClr val="000066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финансов ресурс в размер на </a:t>
            </a:r>
            <a:r>
              <a:rPr b="0" i="1" lang="ru-RU" sz="1800" spc="-1" strike="noStrike" u="sng">
                <a:solidFill>
                  <a:srgbClr val="000066"/>
                </a:solidFill>
                <a:uFillTx/>
                <a:latin typeface="Arial"/>
              </a:rPr>
              <a:t>500 000 лв. </a:t>
            </a:r>
            <a:r>
              <a:rPr b="0" i="1" lang="ru-RU" sz="1800" spc="-1" strike="noStrike">
                <a:solidFill>
                  <a:srgbClr val="000066"/>
                </a:solidFill>
                <a:latin typeface="Arial"/>
              </a:rPr>
              <a:t>по Операция 5.1 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на приоритетна    ос 5 „Техническа помощ“ за текущи нужди на УО на ОПРР във връзка с изпълнението на програм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just">
              <a:spcBef>
                <a:spcPts val="1199"/>
              </a:spcBef>
              <a:buClr>
                <a:srgbClr val="000066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финансов ресурс в размер на </a:t>
            </a:r>
            <a:r>
              <a:rPr b="0" i="1" lang="ru-RU" sz="1800" spc="-1" strike="noStrike" u="sng">
                <a:solidFill>
                  <a:srgbClr val="000066"/>
                </a:solidFill>
                <a:uFillTx/>
                <a:latin typeface="Arial"/>
              </a:rPr>
              <a:t>1 360 302,04 лв. </a:t>
            </a:r>
            <a:r>
              <a:rPr b="0" i="1" lang="ru-RU" sz="1800" spc="-1" strike="noStrike">
                <a:solidFill>
                  <a:srgbClr val="000066"/>
                </a:solidFill>
                <a:latin typeface="Arial"/>
              </a:rPr>
              <a:t>по Операция 5.3 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на приоритетна ос 5 „Техническа помощ“ с оглед анексиране на договор BG161PO001-5.3.01-0068-C0001 с бенефициент Дирекция „Жилищна политика“ на МРР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just">
              <a:spcBef>
                <a:spcPts val="1199"/>
              </a:spcBef>
              <a:buClr>
                <a:srgbClr val="000066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финансов ресурс в размер на </a:t>
            </a:r>
            <a:r>
              <a:rPr b="0" i="1" lang="ru-RU" sz="1800" spc="-1" strike="noStrike" u="sng">
                <a:solidFill>
                  <a:srgbClr val="000066"/>
                </a:solidFill>
                <a:uFillTx/>
                <a:latin typeface="Arial"/>
              </a:rPr>
              <a:t>550 000,00 лв. </a:t>
            </a:r>
            <a:r>
              <a:rPr b="0" i="1" lang="ru-RU" sz="1800" spc="-1" strike="noStrike">
                <a:solidFill>
                  <a:srgbClr val="000066"/>
                </a:solidFill>
                <a:latin typeface="Arial"/>
              </a:rPr>
              <a:t>по Операция 5.3 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на приоритетна ос 5 „Техническа помощ“ с оглед сключване на договор за БФП с община Асеновград по схема BG161PO001/5-02/2012 „В подкрепа за следващия програмен период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2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216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7"/>
          <p:cNvSpPr/>
          <p:nvPr/>
        </p:nvSpPr>
        <p:spPr>
          <a:xfrm>
            <a:off x="179280" y="1484280"/>
            <a:ext cx="8785440" cy="482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ahoma"/>
              </a:rPr>
              <a:t>ГЛАВНА ДИРЕКЦИЯ „ПРОГРАМИРАНЕ НА РЕГИОНАЛНОТО РАЗВИТИЕ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500" spc="-1" strike="noStrike">
                <a:solidFill>
                  <a:srgbClr val="336699"/>
                </a:solidFill>
                <a:latin typeface="Tahoma"/>
              </a:rPr>
              <a:t> 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a50021"/>
                </a:solidFill>
                <a:latin typeface="Tahoma"/>
              </a:rPr>
              <a:t>БЛАГОДАРЯ ЗА ВНИМАНИЕТ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66"/>
                </a:solidFill>
                <a:latin typeface="Arial"/>
              </a:rPr>
              <a:t>ДЕНИЦА НИКОЛ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66"/>
                </a:solidFill>
                <a:latin typeface="Arial"/>
              </a:rPr>
              <a:t>Ръководител на УО на ОПР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000" spc="-1" strike="noStrike">
                <a:solidFill>
                  <a:srgbClr val="000066"/>
                </a:solidFill>
                <a:latin typeface="Tahoma"/>
              </a:rPr>
              <a:t>ИНВЕСТИРАМЕ ВЪВ ВАШЕТО БЪДЕЩЕ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0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5 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юни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201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5 г.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гр. Соф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2160720" y="2602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ahoma"/>
              </a:rPr>
              <a:t>МИНИСТЕРСТВО НА РЕГИОНАЛНОТО РАЗВИТИЕ И БЛАГОУСТРОЙСТВО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 Stanevska</cp:lastModifiedBy>
  <cp:lastPrinted>2015-06-01T10:26:14Z</cp:lastPrinted>
  <dcterms:modified xsi:type="dcterms:W3CDTF">2015-06-01T11:48:39Z</dcterms:modified>
  <cp:revision>828</cp:revision>
  <dc:subject/>
  <dc:title>Diapositiva 1</dc:title>
</cp:coreProperties>
</file>