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F8F1-D0FF-419F-884B-AC3CA94FA75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133F-E345-4A71-A339-361A8952417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A8EF-C9FC-4CC4-882B-082E566C104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9E9-2A32-4122-B365-ABDF9AB1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D8F-03F6-43BC-A0C6-32CD9EB5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F9B-066A-4D67-A017-CE5D4EB8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49C-B733-4744-A982-8B06099A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1C4-0968-4878-A65B-B0979DA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7A0-0788-4CBD-80A4-0741E9EA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B5E-2CE8-4033-A90A-BB50C231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302-8FC6-4973-9A14-5E071E9B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AD9-647C-41D6-92B9-8D063621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577-D789-4499-B2DD-66537A1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2D4-98F8-40ED-A706-E5168F3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F55-AA9D-49D5-9438-191EF2C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E735-082E-4581-B8AA-83B88716EB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79280" y="5977080"/>
            <a:ext cx="62643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  <a:ea typeface="Arial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на КН на ОПРР 2007-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076640"/>
            <a:ext cx="67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Промени в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Oперативна програма «Регионално развитие» 2007-2013 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1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8840" y="1636560"/>
            <a:ext cx="859140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а отмени всички предходни решения на КН във връзка с пренасочването на финансов ресурс към Северна скоростна танг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о достигане на необходимия ресурс за финансиране на големия проект за изграждане на Северна скоростна тангента към проекта да бъде пренасочван единствено освободеният ресурс от наложени плоски финансови корекции и индивидуални финансови корекции, съгласно Протоколно решение № 54 на Министерския съвет от 22.12.2014 г., с изключение на индивидуална финансова корекция по нередност № ОПРР/15/РР/92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4680" y="1460520"/>
            <a:ext cx="8591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 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а наддоговори финансовия ресурс по приоритетна ос 1 на ОПРР, в съответствие с РМС № 500/ 23.08.2013 г., по отношение на списъка с резервни проекти, одобрен с решение от 15-тото заседание на КН на ОПРР 2007-2013 – допълнителните обекти, одобрени по схема „Зелена и достъпна градска среда“, предложението за интегриран градски транспорт на гр. Стара Загора, предложението на Министерство на здравеопазване за закупуване на допълнителна апаратура за лъчелечение и одобрените проекти по схемата за социални жилища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 представяне на влезли в сила решения за избор на изпълнител или сключени договори с избрани изпълнители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за проекти, за които е обоснована възможност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а бъдат изпълнени и разплатени към изпълнителите до края на месец декември 201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1293840"/>
            <a:ext cx="886140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Регулярно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свобождаващият се финансов ресурс по всички схеми за БФП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 анексиране, приключване и прекратяване на договори за БФП да бъде пренасочван към схемите, по които има подписани договори за БФП/ анекси от списъка с резервни проекти, като се задърж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4320" algn="just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 ресурс в размер на </a:t>
            </a:r>
            <a:r>
              <a:rPr b="0" lang="ru-RU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500 000 лв.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по Операция 5.1 на приоритетна ос 5 „Техническа помощ“ за текущи нужди на УО на ОПРР във връзка с изпълнението на програмат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4320" algn="just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 ресурс в размер на </a:t>
            </a:r>
            <a:r>
              <a:rPr b="0" lang="ru-RU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1 360 302,04 лв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. по Операция 5.3 на приоритетна ос 5 „Техническа помощ“ с оглед анексиране на договор BG161PO001-5.3.01-0068-C0001 с бенефициент Дирекция „Жилищна политика“ на МРРБ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4320" algn="just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 ресурс в размер на </a:t>
            </a:r>
            <a:r>
              <a:rPr b="0" lang="en-US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550 000 </a:t>
            </a:r>
            <a:r>
              <a:rPr b="0" lang="ru-RU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лв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. по Операция 5.3 на приоритетна ос 5 „Техническа помощ“ с оглед сключване на договора за БФП с община Асеновград по схема BG161PO001/5-02/2012 „В подкрепа за следващия програмен период“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70000" y="1557360"/>
            <a:ext cx="85914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5568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случай че финансовият ресурс за обезпечаване на сключените договори за БФП/анекси от списъка с резервни проекти не бъде осигурен по ОПРР 2007-2013 г. към края на месец декември 2015г., средствата за завършване на проектите да останат за сметка на бенефициен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556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 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55680" algn="just">
              <a:spcBef>
                <a:spcPts val="18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да направи промени в ОП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Регионално развитие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 2007-201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г. съгласно извършените реалокации при иницииране на последната ревизия на програ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dcterms:modified xsi:type="dcterms:W3CDTF">2015-06-01T12:22:30Z</dcterms:modified>
  <cp:revision>820</cp:revision>
  <dc:subject/>
  <dc:title>Diapositiva 1</dc:title>
</cp:coreProperties>
</file>