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2615-7E83-4DCA-8D23-A32199DE5EDC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7A11-072E-4A3A-BD14-12C9FF61599B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3264-F79A-46E3-B7D1-1F94F3B17B13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586B-2804-4AD4-8FA6-E9D0ABEB6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08AF-DE5D-4A27-BB28-ACC8F3AB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AA55-2F46-403B-8550-E8DCE2B5F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AFD4-BFD2-479B-8483-9501E021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1C8B-1491-4A18-B451-EB1BF51A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E581-132B-452E-B1AE-E51AC7B3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8264-78A5-47AF-B192-722CC983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1224-7704-42B8-91D8-A7591248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5349-D9C7-43AA-B049-552C311D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0BBE-7B66-4551-B746-40F401B5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B7B2-E4C7-4419-8792-29638FA6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FE9A-607C-461A-B481-6CD58D73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E187-962D-4525-B2BD-7489B9646CE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2"/>
          <a:stretch/>
        </p:blipFill>
        <p:spPr>
          <a:xfrm>
            <a:off x="395280" y="71280"/>
            <a:ext cx="1152360" cy="1224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885080" y="11592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576680" y="6175440"/>
            <a:ext cx="4572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2160720" y="40464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2d2d8a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179280" y="5977080"/>
            <a:ext cx="626436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Sylfaen"/>
                <a:ea typeface="Arial"/>
              </a:rPr>
              <a:t>Шестнадесето заседание</a:t>
            </a:r>
            <a:r>
              <a:rPr b="1" lang="en-US" sz="2000" spc="-1" strike="noStrike">
                <a:solidFill>
                  <a:srgbClr val="000066"/>
                </a:solidFill>
                <a:latin typeface="Sylfaen"/>
                <a:ea typeface="Arial"/>
              </a:rPr>
              <a:t> </a:t>
            </a:r>
            <a:r>
              <a:rPr b="1" lang="bg-BG" sz="2000" spc="-1" strike="noStrike">
                <a:solidFill>
                  <a:srgbClr val="000066"/>
                </a:solidFill>
                <a:latin typeface="Sylfaen"/>
                <a:ea typeface="Arial"/>
              </a:rPr>
              <a:t>на КН на ОПРР 2007-201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Sylfaen"/>
                <a:ea typeface="Arial"/>
              </a:rPr>
              <a:t>5 юн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  <a:ea typeface="Arial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  <a:ea typeface="Arial"/>
              </a:rPr>
              <a:t>5 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  <a:ea typeface="Arial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  <a:ea typeface="Arial"/>
              </a:rPr>
              <a:t>гр.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4076640"/>
            <a:ext cx="67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800000"/>
                </a:solidFill>
                <a:latin typeface="Arial"/>
                <a:ea typeface="Arial"/>
              </a:rPr>
              <a:t>Промени в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 Oперативна програма «Регионално развитие» 2007-2013 г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70000" y="1447920"/>
            <a:ext cx="86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ЛАВНА ДИРЕКЦИЯ “ПРОГРАМИРАНЕ НА РЕГИОНАЛНОТО РАЗВИТИ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187280" y="128520"/>
            <a:ext cx="68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Arial"/>
                <a:ea typeface="Arial"/>
              </a:rPr>
              <a:t>ПРЕДЛОЖЕНИЕ ЗА РЕШЕНИЕ (1)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236520" y="1452600"/>
            <a:ext cx="8624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258840" y="1636560"/>
            <a:ext cx="8591400" cy="43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just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Н дава мандат на Ръководителя на УО на ОПР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11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Да отмени всички предходни решения на КН във връзка с пренасочването на финансов ресурс към Северна скоростна танг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Н дава мандат на Ръководителя на УО на ОПР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11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До достигане на необходимия ресурс за финансиране на големия проект за изграждане на Северна скоростна тангента към проекта да бъде пренасочван единствено освободеният ресурс от наложени плоски финансови корекции и индивидуални финансови корекции, съгласно Протоколно решение № 54 на Министерския съвет от 22.12.2014 г., с изключение на индивидуална финансова корекция по нередност № ОПРР/15/РР/92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187280" y="128520"/>
            <a:ext cx="68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Arial"/>
                <a:ea typeface="Arial"/>
              </a:rPr>
              <a:t>ПРЕДЛОЖЕНИЕ ЗА РЕШЕНИЕ (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2</a:t>
            </a:r>
            <a:r>
              <a:rPr b="1" lang="bg-BG" sz="2800" spc="-1" strike="noStrike">
                <a:solidFill>
                  <a:srgbClr val="a50021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236520" y="1452600"/>
            <a:ext cx="8624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274680" y="1460520"/>
            <a:ext cx="8591400" cy="45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. КН дава мандат на Ръководителя на УО на ОПР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Да наддоговори финансовия ресурс по приоритетна ос 1 на ОПРР, в съответствие с РМС № 500/ 23.08.2013 г., по отношение на списъка с резервни проекти, одобрен с решение от 15-тото заседание на КН на ОПРР 2007-2013 – допълнителните обекти, одобрени по схема „Зелена и достъпна градска среда“, предложението за интегриран градски транспорт на гр. Стара Загора, предложението на Министерство на здравеопазване за закупуване на допълнителна апаратура за лъчелечение и одобрените проекти по схемата за социални жилища,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ри представяне на влезли в сила решения за избор на изпълнител или сключени договори с избрани изпълнители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за проекти, за които е обоснована възможност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да бъдат изпълнени и разплатени към изпълнителите до края на месец декември 2015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1187280" y="128520"/>
            <a:ext cx="68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Arial"/>
                <a:ea typeface="Arial"/>
              </a:rPr>
              <a:t>ПРЕДЛОЖЕНИЕ ЗА РЕШЕНИЕ (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3</a:t>
            </a:r>
            <a:r>
              <a:rPr b="1" lang="bg-BG" sz="2800" spc="-1" strike="noStrike">
                <a:solidFill>
                  <a:srgbClr val="a50021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236520" y="1452600"/>
            <a:ext cx="8624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1293840"/>
            <a:ext cx="8861400" cy="43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Регулярно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освобождаващият се финансов ресурс по всички схеми за БФП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от анексиране, приключване и прекратяване на договори за БФП да бъде пренасочван към схемите, по които има подписани договори за БФП/ анекси от списъка с резервни проекти, като се задържи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4320" algn="just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финансов ресурс в размер на </a:t>
            </a:r>
            <a:r>
              <a:rPr b="0" lang="ru-RU" sz="17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500 000 лв.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 по Операция 5.1 на приоритетна ос 5 „Техническа помощ“ за текущи нужди на УО на ОПРР във връзка с изпълнението на програмата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  <a:ea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4320" algn="just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финансов ресурс в размер на </a:t>
            </a:r>
            <a:r>
              <a:rPr b="0" lang="ru-RU" sz="17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1 360 302,04 лв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. по Операция 5.3 на приоритетна ос 5 „Техническа помощ“ с оглед анексиране на договор BG161PO001-5.3.01-0068-C0001 с бенефициент Дирекция „Жилищна политика“ на МРРБ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  <a:ea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4320" algn="just">
              <a:lnSpc>
                <a:spcPct val="100000"/>
              </a:lnSpc>
              <a:spcBef>
                <a:spcPts val="3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финансов ресурс в размер на </a:t>
            </a:r>
            <a:r>
              <a:rPr b="0" lang="en-US" sz="17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550 000 </a:t>
            </a:r>
            <a:r>
              <a:rPr b="0" lang="ru-RU" sz="17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лв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. по Операция 5.3 на приоритетна ос 5 „Техническа помощ“ с оглед сключване на договора за БФП с община Асеновград по схема BG161PO001/5-02/2012 „В подкрепа за следващия програмен период“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187280" y="128520"/>
            <a:ext cx="68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Arial"/>
                <a:ea typeface="Arial"/>
              </a:rPr>
              <a:t>ПРЕДЛОЖЕНИЕ ЗА РЕШЕНИЕ (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4</a:t>
            </a:r>
            <a:r>
              <a:rPr b="1" lang="bg-BG" sz="2800" spc="-1" strike="noStrike">
                <a:solidFill>
                  <a:srgbClr val="a50021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36520" y="1452600"/>
            <a:ext cx="8624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270000" y="1557360"/>
            <a:ext cx="8591400" cy="33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35568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В случай че финансовият ресурс за обезпечаване на сключените договори за БФП/анекси от списъка с резервни проекти не бъде осигурен по ОПРР 2007-2013 г. към края на месец декември 2015г., средствата за завършване на проектите да останат за сметка на бенефициенти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556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. КН дава мандат на Ръководителя на УО на ОПР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355680" algn="just">
              <a:spcBef>
                <a:spcPts val="18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66"/>
                </a:solidFill>
                <a:latin typeface="Arial"/>
              </a:rPr>
              <a:t>да направи промени в ОП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bg-BG" sz="2000" spc="-1" strike="noStrike">
                <a:solidFill>
                  <a:srgbClr val="000066"/>
                </a:solidFill>
                <a:latin typeface="Arial"/>
              </a:rPr>
              <a:t>Регионално развитие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”</a:t>
            </a:r>
            <a:r>
              <a:rPr b="0" lang="bg-BG" sz="2000" spc="-1" strike="noStrike">
                <a:solidFill>
                  <a:srgbClr val="000066"/>
                </a:solidFill>
                <a:latin typeface="Arial"/>
              </a:rPr>
              <a:t> 2007-201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66"/>
                </a:solidFill>
                <a:latin typeface="Arial"/>
              </a:rPr>
              <a:t>г. съгласно извършените реалокации при иницииране на последната ревизия на програм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79280" y="1484280"/>
            <a:ext cx="87854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  <a:ea typeface="Arial"/>
              </a:rPr>
              <a:t>ГЛАВНА ДИРЕКЦИЯ „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Tahoma"/>
                <a:ea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  <a:ea typeface="Arial"/>
              </a:rPr>
              <a:t>БЛАГОДАРЯ ЗА ВНИМАНИЕ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  <a:ea typeface="Arial"/>
              </a:rPr>
              <a:t>Мария Станев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  <a:ea typeface="Arial"/>
              </a:rPr>
              <a:t>Началник отдел „Изпълнение на програмните приоритети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66"/>
                </a:solidFill>
                <a:latin typeface="Tahoma"/>
                <a:ea typeface="Arial"/>
              </a:rPr>
              <a:t>ИНВЕСТИРАМЕ ВЪВ ВАШЕТО БЪДЕЩ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Arial"/>
                <a:ea typeface="Arial"/>
              </a:rPr>
              <a:t>5 юни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201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  <a:ea typeface="Arial"/>
              </a:rPr>
              <a:t>5 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  <a:ea typeface="Arial"/>
              </a:rPr>
              <a:t>гр. Соф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16072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  <a:ea typeface="Arial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 Stanevska</cp:lastModifiedBy>
  <dcterms:modified xsi:type="dcterms:W3CDTF">2015-06-01T12:22:30Z</dcterms:modified>
  <cp:revision>820</cp:revision>
  <dc:subject/>
  <dc:title>Diapositiva 1</dc:title>
</cp:coreProperties>
</file>