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620E-CCD7-49FC-9F7A-66B95BDE1F71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91BC-9FBB-4113-A13E-88497A2FB45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E35-76E4-4E3E-B104-A248148E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6A6-DC95-4E06-9183-110F4441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E41-03BF-47B6-8DA0-2AED5817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859-7285-452B-8386-0C465413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8BBC-C9AA-4541-A8B4-11A893AC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3355-8DF9-4AF3-B39E-C4F873C3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E9E7-054C-4351-92E3-708B69D9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6CEB-666B-42B5-855E-5AFC117C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D5C9-3493-47B2-9E80-D752613D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9A71-3BF1-4C4A-911E-E1E41CC7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B09F-B58B-48BE-ABBB-B96A1095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D4D-F984-4B99-9BBA-CA0EA1E5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BE02-84C4-4BB2-9BD4-FA199029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833A-621A-40C5-9B94-57C49A3A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D42E-BA7F-4506-BE51-58C985A9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2139-947E-45AA-BC86-F17C9DB2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2651-0AFE-4252-A505-D3C95EE8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4BA32-10C8-45C9-BEAE-829DE20C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4F999-6E58-4304-B067-EA28CB3E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BEA3F-1C4E-440E-8832-19360D38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0257-0804-4487-ADC5-9E11B133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C383C-8D0C-4850-A3FE-A19B444D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1E68-E727-42C3-88F1-23CE3DB4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FD48-B828-4A66-A65E-DBB94BCA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4405C-61F5-449E-93EC-0BC4BC83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D10E-B666-48E5-9A13-2912DA99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14DB1-2BC0-4181-8F9D-EA9A0DA7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8A212-7876-415D-927D-EA2F0428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686D1-4693-487E-A12B-F4D24929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CD2E8-B903-4938-9E36-24DC21A6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A7C-2E40-40EC-BE1D-991DB828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D91-06A7-4B36-8D37-0A4D41BA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B1F-FEA1-4428-B23D-920E560B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4B7-693B-4D3A-BFA7-7A145C04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D1E-9391-46F5-971F-15C8A470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DFF-7452-435A-B84B-914E2FB9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FFA8-92BF-4A3E-90BB-542EE62E43D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0CED-A921-4F92-85EA-7DF656DB3BD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5AC4-270A-4476-B5B8-D67F16146FD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146160" y="4476600"/>
            <a:ext cx="6300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Подкрепа за малките градове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Оперативна програма „Региони в растеж“ </a:t>
            </a:r>
            <a:r>
              <a:rPr b="1" lang="en-US" sz="2400" spc="-1" strike="noStrike">
                <a:solidFill>
                  <a:srgbClr val="2d2d8a"/>
                </a:solidFill>
                <a:latin typeface="Sylfaen"/>
              </a:rPr>
              <a:t> 2014-2020 </a:t>
            </a: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Европейска и национална политика за подкрепа за малки градо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Diagram 2" descr=""/>
          <p:cNvPicPr/>
          <p:nvPr/>
        </p:nvPicPr>
        <p:blipFill>
          <a:blip r:embed="rId2"/>
          <a:stretch/>
        </p:blipFill>
        <p:spPr>
          <a:xfrm>
            <a:off x="262080" y="1427040"/>
            <a:ext cx="8278560" cy="4241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извикателства пред развитието на малките градове в европейски кон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53" name="Diagram 12" descr=""/>
          <p:cNvPicPr/>
          <p:nvPr/>
        </p:nvPicPr>
        <p:blipFill>
          <a:blip r:embed="rId3"/>
          <a:stretch/>
        </p:blipFill>
        <p:spPr>
          <a:xfrm>
            <a:off x="530280" y="1847880"/>
            <a:ext cx="80168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1476360" y="35388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Роля на малките градове в европейски кон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1"/>
          <p:cNvSpPr/>
          <p:nvPr/>
        </p:nvSpPr>
        <p:spPr>
          <a:xfrm>
            <a:off x="539640" y="1854360"/>
            <a:ext cx="8136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Малък не винаги означава по-малъ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Съществуващи предимства и потенциал на по-малките град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Голям брой малки градове – съсредоточена значителна част от населе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539640" y="3110040"/>
            <a:ext cx="81360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За полицентричното териториал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Постигане на балансирано териториал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Противодействие за напускането на хора и бизнес от периферните рай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539640" y="4365720"/>
            <a:ext cx="785196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Verdana"/>
              </a:rPr>
              <a:t>За полицентричните градски мре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Сътрудничество с други градове – възможност за привличане на средства и инвестиции и специ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Значение на малките градове  в европейски кон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7"/>
          <p:cNvSpPr/>
          <p:nvPr/>
        </p:nvSpPr>
        <p:spPr>
          <a:xfrm>
            <a:off x="179280" y="1550880"/>
            <a:ext cx="3799080" cy="870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S Minngs"/>
              </a:rPr>
              <a:t>Предоставяне на работни места и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Центрове за работа, транспорт, услуги, обслужване на селските райо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179280" y="2708280"/>
            <a:ext cx="3799080" cy="87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S Minngs"/>
              </a:rPr>
              <a:t>Териториално сближа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Градско-селски връз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пират обезлюдяванет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дминистративни центров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179280" y="3860640"/>
            <a:ext cx="379908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S Minngs"/>
              </a:rPr>
              <a:t>Социална и икономическа устойчив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изост до зелени територ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ъзможност за отди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-ниски нива на замърся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179280" y="5011560"/>
            <a:ext cx="3799080" cy="80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MS Minngs"/>
              </a:rPr>
              <a:t>Добри места за живее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Евтини жилищ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покойстиве; Туризъ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4308480" y="1816200"/>
            <a:ext cx="1100160" cy="360036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MS Minng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30"/>
          <p:cNvSpPr/>
          <p:nvPr/>
        </p:nvSpPr>
        <p:spPr>
          <a:xfrm>
            <a:off x="5500800" y="2779560"/>
            <a:ext cx="3271680" cy="1754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70c0"/>
                </a:solidFill>
                <a:uFillTx/>
                <a:latin typeface="Arial"/>
              </a:rPr>
              <a:t>Стратегия Европа 2020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Зает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Климатични про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Енергийна устойчив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Бед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оциално изключ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2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крепа за енергийна ефективност в опорни центрове в периферните райони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C:\Users\DimovD\AppData\Local\Microsoft\Windows\Temporary Internet Files\Content.Outlook\6U1ZJ9PH\умерен полицентризъм_коригирана.bmp"/>
          <p:cNvPicPr/>
          <p:nvPr/>
        </p:nvPicPr>
        <p:blipFill>
          <a:blip r:embed="rId3"/>
          <a:stretch/>
        </p:blipFill>
        <p:spPr>
          <a:xfrm>
            <a:off x="774720" y="1312920"/>
            <a:ext cx="752472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2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крепа за енергийна ефективност в опорни центрове в периферните райони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274680" y="1290600"/>
            <a:ext cx="826272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75320" indent="-1753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500" spc="-1" strike="noStrike">
                <a:solidFill>
                  <a:srgbClr val="003399"/>
                </a:solidFill>
                <a:latin typeface="Arial"/>
              </a:rPr>
              <a:t>Специфични цели: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Повишаване на енергийната ефективност в жилищния сектор и в обществени сгради в опорни центрове от 4-то ниво на националната полицентрична мреж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500" spc="-1" strike="noStrike">
                <a:solidFill>
                  <a:srgbClr val="003399"/>
                </a:solidFill>
                <a:latin typeface="Arial"/>
              </a:rPr>
              <a:t>Конкретни бенефициенти: </a:t>
            </a:r>
            <a:r>
              <a:rPr b="1" lang="bg-BG" sz="15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28 общини на малки градове от 4-то ниво на националната полицентрична мрежа: Сандански, Свиленград, Самоков, Ботевград, Троян, Севлиево, Карнобат, Нова Загора, Попово, Пещера, Поморие, Разлог, Девин, Нови пазар, Мездра, Провадия, Червен бряг, Козлодуй, Берковица, Тутракан, Елхово, Белоградчик, Златоград, Никопол, Генерал Тошево, Крумовград, Ивайловград, Малко Търнов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500" spc="-1" strike="noStrike">
                <a:solidFill>
                  <a:srgbClr val="003399"/>
                </a:solidFill>
                <a:latin typeface="Arial"/>
              </a:rPr>
              <a:t>Допустими дейност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Aft>
                <a:spcPts val="7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рки за енергийна ефективност в жилищни и административни сгради и общински публични сгради на образователната, културната и социалната инфраструктура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Aft>
                <a:spcPts val="7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Изпълнение на гореизброените мерки, съпътствани от основно обновяване на жилищни сгради, в случай че се постигат енергийни спестявания за сградата от повече от 60%;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Aft>
                <a:spcPts val="7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Обследвания за енергийна ефективност и конструктивни обследвания и конструктивни укрепвания, когато е записано като задължително в конструктивното обследван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 algn="just">
              <a:spcAft>
                <a:spcPts val="7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5320" indent="-175320" algn="just">
              <a:spcAft>
                <a:spcPts val="7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2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крепа за енергийна ефективност в опорни центрове в периферните райони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00" name="Content Placeholder 2"/>
          <p:cNvSpPr/>
          <p:nvPr/>
        </p:nvSpPr>
        <p:spPr>
          <a:xfrm>
            <a:off x="179280" y="1446120"/>
            <a:ext cx="58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Индикативен финансов ресурс: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05,7 </a:t>
            </a:r>
            <a:r>
              <a:rPr b="1" lang="ru-RU" sz="1600" spc="-1" strike="noStrike">
                <a:solidFill>
                  <a:srgbClr val="003399"/>
                </a:solidFill>
                <a:latin typeface="Arial"/>
              </a:rPr>
              <a:t>млн. ев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70000" y="1773360"/>
          <a:ext cx="8694720" cy="1746000"/>
        </p:xfrm>
        <a:graphic>
          <a:graphicData uri="http://schemas.openxmlformats.org/drawingml/2006/table">
            <a:tbl>
              <a:tblPr/>
              <a:tblGrid>
                <a:gridCol w="4662360"/>
                <a:gridCol w="934920"/>
                <a:gridCol w="1584360"/>
                <a:gridCol w="1513080"/>
              </a:tblGrid>
              <a:tr h="495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4950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923 488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704 684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ергийна ефективност: Понижаване на годишното потребление на първична енергия от обществените сград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ч/г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130 349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963 073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3"/>
          <p:cNvSpPr/>
          <p:nvPr/>
        </p:nvSpPr>
        <p:spPr>
          <a:xfrm>
            <a:off x="179280" y="3370320"/>
            <a:ext cx="856944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Инвестиции в строителните граници на 28-те града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Допустими сгради – строени преди 1999 г.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Мерки за енергийна ефективност – единствено въз основа на енергийна обследване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Финансиране на проекти – клас на енергопотребление „С“ или 60% енергийни спестявания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</a:rPr>
              <a:t>Мерки за ЕЕ в еднофамилни жилищни сгради – приоритетно за социално-слаб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042920" y="1844640"/>
            <a:ext cx="727416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Иван Попов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чалник на отдел „Програмиране, оценка, информация и публичност“, ГД „Програмиране на регионалнот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Greta Dobreva Dimitrova</cp:lastModifiedBy>
  <cp:lastPrinted>2015-04-28T17:44:28Z</cp:lastPrinted>
  <dcterms:modified xsi:type="dcterms:W3CDTF">2015-06-03T12:33:51Z</dcterms:modified>
  <cp:revision>1133</cp:revision>
  <dc:subject/>
  <dc:title>Diapositiva 1</dc:title>
</cp:coreProperties>
</file>