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8DB-2470-47EC-9740-FD7432393976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289-DCCC-4A6A-B56C-7DDCB873612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305-8231-485E-BE82-94296138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667-756E-4F72-BD5E-F5D681B7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E19-122D-4D83-A758-4AF0F6E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442-066B-4DE9-A96C-F842DE16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88B2-0880-48F4-B329-9D683AA8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927-5A55-425F-AE3D-F78D1A3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5392-18F9-474F-87CD-0FD92FE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775-B381-4D29-976B-28BABB3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270F-1E72-4201-AA86-6ACCD8E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9761-2F84-417E-9F2F-B18B3B81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07D0-2C4A-444A-88FD-0DB9A75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D8C-9ED9-4486-A093-5F9FC26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4EDF-E5AB-45FF-A102-98EE616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3F94-8F8C-42C3-884E-DE4E7AC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A02B-13AB-4FF6-9C51-7E67CF1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F768-8CCB-4F30-AA8C-750ACC3D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83E7-7C54-448A-8696-1EC5BF3A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60BD-FB9C-404A-B04F-39F59F4C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4939-6C26-41D8-BE57-C6FBDF6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ED23-F371-4E20-A535-736C9A8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CAAC-4809-4E93-9A7D-ECCA241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5569-74F9-4884-B778-DF8D2EA8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E55-D069-4138-9CA6-7E8FD30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8AA2-BF2A-418D-88E3-4730B30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EC95-7612-405F-A683-A8A9372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4100-DC7F-4930-8148-CBE3F2D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7FDE-5B63-427F-9337-F9C6195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6A62-8736-4566-BFAB-CC52C238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59AF-7DD0-431A-BFD5-EF62F051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5A87-E3CE-4D34-9FD0-788B4E10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D4B-ED5E-41CF-BCBC-E80BF3C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5A3-9643-40C4-9368-00E8D06D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EC0-2A3E-45D1-84E6-59C8EF64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4E7-5ABC-4C77-93A0-08D8EA1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968-FF0C-4F8D-82CE-6C22E25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275-1299-42AF-A8DF-FC007E8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76D-6893-4B6C-946F-2C976C83DB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887-9762-47A0-8041-A6ADB9C619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277C-AB7A-4AE2-BE17-FDD80C841A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476600"/>
            <a:ext cx="630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Подкрепа за малките градове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„Региони в растеж“ 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2014-2020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Европейска и национална политика за подкрепа за малки градо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2" descr=""/>
          <p:cNvPicPr/>
          <p:nvPr/>
        </p:nvPicPr>
        <p:blipFill>
          <a:blip r:embed="rId2"/>
          <a:stretch/>
        </p:blipFill>
        <p:spPr>
          <a:xfrm>
            <a:off x="262080" y="1427040"/>
            <a:ext cx="8278560" cy="42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извикателства пред развитието на малките градове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3" name="Diagram 12" descr=""/>
          <p:cNvPicPr/>
          <p:nvPr/>
        </p:nvPicPr>
        <p:blipFill>
          <a:blip r:embed="rId3"/>
          <a:stretch/>
        </p:blipFill>
        <p:spPr>
          <a:xfrm>
            <a:off x="530280" y="1847880"/>
            <a:ext cx="80168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476360" y="35388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Роля на малките градове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>
            <a:off x="539640" y="1854360"/>
            <a:ext cx="813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алък не винаги означава по-м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ъществуващи предимства и потенциал на по-малките град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Голям брой малки градове – съсредоточена значителна част от насел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539640" y="3110040"/>
            <a:ext cx="813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За полицентричнот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стигане на балансиран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ротиводействие за напускането на хора и бизнес от периферните ра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539640" y="4365720"/>
            <a:ext cx="7851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За полицентричните градски мре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ътрудничество с други градове – възможност за привличане на средства и инвестиции и спе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начение на малките градове 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7"/>
          <p:cNvSpPr/>
          <p:nvPr/>
        </p:nvSpPr>
        <p:spPr>
          <a:xfrm>
            <a:off x="179280" y="1550880"/>
            <a:ext cx="3799080" cy="87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Предоставяне на работни места и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Центрове за работа, транспорт, услуги, обслужване на селските райо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79280" y="2708280"/>
            <a:ext cx="3799080" cy="87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Териториално сближа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радско-селски връз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ират обезлюдяванет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дминистративни центро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179280" y="3860640"/>
            <a:ext cx="379908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Социална и икономическа устойчив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ост до зелени те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ъзможност за отд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-ниски нива на замърся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179280" y="5011560"/>
            <a:ext cx="3799080" cy="80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Добри места за живе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втини жилищ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окойстиве; Туризъ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308480" y="1816200"/>
            <a:ext cx="1100160" cy="360036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MS Minng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5500800" y="2779560"/>
            <a:ext cx="3271680" cy="175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70c0"/>
                </a:solidFill>
                <a:uFillTx/>
                <a:latin typeface="Arial"/>
              </a:rPr>
              <a:t>Стратегия Европа 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ет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лиматични про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Енергийна устойчив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Бед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оциално изключ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C:\Users\DimovD\AppData\Local\Microsoft\Windows\Temporary Internet Files\Content.Outlook\6U1ZJ9PH\умерен полицентризъм_коригирана.bmp"/>
          <p:cNvPicPr/>
          <p:nvPr/>
        </p:nvPicPr>
        <p:blipFill>
          <a:blip r:embed="rId3"/>
          <a:stretch/>
        </p:blipFill>
        <p:spPr>
          <a:xfrm>
            <a:off x="774720" y="1312920"/>
            <a:ext cx="7524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4680" y="1290600"/>
            <a:ext cx="826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500" spc="-1" strike="noStrike">
                <a:solidFill>
                  <a:srgbClr val="003399"/>
                </a:solidFill>
                <a:latin typeface="Arial"/>
              </a:rPr>
              <a:t>Специфични цели: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Повишаване на енергийната ефективност в жилищния сектор и в обществени сгради в опорни центрове от 4-то ниво на националната полицентрична мреж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1" lang="bg-BG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28 общини на малки градове от 4-то ниво на националната полицентрична мрежа: Сандански, Свиленград, Самоков, Ботевград, Троян, Севлиево, Карнобат, Нова Загора, Попово, Пещера, Поморие, Разлог, Девин, Нови пазар, Мездра, Провадия, Червен бряг, Козлодуй, Берковица, Тутракан, Елхово, Белоградчик, Златоград, Никопол, Генерал Тошево, Крумовград, Ивайловград, Малко Търнов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</a:rPr>
              <a:t>Допустими дейност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рки за енергийна ефективност в жилищни и административни сгради и общински публични сгради на образователната, културната и социалнат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гореизброените мерки, съпътствани от основно обновяване на жилищни сгради, в случай че се постигат енергийни спестявания за сградата от повече от 60%;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Обследвания за енергийна ефективност и конструктивни обследвания и конструктивни укрепвания, когато е записано като задължително в конструктивното обследван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179280" y="1446120"/>
            <a:ext cx="58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05,7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лн. ев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0000" y="1773360"/>
          <a:ext cx="8694720" cy="1746000"/>
        </p:xfrm>
        <a:graphic>
          <a:graphicData uri="http://schemas.openxmlformats.org/drawingml/2006/table">
            <a:tbl>
              <a:tblPr/>
              <a:tblGrid>
                <a:gridCol w="4662360"/>
                <a:gridCol w="934920"/>
                <a:gridCol w="1584360"/>
                <a:gridCol w="1513080"/>
              </a:tblGrid>
              <a:tr h="495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495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923 48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68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: Понижаване на годишното потребление на първична енергия от обществените сгр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ч/г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130 349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963 07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3"/>
          <p:cNvSpPr/>
          <p:nvPr/>
        </p:nvSpPr>
        <p:spPr>
          <a:xfrm>
            <a:off x="179280" y="3370320"/>
            <a:ext cx="85694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Инвестиции в строителните граници на 28-те града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Допустими сгради – строени преди 1999 г.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Мерки за енергийна ефективност – единствено въз основа на енергийна обследване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Финансиране на проекти – клас на енергопотребление „С“ или 60% енергийни спестявания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Мерки за ЕЕ в еднофамилни жилищни сгради – приоритетно за социално-слаб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042920" y="1844640"/>
            <a:ext cx="727416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, ГД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cp:lastPrinted>2015-04-28T17:44:28Z</cp:lastPrinted>
  <dcterms:modified xsi:type="dcterms:W3CDTF">2015-06-03T12:33:51Z</dcterms:modified>
  <cp:revision>1133</cp:revision>
  <dc:subject/>
  <dc:title>Diapositiva 1</dc:title>
</cp:coreProperties>
</file>