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AC6-2DE4-4B26-87E9-A3E0A2C9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194-FF26-4C50-A254-5E7D7AE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DEF-D0A6-4A0A-90C7-246D50FC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142-25A1-4C2C-9C20-B7725C7D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7F6-7909-4A4F-BB40-D7463EF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88A-F124-4EED-B237-BEC9E9DA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219-150E-4D88-B0FA-7FCA0246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3BF-95A4-4432-8E6F-7DC66624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6A4-51ED-4698-A919-293CCF9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42A-9838-4B0A-841E-22307BB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57C-4617-4871-90FF-347836F9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4E2-40AF-45FC-B04C-1D99013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CD65-9C3E-4856-ABC1-6614763EDD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9640" y="4723920"/>
            <a:ext cx="545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итерии за избор на проекти по процедура BG16RFOP001-7.001 ”Регионални пътища“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80880" y="5886360"/>
            <a:ext cx="555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Втор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КН 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20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20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20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20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0000" y="3573360"/>
            <a:ext cx="55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перативна</a:t>
            </a:r>
            <a:r>
              <a:rPr b="0" lang="ru-RU" sz="2800" spc="-1" strike="noStrike">
                <a:solidFill>
                  <a:srgbClr val="0c788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ограма „Региони в растеж“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3440" y="1411200"/>
            <a:ext cx="8801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те за избор на проекти включв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ценка на административно съответствие, допустимост и качеств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 проектните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рка за представяне   на всички задължително изискуеми документи за кандидатстване, кат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/работен проек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ъгласно ЗУТ, вкл. съгласувателни писма и становища, количествени сметки, количествено-стойностна смет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за строеж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еда на чл. 148-156а от ЗУТ, влязло в сила не по-рано от 6 месеца преди подаване на проектното предложени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 на Общинския съв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елементите на подземната техническ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 обекта на интервенция са напълно изградени/реконструирани към момента на кандидатстване и не се предвижда планово изграждане/реконструкция до 5 години след приключване на дейностите по проек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лучай, че обектът на интервенция преминава през населено мя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и от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роектът не е финансиран от други публични източници; не герерира приходи; съгласие за предоставяне на данни от НСИ към У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8000" y="1317600"/>
            <a:ext cx="885816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27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ще от МОСВ, по отношение на следните екологични критер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йностите по проекта са в съответствие с чл.70 от Наредба № 1 от 27 юни 2005 г. за норми за допустими емисии на вредни вещества (замърсители), изпускани в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атмосфера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т обекти и дейности с неподвижни източници на емис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е взел предвид Националната екологична мрежа, вкл. планове за управление на защитени територии, планове за действие за видове, НПРД и Стратегията на ЕС за биологичното разнообразие към 2020, вкл. целите във връзка с инвазивните видов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предвижда опазване, устойчиво ползване и възстановяване функциите на почвите, инвентаризация и възстановяване на замърсени мес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предвижда мерки за подобряване състоянието и опазване на вековни дървета, когато е приложим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я, че инвестиционният проект предвижда инженерни решения за зелена инфраструктура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шумозаглушителни еко стени, огради, насипни рампи, откоси), вертикална сигнализация, конструктивни съоръжения за пресичане под и над инфраструктурата (еконадлези за диви животни, ландшафтен тунел) и др.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оектно проучване, АРП, ОВОС, Одит по пътна безопаснос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лучай на ново строител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1413000"/>
            <a:ext cx="856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 –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рка за допустимост на дейностите, разходите, продължителността на проектите, както и оценка на следните 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ътната отсечка, за която се иска финансиране по ОПРР 2014-2020, е включена в утвърдения от Председателя на УС на АП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списък с приоритизирани пътни отсечк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ътната отсечка, за която се иска финансиране по ОПРР 2014-2020, е включена в одобрена от Министерския съве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Средносрочна рамкова оперативна програма за изпълнение на Стратегия за развитие на пътната инфраструктура в Република България 2014-2020 г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дължителността на проекта, размер на БФП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идени са мерки за информация и комуникац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ът е в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съответствие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с хоризонталните политики на Е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устойчивото развитие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70000" y="1446120"/>
            <a:ext cx="862308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на качеството на проекта, включваща критерии ка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Целта на проектното предложени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 ясно и точно формулирана и съответства на целта на процедурата за БФП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Дейностит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 проекта са описани подробно и обхватът и времетраенето им е ясен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анът за действие е реалистичен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ставена е информация з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планираните процедури за избор на изпълнители от страна на бенефициента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по ЗОП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Индикаторите за продукт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 остойносте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ът предвижд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ясна институционална организац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управлени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Бюджетните пера са ясни и детайлн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 са необходими за изпълнение на проек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dcterms:modified xsi:type="dcterms:W3CDTF">2015-06-03T06:42:48Z</dcterms:modified>
  <cp:revision>796</cp:revision>
  <dc:subject/>
  <dc:title>Diapositiva 1</dc:title>
</cp:coreProperties>
</file>