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8B12-881D-45F1-A396-660D3F295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78C2-C1CF-40B9-A0EE-ED88A5B7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0EEF-F971-4331-943E-A2DB266FB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BF85-F113-492D-98E0-C4F160772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0B3E-E0FF-4201-951C-748B438D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87D8-E84C-4A27-91CC-35142979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C0B5-0DA1-4A18-8BDA-2CD16A48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FA36-BBC2-4154-8720-F2BFA64F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AC19-6899-4EB5-9E33-D254E945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D4E9-B497-4D85-AB54-129522AA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41DF-8F09-46B7-AB3A-F8A600B0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E70F-2288-4F9D-9296-771275B3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FB83-F39B-4293-BEDB-4E9CA275926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69640" y="4723920"/>
            <a:ext cx="54543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итерии за избор на проекти по процедура BG16RFOP001-7.001 ”Регионални пътища“</a:t>
            </a:r>
            <a:r>
              <a:rPr b="1" lang="bg-BG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0"/>
          <p:cNvSpPr/>
          <p:nvPr/>
        </p:nvSpPr>
        <p:spPr>
          <a:xfrm>
            <a:off x="380880" y="5886360"/>
            <a:ext cx="5559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Sylfaen"/>
              </a:rPr>
              <a:t>Второ заседание</a:t>
            </a:r>
            <a:r>
              <a:rPr b="1" lang="en-US" sz="2000" spc="-1" strike="noStrike">
                <a:solidFill>
                  <a:srgbClr val="000066"/>
                </a:solidFill>
                <a:latin typeface="Sylfaen"/>
              </a:rPr>
              <a:t> </a:t>
            </a:r>
            <a:r>
              <a:rPr b="1" lang="bg-BG" sz="2000" spc="-1" strike="noStrike">
                <a:solidFill>
                  <a:srgbClr val="000066"/>
                </a:solidFill>
                <a:latin typeface="Sylfaen"/>
              </a:rPr>
              <a:t>на КН на ОПРР 2014-2020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66"/>
                </a:solidFill>
                <a:latin typeface="Sylfaen"/>
              </a:rPr>
              <a:t>05 юни </a:t>
            </a:r>
            <a:r>
              <a:rPr b="0" i="1" lang="en-US" sz="2000" spc="-1" strike="noStrike">
                <a:solidFill>
                  <a:srgbClr val="000066"/>
                </a:solidFill>
                <a:latin typeface="Sylfaen"/>
              </a:rPr>
              <a:t>201</a:t>
            </a:r>
            <a:r>
              <a:rPr b="0" i="1" lang="bg-BG" sz="2000" spc="-1" strike="noStrike">
                <a:solidFill>
                  <a:srgbClr val="000066"/>
                </a:solidFill>
                <a:latin typeface="Sylfaen"/>
              </a:rPr>
              <a:t>5г.</a:t>
            </a:r>
            <a:r>
              <a:rPr b="0" i="1" lang="en-US" sz="2000" spc="-1" strike="noStrike">
                <a:solidFill>
                  <a:srgbClr val="000066"/>
                </a:solidFill>
                <a:latin typeface="Sylfaen"/>
              </a:rPr>
              <a:t>, </a:t>
            </a:r>
            <a:r>
              <a:rPr b="0" i="1" lang="bg-BG" sz="2000" spc="-1" strike="noStrike">
                <a:solidFill>
                  <a:srgbClr val="000066"/>
                </a:solidFill>
                <a:latin typeface="Sylfaen"/>
              </a:rPr>
              <a:t>гр. Со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3"/>
          <a:stretch/>
        </p:blipFill>
        <p:spPr>
          <a:xfrm>
            <a:off x="766764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"/>
          <p:cNvPicPr/>
          <p:nvPr/>
        </p:nvPicPr>
        <p:blipFill>
          <a:blip r:embed="rId4"/>
          <a:stretch/>
        </p:blipFill>
        <p:spPr>
          <a:xfrm>
            <a:off x="3780000" y="243000"/>
            <a:ext cx="1487160" cy="11984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270000" y="3573360"/>
            <a:ext cx="552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Оперативна</a:t>
            </a:r>
            <a:r>
              <a:rPr b="0" lang="ru-RU" sz="2800" spc="-1" strike="noStrike">
                <a:solidFill>
                  <a:srgbClr val="0c788e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програма „Региони в растеж“ 2014-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163440" y="1411200"/>
            <a:ext cx="880128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ритериите за избор на проекти включва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ценка на административно съответствие, допустимост и качество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а проектните предлож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ритерии за административно съответствие –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верка за представяне   на всички задължително изискуеми документи за кандидатстване, като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180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хнически/работен проек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съгласно ЗУТ, вкл. съгласувателни писма и становища, количествени сметки, количествено-стойностна смет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180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решение за строеж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реда на чл. 148-156а от ЗУТ, влязло в сила не по-рано от 6 месеца преди подаване на проектното предложение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180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шение на Общинския съве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елементите на подземната техническа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д обекта на интервенция са напълно изградени/реконструирани към момента на кандидатстване и не се предвижда планово изграждане/реконструкция до 5 години след приключване на дейностите по проекта (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случай, че обектът на интервенция преминава през населено мяст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180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кларации от бенефициент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проектът не е финансиран от други публични източници; не герерира приходи; съгласие за предоставяне на данни от НСИ към У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ритерии за административно съответствие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108000" y="1317600"/>
            <a:ext cx="885816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42880" indent="-2761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ановище от МОСВ, по отношение на следните екологични критер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66760" algn="just">
              <a:spcBef>
                <a:spcPts val="3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ейностите по проекта са в съответствие с чл.70 от Наредба № 1 от 27 юни 2005 г. за норми за допустими емисии на вредни вещества (замърсители), изпускани в 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атмосферат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от обекти и дейности с неподвижни източници на емисии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66760" algn="just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оектът е взел предвид Националната екологична мрежа, вкл. планове за управление на защитени територии, планове за действие за видове, НПРД и Стратегията на ЕС за биологичното разнообразие към 2020, вкл. целите във връзка с инвазивните видове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66760" algn="just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оектът предвижда опазване, устойчиво ползване и възстановяване функциите на почвите, инвентаризация и възстановяване на замърсени мес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66760" algn="just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оектът предвижда мерки за подобряване състоянието и опазване на вековни дървета, когато е приложимо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кларация, че инвестиционният проект предвижда инженерни решения за зелена инфраструктура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шумозаглушителни еко стени, огради, насипни рампи, откоси), вертикална сигнализация, конструктивни съоръжения за пресичане под и над инфраструктурата (еконадлези за диви животни, ландшафтен тунел) и др.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дпроектно проучване, АРП, ОВОС, Одит по пътна безопаснос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случай на ново строител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6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ритерии за административно съответствие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Критерии за допустим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0560" y="1413000"/>
            <a:ext cx="85690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Критерии за допустимост –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верка за допустимост на дейностите, разходите, продължителността на проектите, както и оценка на следните специфични критерии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ътната отсечка, за която се иска финансиране по ОПРР 2014-2020, е включена в утвърдения от Председателя на УС на АПИ </a:t>
            </a: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списък с приоритизирани пътни отсечк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ътната отсечка, за която се иска финансиране по ОПРР 2014-2020, е включена в одобрена от Министерския съвет </a:t>
            </a: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Средносрочна рамкова оперативна програма за изпълнение на Стратегия за развитие на пътната инфраструктура в Република България 2014-2020 г.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опустимост на дейности и разход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дължителността на проекта, размер на БФП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едвидени са мерки за информация и комуникаци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ектът е в </a:t>
            </a:r>
            <a:r>
              <a:rPr b="0" lang="bg-BG" sz="1700" spc="-1" strike="noStrike">
                <a:solidFill>
                  <a:srgbClr val="ff0000"/>
                </a:solidFill>
                <a:latin typeface="Arial"/>
              </a:rPr>
              <a:t>съответствие</a:t>
            </a: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 с хоризонталните политики на ЕО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(устойчивото развитие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270000" y="1446120"/>
            <a:ext cx="8623080" cy="45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ритерии за техническа и финансова оценка –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ценка на качеството на проекта, включваща критерии кат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 algn="just">
              <a:spcBef>
                <a:spcPts val="11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Целта на проектното предложение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е ясно и точно формулирана и съответства на целта на процедурата за БФП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 algn="just">
              <a:spcBef>
                <a:spcPts val="11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Дейностите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по проекта са описани подробно и обхватът и времетраенето им е ясен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 algn="just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ланът за действие е реалистичен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 algn="just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едставена е информация за </a:t>
            </a: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планираните процедури за избор на изпълнители от страна на бенефициента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(по ЗОП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 algn="just">
              <a:spcBef>
                <a:spcPts val="11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Индикаторите за продукт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а остойностен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 algn="just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ектът предвижда </a:t>
            </a: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ясна институционална организация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за управление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 algn="just">
              <a:spcBef>
                <a:spcPts val="11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Бюджетните пера са ясни и детайлни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и са необходими за изпълнение на проект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Критерии за техническа и финансова оц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539640" y="1366920"/>
            <a:ext cx="820908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ГЛАВНА ДИРЕКЦИЯ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ПРОГРАМИРАНЕ НА РЕГИОНАЛНОТО РАЗВИТИЕ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0000"/>
                </a:solidFill>
                <a:latin typeface="Tahoma"/>
              </a:rPr>
              <a:t>БЛАГОДАРЯ ЗА ВНИМАНИ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Мария Станев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Началник отдел „Изпълнение на програмните приоритети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05 юни 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201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5г.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, 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гр. 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 Stanevska</cp:lastModifiedBy>
  <dcterms:modified xsi:type="dcterms:W3CDTF">2015-06-03T06:42:48Z</dcterms:modified>
  <cp:revision>796</cp:revision>
  <dc:subject/>
  <dc:title>Diapositiva 1</dc:title>
</cp:coreProperties>
</file>