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0A7-3671-4C16-AD56-2F37FF38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232-3751-4B29-B0A5-E1E92CE1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D0C-A429-4483-849C-195CB446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5DF-A97C-4766-8DAE-E0A18C79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A41F-626F-4F18-B59E-D04FD21A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768-2AD4-4845-A0DC-3DE5A809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21B3-7713-4FE4-B56A-9AA14BBC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3CEE-A323-4D37-97B9-4266F9E1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15D8-348A-4E02-ADE7-423811B5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316-EBA2-4FE2-9878-B7DD2E42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924D-57CF-46F0-B5FC-0A61BBA6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B249-900F-4C1C-8825-B80872F2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FD66-7198-47ED-B76B-4A5FA016AE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08000" y="5977080"/>
            <a:ext cx="6389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  <a:ea typeface="Arial"/>
              </a:rPr>
              <a:t>Шестнадесето заседание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  <a:ea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Sylfaen"/>
                <a:ea typeface="Arial"/>
              </a:rPr>
              <a:t>на КН на ОПРР 2007-2013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5 юн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  <a:ea typeface="Arial"/>
              </a:rPr>
              <a:t>2015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  <a:ea typeface="Arial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108000" y="3933720"/>
            <a:ext cx="638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Информация за осъществени реалокации на сред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по OПРР 2007-2013 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189080" y="69840"/>
            <a:ext cx="6767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и в ОПРР след 1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-то заседание на КН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 (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85760" y="1557360"/>
            <a:ext cx="869616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ъм 03.06.2015 г. размерът на договорените средства възлиза на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3,2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 млрд. лв.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(1,6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4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 млрд. евро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– 103% от бюджета на програм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ъм 15-то засед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КН наличният ресурс за Северна скоростна тангента е в размер на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 75,3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3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8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,5 млн. евр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ъм 3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0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2015 г. допълнително освободеният и насочен към Северна скоростна тангента ресурс е в размер на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5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3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,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15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 млн. евро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 които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рамките на сх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крепа за рехабилитация и реконструкция на второкласни и третокласни пътищ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що 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вободен ресурс в размер на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50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хил.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250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хил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. евр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 останалите приоритетни оси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ъм 30.04.2015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 освободен и пренасочен финансов ресурс в размер на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10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,5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52,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9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млн. евро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1800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189080" y="69840"/>
            <a:ext cx="6767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и в ОПРР след 1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-то заседание на КН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 (</a:t>
            </a: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3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85760" y="1557360"/>
            <a:ext cx="8696160" cy="60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Наличен свободен ресурс за финансиране на проект за изграждане на Северна скоростна танг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60360" algn="just">
              <a:lnSpc>
                <a:spcPct val="100000"/>
              </a:lnSpc>
              <a:spcBef>
                <a:spcPts val="1800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щият наличен ресурс към 30.04.2015 г., насочен за финансиране на Северна скоростна тангента, е в размер на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,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5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52,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9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 млн. евро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 разпределя, както след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7560" indent="-360360" algn="just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20,4 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10,4 млн. евро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вободен ресурс в резултат на анексиране, приключване и прекратяване на договори за БФП по ОПР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7560" indent="-360360" algn="just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83,1 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42,5 млн. евро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вободен ресурс в резултат на нал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же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лоски финансови корекции (ПФК) по приоритетни оси 1 и 3 по ОП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7560" indent="-360360" algn="just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таващият необходим ресурс за проекта е в размер на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40,7 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20,8 млн. евр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7560" indent="-360360" algn="just">
              <a:lnSpc>
                <a:spcPct val="100000"/>
              </a:lnSpc>
              <a:spcBef>
                <a:spcPts val="18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7560" indent="-360360" algn="just">
              <a:lnSpc>
                <a:spcPct val="100000"/>
              </a:lnSpc>
              <a:spcBef>
                <a:spcPts val="18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60360" algn="just">
              <a:lnSpc>
                <a:spcPct val="100000"/>
              </a:lnSpc>
              <a:spcBef>
                <a:spcPts val="18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187280" y="128520"/>
            <a:ext cx="683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70000" y="1557360"/>
            <a:ext cx="8624880" cy="42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насочване на финансов ресур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жду Приоритетни оси 1, 3 и 4 към схема с бенефициент АП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сочването на средства (</a:t>
            </a:r>
            <a:r>
              <a:rPr b="1" lang="bg-BG" sz="2000" spc="-1" strike="noStrike">
                <a:solidFill>
                  <a:srgbClr val="a50021"/>
                </a:solidFill>
                <a:latin typeface="Arial"/>
                <a:ea typeface="Arial"/>
              </a:rPr>
              <a:t>52,9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 млн. ев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 към схемата за АПИ е след пренасочване между приоритетни о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43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млн. евр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рамките на Приоритетна ос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стойчиво и интегрирано градск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31,7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лн. евро от Операция 1.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циална инфраструк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10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ил. евро от Операция 1.2 „Жилищна политика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0,6 млн. евро от Операция 1.4 „Подобряване на физическата среда и превенция на риска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00 хил. евро от Операция 1.5 „Системи за устойчив градски транспор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187280" y="128520"/>
            <a:ext cx="683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36520" y="1557360"/>
            <a:ext cx="8624880" cy="40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насочване на финансов ресур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 Приоритетни оси 1, 3 и 4 към схема с бенефициент А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000066"/>
                </a:solidFill>
                <a:latin typeface="Arial"/>
              </a:rPr>
              <a:t>9,4 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млн. евро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от Приоритетна ос 3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стойчиво развитие на туризм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7,5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млн. евро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от Операция 3.1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туристическите атракции и свързаната с тях инфраструктур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800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хил. евро от Операция 3.2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 регионалния туристически продукт и маркетинг на дестинациит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1,1 млн. евро от Операция 3.3 “Национален туристически маркетинг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000066"/>
                </a:solidFill>
                <a:latin typeface="Arial"/>
              </a:rPr>
              <a:t>0,5 млн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. евро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от Приоритетна ос 4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естно развитие и сътрудничеств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0,5 млн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. евро от Операция 4.1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Дребномащабни местни инвести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87280" y="128520"/>
            <a:ext cx="683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36520" y="1452600"/>
            <a:ext cx="862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452600"/>
          <a:ext cx="4446720" cy="4530600"/>
        </p:xfrm>
        <a:graphic>
          <a:graphicData uri="http://schemas.openxmlformats.org/drawingml/2006/table">
            <a:tbl>
              <a:tblPr/>
              <a:tblGrid>
                <a:gridCol w="2784600"/>
                <a:gridCol w="166212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Бюджет ОПРР към 15-то заседание на КН от 9 декември 2014 г. (евр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2808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1: Устойчиво и интегрирано градско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9 744 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2: Регионална и местна достъп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358 938 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3: Устойчиво развитие на туриз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151 159 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Местно развитие и сътрудн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97 339 4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5: Техническа помо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54 093 3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438800" y="1452600"/>
          <a:ext cx="4643280" cy="4541760"/>
        </p:xfrm>
        <a:graphic>
          <a:graphicData uri="http://schemas.openxmlformats.org/drawingml/2006/table">
            <a:tbl>
              <a:tblPr/>
              <a:tblGrid>
                <a:gridCol w="2735280"/>
                <a:gridCol w="1908000"/>
              </a:tblGrid>
              <a:tr h="6778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с на реалокациите (евр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на ОПРР към 27.05.2015 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2808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380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1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Устойчиво и интегрирано градско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96 705 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-43 039 04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81504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2:           Регионална и местна достъп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11 858 6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+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2 920 46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3800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3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Устойчиво развитие на   туриз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1 800 9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9 35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82260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Местно развитие и сътрудн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6 816 5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-522 95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1444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5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Техническа помо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093 3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Arial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  <a:ea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  <a:ea typeface="Arial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Мария Стане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Началник отдел „Изпълнение на програмните приоритет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  <a:ea typeface="Arial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5 юн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5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гр.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  <a:ea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Dariya Shamonina</cp:lastModifiedBy>
  <cp:lastPrinted>2015-06-01T12:38:15Z</cp:lastPrinted>
  <dcterms:modified xsi:type="dcterms:W3CDTF">2015-06-04T10:55:13Z</dcterms:modified>
  <cp:revision>834</cp:revision>
  <dc:subject/>
  <dc:title>Diapositiva 1</dc:title>
</cp:coreProperties>
</file>