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4D1E-A829-44FF-8E34-3D57B632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68E-6B13-4AE4-B8FB-B92E4B82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2A07-0393-4330-8FDC-A4C513E1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6F9-0BA4-47A3-BA5E-CD81AB06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6DF-F49C-46CA-856F-9F29441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58B-953B-47BB-AF42-441D044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7235-42CC-4BF3-A500-3DFA9CD3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16C-F1C3-410F-BD61-144406D4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B3CA-1510-4DDC-880E-DFF3FBF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16DB-690D-44A8-AD51-2268600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0D2-5E46-4A32-B0E4-FC030147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11F1-3F36-472F-BBAE-4EFFCFB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F16B-437A-40B9-9D5D-A478CECEF4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108000" y="5977080"/>
            <a:ext cx="6389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  <a:ea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  <a:ea typeface="Arial"/>
              </a:rPr>
              <a:t>на КН на ОПРР 2007-2013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5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638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осъществени реалокации на сред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85760" y="1557360"/>
            <a:ext cx="869616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03.06.2015 г. размерът на договорените средства възлиза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2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млрд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6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 млрд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103% от бюдже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15-то засед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КН наличният ресурс за Северна скоростна тангента е в размер на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75,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5 млн. евр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2015 г. допълнително освободеният и насочен към Северна скоростна тангента ресурс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15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които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амките на сх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50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хил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250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хил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станалите приоритетни ос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0.04.2015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 освободен и пренасоч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0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52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667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и в ОПРР след 1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</a:t>
            </a:r>
            <a:r>
              <a:rPr b="1" lang="bg-BG" sz="2600" spc="-1" strike="noStrike">
                <a:solidFill>
                  <a:srgbClr val="a50021"/>
                </a:solidFill>
                <a:latin typeface="Arial"/>
                <a:ea typeface="Arial"/>
              </a:rPr>
              <a:t>3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85760" y="1557360"/>
            <a:ext cx="8696160" cy="60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ен свободен ресурс за финансиране на проект за изграждане на 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ят наличен ресурс към 30.04.2015 г., насочен за финансиране на Северна скоростна тангента,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5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2,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9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 разпределя, както след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0,4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10,4 млн. евр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 ресурс в резултат на анексиране, приключване и прекратяване на договори за БФП по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83,1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42,5 млн. евро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вободен ресурс в резултат на нал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ж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лоски финансови корекции (ПФК) по приоритетни оси 1 и 3 по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 необходим ресурс за проек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40,7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20,8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75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70000" y="1557360"/>
            <a:ext cx="86248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Приоритетни оси 1, 3 и 4 към схема с бенефициент 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сочването на средства 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52,9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към схемата за АПИ е след пренасочване между приоритетни 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43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31,7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 от Операция 1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0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л. евро от Операция 1.2 „Жилищна полити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10,6 млн. евро от Операция 1.4 „Подобряване на физическата среда и превенция на риск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00 хил. евро от Операция 1.5 „Системи за устойчив градски транспор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36520" y="1557360"/>
            <a:ext cx="862488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риоритетни оси 1, 3 и 4 към схема с бенефициент 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9,4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3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ойчиво развитие на туриз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7,5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 и свързаната с тях инфраструктур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800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я туристически продукт и маркетинг на дестинации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,1 млн. евро от Операция 3.3 “Национален туристически маркетинг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0,5 млн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4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0,5 млн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. евро от Операция 4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ребномащабни местни инвести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45260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5-то заседание на КН от 9 декември 2014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 744 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358 938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51 159 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7 339 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4438800" y="1452600"/>
          <a:ext cx="4643280" cy="454176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778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27.05.2015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6 705 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43 039 04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50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1 858 6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 920 4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1 800 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9 35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6 816 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522 95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cp:lastPrinted>2015-06-01T12:38:15Z</cp:lastPrinted>
  <dcterms:modified xsi:type="dcterms:W3CDTF">2015-06-04T10:55:13Z</dcterms:modified>
  <cp:revision>834</cp:revision>
  <dc:subject/>
  <dc:title>Diapositiva 1</dc:title>
</cp:coreProperties>
</file>