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E4AE-3B7B-420A-8BB3-ED300C787FA6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B2E8-5935-4B10-9142-2990AB1E77D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венции върху административни сгради на общинската и държавната администрация са допустими за финансиране в рамките на зоните за въздействие на ИПГВР, на 39-те града, одобрен от УО на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и върху многофамилни жилищни сгради и студентски общежития са допустими извън зоните за въздействие, но в рамките на строителните граници на 39-те гра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ите предложения следва да включват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енергоспестяващи мерк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едписани в обследването за енергийна ефективност, в т.ч. мерки за оползотворяване на възобновяеми енергийни източници (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а техническа осъществимост и икономическа целесъобразно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ито водят до съответствие на сградат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нормативните изисквания за енергийна ефективност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й-малко клас на енергопотребление „С“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имат пряк екологичен е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 отношение студентски общежития, интервенции са допустими само върху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удентски общежития, обслужващи държавни висши учебни заведения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 интервенции върху студентски общежития, конкретният бенефициент следва да кандидатства в партньорство със съответното държавно висше учебно заведение или юридическото лице, което управлява студентското общежитие, като се представ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артньорско споразумени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в свободен текст между стра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върху студенски общежития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 чрез комбинирано финансиране чрез БФП и финансови инструменти, създадени по линия на ОПРР 2014-2020 г.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Финансирането ще се осъществява с водещата роля на организацията, изпълняваща финансови инструменти (фонд), избрани от Фонд на фондовете, създаден към министъра на финансите, и по ред и при условия, различни от тези за финансиране на проекти с БФП. Фондът ще има ангажимент да определи както подкрепата по линия на финансовия инструмент, така и необходимия размер на 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и интервенции върху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нкретният бенефициент следва да подаде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дно общо проектно предложен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ключени всички предвидени сгради. Допустими са интервенции      върху следните видове многофамилни жилищни сг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(масивни сгради), проектирани преди 26 април 1999 г. в 39-те града от 1-во до 3-то йерархично ниво, които са извън обхвата на Националната програма за енергийна ефективност на многофамилни жилищни сгра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до 36 самостоятелни обекта с жилищно предназначение, строени по индустриален способ: ЕПЖС (едропанелно жилищно строителство); ППП (пакетно-повдигани плочи); ЕПК (едроплощен кофраж); пълзящ кофраж и разновидностите им в 39-те града от 1-во до 3-то йерархично ниво, които са извън обхвата на Националната програма за енергийна ефективност на многофамилни жилищни сг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 определяне на проектите, които да бъдат включени в инвестиционната програма, всеки конкретен бенефициент следва да се съобрази с минимални и максимални прагове на предоставяната БФП (100%) по някои групи дейности (инвестиционни приоритети), с оглед спазване на съотношението между размера на средствата на ниво Приоритетна ос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070-6EB0-4A75-8607-9C83C018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17D-F335-4813-9A74-7A6B7B8E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BC7-4EB8-4D33-981E-EA49D558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F6F-6000-4C7F-B58F-0184ED58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0914-9598-41BD-8747-6162B51E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4E37-57D8-45C7-9EAC-FE0EF093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D96D-7C04-41FF-ACE5-90BEA91B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D2C0-5107-40DF-A1B5-4D613260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FA5F-5D67-4D23-91C9-BCEA1DE7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2A5F-867C-4176-82BA-C23A5260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469B-7105-4D0C-99A3-120DB874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191-D843-4637-9188-FEA84118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C91F-94F1-42FB-980E-06B168FF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19FC-B38E-4A5B-B67C-DE73BADD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9C5A-5FC7-4562-B508-8D816158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5153-A09B-4EB7-8056-63FDF965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7F77-CC66-42BB-A258-1E7C813F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B9655-A236-4114-AFC4-BBCB525F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333EE-BF63-464B-9B00-E080BB6F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9086D-371C-4AB8-9BCE-D00E5D77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B7761-6379-4239-BC87-125C6A0E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5FB3-9996-4BCD-88B1-0F6B63BD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3BE-587D-457E-919A-69A5D3AA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0D96A-B059-4A85-A005-7BA117BB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31F28-503C-4059-91AB-19C7DB1D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1E4B-E27A-46D3-AC5A-09B4281F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A1B08-07A8-4892-8D4B-D42BFC48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837A2-9807-4C7F-BB3B-648A0A3A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3D26A-DF82-47A9-9D5E-26379DD3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1841F-6A20-4EDF-A7CE-1A82CBC8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BBF-9F00-41C6-BEFA-B90023B5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237-C8C1-4A66-AC5E-EF502143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391-5878-4CAD-8782-1CDB6F15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BBD-8AD5-4C62-8FC4-1A9B6D2F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4C7-8197-4B0F-ACD8-87B23F26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C7B-0845-4431-9D82-CE9018DB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23D9-2919-4F0F-A53A-CE2B4D56CB6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1BEB-C419-4CF5-8F56-30A4327701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C4ED-2F0D-4700-9B5D-1DEAC07B87E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249120" y="3357720"/>
            <a:ext cx="559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Arial"/>
              </a:rPr>
              <a:t>Оперативна програма „Региони в растеж“ 2014-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179280" y="4405320"/>
            <a:ext cx="638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ylfaen"/>
              </a:rPr>
              <a:t>ИЗПЪЛНЕНИЕ НА ИНТЕГРИРАНИ ПЛАНОВЕ ЗА ГРАДСКО ВЪЗСТАНОВЯВАНЕ И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ylfaen"/>
              </a:rPr>
              <a:t>/проект на Насоки за кандидатстване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66"/>
                </a:solidFill>
                <a:latin typeface="Sylfaen"/>
              </a:rPr>
              <a:t>Второ засе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Sylfaen"/>
              </a:rPr>
              <a:t>05 юни </a:t>
            </a:r>
            <a:r>
              <a:rPr b="0" i="1" lang="en-US" sz="24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2400" spc="-1" strike="noStrike">
                <a:solidFill>
                  <a:srgbClr val="000066"/>
                </a:solidFill>
                <a:latin typeface="Sylfaen"/>
              </a:rPr>
              <a:t>5г.</a:t>
            </a:r>
            <a:r>
              <a:rPr b="0" i="1" lang="en-US" sz="24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24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417680" y="33804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цедура по делегиране на функции на Междинните зв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237960" y="1557360"/>
            <a:ext cx="824400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шение на МС за даване на мандат на РУО да делегира функциите по оценка и избор на проектни предложения от Междинни звена по Приоритетна ос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97000" y="2455920"/>
            <a:ext cx="8245440" cy="287280"/>
          </a:xfrm>
          <a:prstGeom prst="rect">
            <a:avLst/>
          </a:prstGeom>
          <a:solidFill>
            <a:srgbClr val="d9d9d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добрение на критерии за избор на проекти от Комитет за наблю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18960" y="3171960"/>
            <a:ext cx="8223480" cy="287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ключване на Споразумението между УО и Междинното зв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26"/>
          <p:cNvSpPr/>
          <p:nvPr/>
        </p:nvSpPr>
        <p:spPr>
          <a:xfrm>
            <a:off x="3897360" y="2060640"/>
            <a:ext cx="485640" cy="396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own Arrow 33"/>
          <p:cNvSpPr/>
          <p:nvPr/>
        </p:nvSpPr>
        <p:spPr>
          <a:xfrm>
            <a:off x="3921120" y="2774880"/>
            <a:ext cx="484200" cy="397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4"/>
          <p:cNvSpPr/>
          <p:nvPr/>
        </p:nvSpPr>
        <p:spPr>
          <a:xfrm>
            <a:off x="3505320" y="3753000"/>
            <a:ext cx="1708200" cy="720720"/>
          </a:xfrm>
          <a:prstGeom prst="ellipse">
            <a:avLst/>
          </a:prstGeom>
          <a:solidFill>
            <a:srgbClr val="d9d9d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Общ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5"/>
          <p:cNvSpPr/>
          <p:nvPr/>
        </p:nvSpPr>
        <p:spPr>
          <a:xfrm>
            <a:off x="1139760" y="4076640"/>
            <a:ext cx="1656000" cy="647640"/>
          </a:xfrm>
          <a:prstGeom prst="rect">
            <a:avLst/>
          </a:prstGeom>
          <a:solidFill>
            <a:srgbClr val="e1eab4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Конкретен бенефици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6039000" y="4113360"/>
            <a:ext cx="1668240" cy="647640"/>
          </a:xfrm>
          <a:prstGeom prst="rect">
            <a:avLst/>
          </a:prstGeom>
          <a:solidFill>
            <a:srgbClr val="f1d1ad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Междинно зв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2795760" y="5157720"/>
            <a:ext cx="2900160" cy="722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Разделение на функциите в Инвестиционната програм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И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931840" y="4622760"/>
            <a:ext cx="275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0000"/>
                </a:solidFill>
                <a:latin typeface="Arial"/>
              </a:rPr>
              <a:t>Потенциален конфликт на интере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39"/>
          <p:cNvCxnSpPr>
            <a:endCxn id="153" idx="3"/>
          </p:cNvCxnSpPr>
          <p:nvPr/>
        </p:nvCxnSpPr>
        <p:spPr>
          <a:xfrm flipH="1">
            <a:off x="2795040" y="4105440"/>
            <a:ext cx="710280" cy="295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8" name="Straight Arrow Connector 41"/>
          <p:cNvCxnSpPr>
            <a:endCxn id="154" idx="1"/>
          </p:cNvCxnSpPr>
          <p:nvPr/>
        </p:nvCxnSpPr>
        <p:spPr>
          <a:xfrm>
            <a:off x="5213160" y="4105080"/>
            <a:ext cx="826200" cy="3322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44"/>
          <p:cNvCxnSpPr>
            <a:stCxn id="153" idx="2"/>
            <a:endCxn id="155" idx="0"/>
          </p:cNvCxnSpPr>
          <p:nvPr/>
        </p:nvCxnSpPr>
        <p:spPr>
          <a:xfrm>
            <a:off x="1968480" y="4724280"/>
            <a:ext cx="2278800" cy="434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Straight Arrow Connector 48"/>
          <p:cNvCxnSpPr>
            <a:stCxn id="154" idx="2"/>
            <a:endCxn id="155" idx="0"/>
          </p:cNvCxnSpPr>
          <p:nvPr/>
        </p:nvCxnSpPr>
        <p:spPr>
          <a:xfrm flipH="1">
            <a:off x="4246560" y="4761000"/>
            <a:ext cx="2627640" cy="397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8"/>
          <p:cNvSpPr/>
          <p:nvPr/>
        </p:nvSpPr>
        <p:spPr>
          <a:xfrm>
            <a:off x="129852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зменение на ИПГВР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2970360" y="1628640"/>
            <a:ext cx="269064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Изменение на ИПГВР – 2015 г., 2019 г. и/или 2022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6012000" y="1628640"/>
            <a:ext cx="2592360" cy="592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MS Minngs"/>
              </a:rPr>
              <a:t>Аргументирана обосн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 rot="10800000">
            <a:off x="5683320" y="1790280"/>
            <a:ext cx="277920" cy="34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01680" y="1628640"/>
            <a:ext cx="2232000" cy="592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роверка от УО на ОП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611440" y="1795320"/>
            <a:ext cx="277920" cy="34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0"/>
          <p:cNvSpPr/>
          <p:nvPr/>
        </p:nvSpPr>
        <p:spPr>
          <a:xfrm>
            <a:off x="353880" y="2529000"/>
            <a:ext cx="2186280" cy="11649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грами в зони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а въздей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0"/>
          <p:cNvSpPr/>
          <p:nvPr/>
        </p:nvSpPr>
        <p:spPr>
          <a:xfrm>
            <a:off x="6026040" y="2479680"/>
            <a:ext cx="2578320" cy="210168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Функционални връ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Straight Arrow Connector 6"/>
          <p:cNvCxnSpPr>
            <a:stCxn id="169" idx="2"/>
            <a:endCxn id="174" idx="7"/>
          </p:cNvCxnSpPr>
          <p:nvPr/>
        </p:nvCxnSpPr>
        <p:spPr>
          <a:xfrm flipH="1">
            <a:off x="2219040" y="2220840"/>
            <a:ext cx="2097360" cy="480240"/>
          </a:xfrm>
          <a:prstGeom prst="straightConnector1">
            <a:avLst/>
          </a:prstGeom>
          <a:ln w="1260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77" name="Straight Arrow Connector 11"/>
          <p:cNvCxnSpPr>
            <a:stCxn id="169" idx="2"/>
            <a:endCxn id="175" idx="1"/>
          </p:cNvCxnSpPr>
          <p:nvPr/>
        </p:nvCxnSpPr>
        <p:spPr>
          <a:xfrm>
            <a:off x="4316040" y="2220840"/>
            <a:ext cx="2088360" cy="567360"/>
          </a:xfrm>
          <a:prstGeom prst="straightConnector1">
            <a:avLst/>
          </a:prstGeom>
          <a:ln w="1260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178" name="Rectangle 17"/>
          <p:cNvSpPr/>
          <p:nvPr/>
        </p:nvSpPr>
        <p:spPr>
          <a:xfrm>
            <a:off x="2738520" y="2692440"/>
            <a:ext cx="3084480" cy="29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Допустим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086280" y="3432240"/>
            <a:ext cx="2468520" cy="295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ублични обсъж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270000" y="4027320"/>
            <a:ext cx="2468520" cy="6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Допълнение на одобрена матрица бюджет и програма за ре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3086280" y="4017960"/>
            <a:ext cx="2469960" cy="295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риемане от Общински съ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3086280" y="5195880"/>
            <a:ext cx="246852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Извършване на ЕО и ОС ако е преценено за необходи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 rot="16200000">
            <a:off x="4153680" y="2307600"/>
            <a:ext cx="277920" cy="342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3086280" y="4548240"/>
            <a:ext cx="24699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Разработване/изменение на програмит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за ре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1319040" y="333360"/>
            <a:ext cx="5977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дивидуални цели към юни 2018 г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ntent Placeholder 2"/>
          <p:cNvSpPr/>
          <p:nvPr/>
        </p:nvSpPr>
        <p:spPr>
          <a:xfrm>
            <a:off x="0" y="1290600"/>
            <a:ext cx="910908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58120" indent="-25812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Индивидуална етапна цел за всеки конкретен бенефициент (верифицирани средства от УО на ОПРР до края на юни 2018 г.) –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зчислява се като 20% от размера на БФП за всеки бенефициент въз основа на процента на етапната цел на ниво приоритетна ос 1 (сертифицирани средства към края на 2018 г.) към бюджета на приоритетната ос (20,63%)</a:t>
            </a:r>
            <a:r>
              <a:rPr b="0" lang="bg-BG" sz="17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11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В случай че конкретен бенефициент не е постигнал индивидуалната си етапна цел, УО на ОПРР си запазва правото да ревизира определения общ ресурс на БФП (100%) за съответния бенефициент и размера на предоставената БФП по сключените договори за БФП с размера на средствата, които не са постигнати като верифицирани от УО на ОПРР до този момент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(и които в тази връзка следва да бъдат поети като собствен принос от страна на съответния бенефициент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303120" y="2637000"/>
          <a:ext cx="8661600" cy="669600"/>
        </p:xfrm>
        <a:graphic>
          <a:graphicData uri="http://schemas.openxmlformats.org/drawingml/2006/table">
            <a:tbl>
              <a:tblPr/>
              <a:tblGrid>
                <a:gridCol w="3451320"/>
                <a:gridCol w="3978360"/>
                <a:gridCol w="12319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ПО 1 (БФП+ФИ),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 ПО 1 сертифицирани 2018 г.,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 449 0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 352 6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11040" y="3357720"/>
          <a:ext cx="8653680" cy="949320"/>
        </p:xfrm>
        <a:graphic>
          <a:graphicData uri="http://schemas.openxmlformats.org/drawingml/2006/table">
            <a:tbl>
              <a:tblPr/>
              <a:tblGrid>
                <a:gridCol w="3443400"/>
                <a:gridCol w="3986280"/>
                <a:gridCol w="12240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Столична община  (БФП+резерв), л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на цел верифицирани юни 2018 г., л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 375 234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675 04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авила за предоставяне на БФП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66600" y="1341360"/>
            <a:ext cx="90061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ндидатстването се извършва чрез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нвестиционна програма и проектн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нвестиционна програма 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-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осрочен документ, чрез който бенефициентит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ще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ефинират приоритетните за финансиране проект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в съответствие с изискванията на чл. 7, параграф 4 от Регламент №1301/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ва общ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бюдже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ханизъм за управление и реализация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екип за управлени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съответствие с ИПГВР, описание и обосновка на интегрирания подход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ндикатори, план-график за изпълнени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др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в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писък с основни проект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списък с резервни проект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чрез 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 размер на списъка с основните проекти -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о определения максимален ресурс на БФП за съответната инвестиционна програм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 размер на списък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с резервни проект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о 50% от определения максимален ресурс на БФП за съответната инвестиционна прогр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авила за предоставяне на БФП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tent Placeholder 2"/>
          <p:cNvSpPr/>
          <p:nvPr/>
        </p:nvSpPr>
        <p:spPr>
          <a:xfrm>
            <a:off x="108000" y="1413000"/>
            <a:ext cx="8856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имални и максимални прагове на предоставяната БФП (100%)  по  групи дейност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539640" y="2133720"/>
          <a:ext cx="8280360" cy="3671640"/>
        </p:xfrm>
        <a:graphic>
          <a:graphicData uri="http://schemas.openxmlformats.org/drawingml/2006/table">
            <a:tbl>
              <a:tblPr/>
              <a:tblGrid>
                <a:gridCol w="5256360"/>
                <a:gridCol w="3024000"/>
              </a:tblGrid>
              <a:tr h="861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нвестиционни приоритет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аг на БФП (100%) спрямо общия размер на БФП, определен за всеки бенефици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65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 Енерг. eф-ст в админ. и жилищни сгради и студентски общеж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акс.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ногофамилни жилищни сгр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0% от сумата по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 Градска сре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група дейности „Градска среда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акс. 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 Образователна инфра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Социална инфра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44280" rIns="44280" tIns="0" bIns="0" anchor="b">
                      <a:noAutofit/>
                    </a:bodyPr>
                    <a:p>
                      <a:pPr marL="355680" indent="-38160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група дейности „Социална инфраструктура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ЗМЕНЕНИЕ НА ИНВЕСТИЦИОННА ПРОГ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179280" y="1413000"/>
            <a:ext cx="8785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ез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г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О на ОПРР ще направ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ценка на изпълнението на инвестиционните програм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на Приоритетната ос като цяло, и може д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преразпредели наличния ресурс от по-неактивните към по-активните бенефициенти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изменения в законодателството, социално икономическата среда, изменения в ОПРР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добрените инвестиционни програми могат да бъдат актуализирани, в т.ч. и списъците с резервни проекти, </a:t>
            </a:r>
            <a:r>
              <a:rPr b="1" lang="bg-BG" sz="1800" spc="-1" strike="noStrike" u="sng">
                <a:solidFill>
                  <a:srgbClr val="ff0000"/>
                </a:solidFill>
                <a:uFillTx/>
                <a:latin typeface="Arial"/>
              </a:rPr>
              <a:t>през 201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9 </a:t>
            </a:r>
            <a:r>
              <a:rPr b="1" lang="bg-BG" sz="1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2022</a:t>
            </a:r>
            <a:r>
              <a:rPr b="1" lang="bg-BG" sz="1800" spc="-1" strike="noStrike" u="sng">
                <a:solidFill>
                  <a:srgbClr val="ff0000"/>
                </a:solidFill>
                <a:uFillTx/>
                <a:latin typeface="Arial"/>
              </a:rPr>
              <a:t> г.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Всяка актуализация на инвестиционната програм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е извършва в съответствие с процедурата на изготвяне на инвестиционна програма и следва да бъд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добрена от УО на ОПРР 2014-202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042920" y="1844640"/>
            <a:ext cx="72741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ария Стан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чалник отдел „Изпълнение на програмните приоритет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Гр.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5-05T13:25:48Z</cp:lastPrinted>
  <dcterms:modified xsi:type="dcterms:W3CDTF">2015-06-03T07:37:11Z</dcterms:modified>
  <cp:revision>1194</cp:revision>
  <dc:subject/>
  <dc:title>Diapositiva 1</dc:title>
</cp:coreProperties>
</file>