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8174-E86E-48C7-BD32-DB9AABAC4B8A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B9D5-556B-4009-B6F1-6B023775BA64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- Приоритетни 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тервенции върху административни сгради на общинската и държавната администрация са допустими за финансиране в рамките на зоните за въздействие на ИПГВР, на 39-те града, одобрен от УО на ОПР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венции върху многофамилни жилищни сгради и студентски общежития са допустими извън зоните за въздействие, но в рамките на строителните граници на 39-те гра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ните предложения следва да включват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сички енергоспестяващи мерки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предписани в обследването за енергийна ефективност, в т.ч. мерки за оползотворяване на възобновяеми енергийни източници (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доказана техническа осъществимост и икономическа целесъобразнос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,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ито водят до съответствие на сградата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с нормативните изисквания за енергийна ефективност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най-малко клас на енергопотребление „С“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 имат пряк екологичен е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о отношение студентски общежития, интервенции са допустими само върху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студентски общежития, обслужващи държавни висши учебни заведения.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и интервенции върху студентски общежития, конкретният бенефициент следва да кандидатства в партньорство със съответното държавно висше учебно заведение или юридическото лице, което управлява студентското общежитие, като се представи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Партньорско споразумение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в свободен текст между страни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венции върху студенски общежития ще се реализират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 чрез комбинирано финансиране чрез БФП и финансови инструменти, създадени по линия на ОПРР 2014-2020 г.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Финансирането ще се осъществява с водещата роля на организацията, изпълняваща финансови инструменти (фонд), избрани от Фонд на фондовете, създаден към министъра на финансите, и по ред и при условия, различни от тези за финансиране на проекти с БФП. Фондът ще има ангажимент да определи както подкрепата по линия на финансовия инструмент, така и необходимия размер на БФ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При интервенции върху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ногофамилни жилищни сгради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конкретният бенефициент следва да подаде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едно общо проектно предложение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с включени всички предвидени сгради. Допустими са интервенции      върху следните видове многофамилни жилищни сград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ногофамилни жилищни сгради (масивни сгради), проектирани преди 26 април 1999 г. в 39-те града от 1-во до 3-то йерархично ниво, които са извън обхвата на Националната програма за енергийна ефективност на многофамилни жилищни сград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ногофамилни жилищни сгради до 36 самостоятелни обекта с жилищно предназначение, строени по индустриален способ: ЕПЖС (едропанелно жилищно строителство); ППП (пакетно-повдигани плочи); ЕПК (едроплощен кофраж); пълзящ кофраж и разновидностите им в 39-те града от 1-во до 3-то йерархично ниво, които са извън обхвата на Националната програма за енергийна ефективност на многофамилни жилищни сград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и определяне на проектите, които да бъдат включени в инвестиционната програма, всеки конкретен бенефициент следва да се съобрази с минимални и максимални прагове на предоставяната БФП (100%) по някои групи дейности (инвестиционни приоритети), с оглед спазване на съотношението между размера на средствата на ниво Приоритетна ос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1B2D-5810-490E-98F4-B8C41B411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AA7D-0422-4B96-818E-7B7AC166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40E0-4F18-4B10-AB8A-918DD740D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70CA-03C7-494E-B913-BF6CE562E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0253-D162-450E-8C13-764EF64D8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E45E-2B4A-4C44-B398-4C55A418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DC1D-C860-446A-BA9D-7FB12E42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1D81-7EAD-4DAB-B3F3-C7B9FDC7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21EF-F482-4E93-8D94-8A545A41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93F6-5577-4EAB-BE80-6DF1DD77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DC20-BEC1-4E99-A587-D2143114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8DBC-16C7-458A-8A69-62A31E04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C4FC-0CD1-490E-B953-4E0EAD8F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1322-0974-4F73-BC9E-455D7290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358B-2FF6-4066-8329-EA3F8EC1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E2D1-1E4E-415A-B5EC-7B69811D8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46A2-22D2-4B4F-A301-E6E47E4F6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B9F75-5FE8-457D-A6EC-442ABA66B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85DBB-7629-4C63-B8EF-56FE4D6D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7DFFF-5E5B-410E-8C9C-2C847E2B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3A6C7-03C6-47EC-8144-984BC6C7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22941-77E1-4A04-8088-217C0946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51FD-B67D-4030-806F-4A10E20F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04075-28F9-4816-9C16-602344CD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E0088-EDAF-4D2F-991A-42D86DFF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76622-4EE3-4053-9828-DDEE1B13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90D6D-2C58-4B83-AE68-56A3D34E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21B0F-46C0-43FC-9BFC-275221D4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7491A-D1DA-4C5F-A9C6-A1652D8A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EA01E-948E-4D10-B8C3-4D3209200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F183-E36A-4702-8BD9-6CA68B30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644B-A62A-4519-80AB-FFECD1AE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1F7B-59CB-4B81-A04A-E89BD50A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AB7B-0A48-4B13-A230-EA6CC198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24BF-897C-481D-8CEC-BBE2642A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7620-062E-4312-928F-9217E447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0F50-C5FA-453E-901F-0365E14D787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251F-B22E-4D16-9605-2215ACD7B44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9185-8456-4002-9240-1932E967115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3"/>
          <a:stretch/>
        </p:blipFill>
        <p:spPr>
          <a:xfrm>
            <a:off x="766764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249120" y="3357720"/>
            <a:ext cx="559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70c0"/>
                </a:solidFill>
                <a:latin typeface="Arial"/>
              </a:rPr>
              <a:t>Оперативна програма „Региони в растеж“ 2014-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70"/>
          <p:cNvSpPr/>
          <p:nvPr/>
        </p:nvSpPr>
        <p:spPr>
          <a:xfrm>
            <a:off x="179280" y="4405320"/>
            <a:ext cx="638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9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ylfaen"/>
              </a:rPr>
              <a:t>ИЗПЪЛНЕНИЕ НА ИНТЕГРИРАНИ ПЛАНОВЕ ЗА ГРАДСКО ВЪЗСТАНОВЯВАНЕ И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ylfaen"/>
              </a:rPr>
              <a:t>/проект на Насоки за кандидатстване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66"/>
                </a:solidFill>
                <a:latin typeface="Sylfaen"/>
              </a:rPr>
              <a:t>Второ засе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400" spc="-1" strike="noStrike">
                <a:solidFill>
                  <a:srgbClr val="000066"/>
                </a:solidFill>
                <a:latin typeface="Sylfaen"/>
              </a:rPr>
              <a:t>05 юни </a:t>
            </a:r>
            <a:r>
              <a:rPr b="0" i="1" lang="en-US" sz="2400" spc="-1" strike="noStrike">
                <a:solidFill>
                  <a:srgbClr val="000066"/>
                </a:solidFill>
                <a:latin typeface="Sylfaen"/>
              </a:rPr>
              <a:t>201</a:t>
            </a:r>
            <a:r>
              <a:rPr b="0" i="1" lang="bg-BG" sz="2400" spc="-1" strike="noStrike">
                <a:solidFill>
                  <a:srgbClr val="000066"/>
                </a:solidFill>
                <a:latin typeface="Sylfaen"/>
              </a:rPr>
              <a:t>5г.</a:t>
            </a:r>
            <a:r>
              <a:rPr b="0" i="1" lang="en-US" sz="2400" spc="-1" strike="noStrike">
                <a:solidFill>
                  <a:srgbClr val="000066"/>
                </a:solidFill>
                <a:latin typeface="Sylfaen"/>
              </a:rPr>
              <a:t>, </a:t>
            </a:r>
            <a:r>
              <a:rPr b="0" i="1" lang="bg-BG" sz="2400" spc="-1" strike="noStrike">
                <a:solidFill>
                  <a:srgbClr val="000066"/>
                </a:solidFill>
                <a:latin typeface="Sylfaen"/>
              </a:rPr>
              <a:t>гр. 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"/>
          <p:cNvPicPr/>
          <p:nvPr/>
        </p:nvPicPr>
        <p:blipFill>
          <a:blip r:embed="rId4"/>
          <a:stretch/>
        </p:blipFill>
        <p:spPr>
          <a:xfrm>
            <a:off x="3780000" y="243000"/>
            <a:ext cx="1487160" cy="11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1417680" y="338040"/>
            <a:ext cx="597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оцедура по делегиране на функции на Междинните зв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237960" y="1557360"/>
            <a:ext cx="824400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Решение на МС за даване на мандат на РУО да делегира функциите по оценка и избор на проектни предложения от Междинни звена по Приоритетна ос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297000" y="2455920"/>
            <a:ext cx="8245440" cy="287280"/>
          </a:xfrm>
          <a:prstGeom prst="rect">
            <a:avLst/>
          </a:prstGeom>
          <a:solidFill>
            <a:srgbClr val="d9d9d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добрение на критерии за избор на проекти от Комитет за наблю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318960" y="3171960"/>
            <a:ext cx="8223480" cy="287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ключване на Споразумението между УО и Междинното зве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wn Arrow 26"/>
          <p:cNvSpPr/>
          <p:nvPr/>
        </p:nvSpPr>
        <p:spPr>
          <a:xfrm>
            <a:off x="3897360" y="2060640"/>
            <a:ext cx="485640" cy="396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own Arrow 33"/>
          <p:cNvSpPr/>
          <p:nvPr/>
        </p:nvSpPr>
        <p:spPr>
          <a:xfrm>
            <a:off x="3921120" y="2774880"/>
            <a:ext cx="484200" cy="397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34"/>
          <p:cNvSpPr/>
          <p:nvPr/>
        </p:nvSpPr>
        <p:spPr>
          <a:xfrm>
            <a:off x="3505320" y="3753000"/>
            <a:ext cx="1708200" cy="720720"/>
          </a:xfrm>
          <a:prstGeom prst="ellipse">
            <a:avLst/>
          </a:prstGeom>
          <a:solidFill>
            <a:srgbClr val="d9d9d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Общ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5"/>
          <p:cNvSpPr/>
          <p:nvPr/>
        </p:nvSpPr>
        <p:spPr>
          <a:xfrm>
            <a:off x="1139760" y="4076640"/>
            <a:ext cx="1656000" cy="647640"/>
          </a:xfrm>
          <a:prstGeom prst="rect">
            <a:avLst/>
          </a:prstGeom>
          <a:solidFill>
            <a:srgbClr val="e1eab4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Конкретен бенефици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6"/>
          <p:cNvSpPr/>
          <p:nvPr/>
        </p:nvSpPr>
        <p:spPr>
          <a:xfrm>
            <a:off x="6039000" y="4113360"/>
            <a:ext cx="1668240" cy="647640"/>
          </a:xfrm>
          <a:prstGeom prst="rect">
            <a:avLst/>
          </a:prstGeom>
          <a:solidFill>
            <a:srgbClr val="f1d1ad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Междинно зве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7"/>
          <p:cNvSpPr/>
          <p:nvPr/>
        </p:nvSpPr>
        <p:spPr>
          <a:xfrm>
            <a:off x="2795760" y="5157720"/>
            <a:ext cx="2900160" cy="72252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Разделение на функциите в Инвестиционната програм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ИП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2931840" y="4622760"/>
            <a:ext cx="275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0000"/>
                </a:solidFill>
                <a:latin typeface="Arial"/>
              </a:rPr>
              <a:t>Потенциален конфликт на интере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Straight Arrow Connector 39"/>
          <p:cNvCxnSpPr>
            <a:endCxn id="153" idx="3"/>
          </p:cNvCxnSpPr>
          <p:nvPr/>
        </p:nvCxnSpPr>
        <p:spPr>
          <a:xfrm flipH="1">
            <a:off x="2795040" y="4105440"/>
            <a:ext cx="710280" cy="2955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8" name="Straight Arrow Connector 41"/>
          <p:cNvCxnSpPr>
            <a:endCxn id="154" idx="1"/>
          </p:cNvCxnSpPr>
          <p:nvPr/>
        </p:nvCxnSpPr>
        <p:spPr>
          <a:xfrm>
            <a:off x="5213160" y="4105080"/>
            <a:ext cx="826200" cy="3322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9" name="Straight Arrow Connector 44"/>
          <p:cNvCxnSpPr>
            <a:stCxn id="153" idx="2"/>
            <a:endCxn id="155" idx="0"/>
          </p:cNvCxnSpPr>
          <p:nvPr/>
        </p:nvCxnSpPr>
        <p:spPr>
          <a:xfrm>
            <a:off x="1968480" y="4724280"/>
            <a:ext cx="2278800" cy="434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0" name="Straight Arrow Connector 48"/>
          <p:cNvCxnSpPr>
            <a:stCxn id="154" idx="2"/>
            <a:endCxn id="155" idx="0"/>
          </p:cNvCxnSpPr>
          <p:nvPr/>
        </p:nvCxnSpPr>
        <p:spPr>
          <a:xfrm flipH="1">
            <a:off x="4246560" y="4761000"/>
            <a:ext cx="2627640" cy="3974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8"/>
          <p:cNvSpPr/>
          <p:nvPr/>
        </p:nvSpPr>
        <p:spPr>
          <a:xfrm>
            <a:off x="1298520" y="33804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1332000" y="333360"/>
            <a:ext cx="597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Изменение на ИПГВР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6"/>
          <p:cNvSpPr/>
          <p:nvPr/>
        </p:nvSpPr>
        <p:spPr>
          <a:xfrm>
            <a:off x="2970360" y="1628640"/>
            <a:ext cx="2690640" cy="5922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Изменение на ИПГВР – 2015 г., 2019 г. и/или 2022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7"/>
          <p:cNvSpPr/>
          <p:nvPr/>
        </p:nvSpPr>
        <p:spPr>
          <a:xfrm>
            <a:off x="6012000" y="1628640"/>
            <a:ext cx="2592360" cy="592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MS Minngs"/>
              </a:rPr>
              <a:t>Аргументирана обосн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 rot="10800000">
            <a:off x="5683320" y="1790280"/>
            <a:ext cx="277920" cy="343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301680" y="1628640"/>
            <a:ext cx="2232000" cy="592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Проверка от УО на ОПР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2611440" y="1795320"/>
            <a:ext cx="277920" cy="343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30"/>
          <p:cNvSpPr/>
          <p:nvPr/>
        </p:nvSpPr>
        <p:spPr>
          <a:xfrm>
            <a:off x="353880" y="2529000"/>
            <a:ext cx="2186280" cy="116496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рограми в зонит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за въздейств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30"/>
          <p:cNvSpPr/>
          <p:nvPr/>
        </p:nvSpPr>
        <p:spPr>
          <a:xfrm>
            <a:off x="6026040" y="2479680"/>
            <a:ext cx="2578320" cy="210168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Функционални връз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Straight Arrow Connector 6"/>
          <p:cNvCxnSpPr>
            <a:stCxn id="169" idx="2"/>
            <a:endCxn id="174" idx="7"/>
          </p:cNvCxnSpPr>
          <p:nvPr/>
        </p:nvCxnSpPr>
        <p:spPr>
          <a:xfrm flipH="1">
            <a:off x="2219040" y="2220840"/>
            <a:ext cx="2097360" cy="480240"/>
          </a:xfrm>
          <a:prstGeom prst="straightConnector1">
            <a:avLst/>
          </a:prstGeom>
          <a:ln w="1260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177" name="Straight Arrow Connector 11"/>
          <p:cNvCxnSpPr>
            <a:stCxn id="169" idx="2"/>
            <a:endCxn id="175" idx="1"/>
          </p:cNvCxnSpPr>
          <p:nvPr/>
        </p:nvCxnSpPr>
        <p:spPr>
          <a:xfrm>
            <a:off x="4316040" y="2220840"/>
            <a:ext cx="2088360" cy="567360"/>
          </a:xfrm>
          <a:prstGeom prst="straightConnector1">
            <a:avLst/>
          </a:prstGeom>
          <a:ln w="1260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178" name="Rectangle 17"/>
          <p:cNvSpPr/>
          <p:nvPr/>
        </p:nvSpPr>
        <p:spPr>
          <a:xfrm>
            <a:off x="2738520" y="2692440"/>
            <a:ext cx="3084480" cy="297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Допустим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7"/>
          <p:cNvSpPr/>
          <p:nvPr/>
        </p:nvSpPr>
        <p:spPr>
          <a:xfrm>
            <a:off x="3086280" y="3432240"/>
            <a:ext cx="2468520" cy="295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Публични обсъж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7"/>
          <p:cNvSpPr/>
          <p:nvPr/>
        </p:nvSpPr>
        <p:spPr>
          <a:xfrm>
            <a:off x="270000" y="4027320"/>
            <a:ext cx="2468520" cy="652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Допълнение на одобрена матрица бюджет и програма за реа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3086280" y="4017960"/>
            <a:ext cx="2469960" cy="295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Приемане от Общински съ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3086280" y="5195880"/>
            <a:ext cx="246852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Извършване на ЕО и ОС ако е преценено за необходим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"/>
          <p:cNvSpPr/>
          <p:nvPr/>
        </p:nvSpPr>
        <p:spPr>
          <a:xfrm rot="16200000">
            <a:off x="4153680" y="2307600"/>
            <a:ext cx="277920" cy="342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3086280" y="4548240"/>
            <a:ext cx="246996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Разработване/изменение на програмите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за реа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1319040" y="333360"/>
            <a:ext cx="5977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Индивидуални цели към юни 2018 г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Content Placeholder 2"/>
          <p:cNvSpPr/>
          <p:nvPr/>
        </p:nvSpPr>
        <p:spPr>
          <a:xfrm>
            <a:off x="0" y="1290600"/>
            <a:ext cx="9109080" cy="46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58120" indent="-258120" algn="just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0000"/>
                </a:solidFill>
                <a:latin typeface="Arial"/>
              </a:rPr>
              <a:t>Индивидуална етапна цел за всеки конкретен бенефициент (верифицирани средства от УО на ОПРР до края на юни 2018 г.) –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изчислява се като 20% от размера на БФП за всеки бенефициент въз основа на процента на етапната цел на ниво приоритетна ос 1 (сертифицирани средства към края на 2018 г.) към бюджета на приоритетната ос (20,63%)</a:t>
            </a:r>
            <a:r>
              <a:rPr b="0" lang="bg-BG" sz="1700" spc="-1" strike="noStrike">
                <a:solidFill>
                  <a:srgbClr val="92d05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8120" indent="-258120" algn="just">
              <a:spcBef>
                <a:spcPts val="11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8120" indent="-25812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8120" indent="-25812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8120" indent="-25812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8120" indent="-25812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В случай че конкретен бенефициент не е постигнал индивидуалната си етапна цел, УО на ОПРР си запазва правото да ревизира определения общ ресурс на БФП (100%) за съответния бенефициент и размера на предоставената БФП по сключените договори за БФП с размера на средствата, които не са постигнати като верифицирани от УО на ОПРР до този момент 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(и които в тази връзка следва да бъдат поети като собствен принос от страна на съответния бенефициент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303120" y="2637000"/>
          <a:ext cx="8661600" cy="669600"/>
        </p:xfrm>
        <a:graphic>
          <a:graphicData uri="http://schemas.openxmlformats.org/drawingml/2006/table">
            <a:tbl>
              <a:tblPr/>
              <a:tblGrid>
                <a:gridCol w="3451320"/>
                <a:gridCol w="3978360"/>
                <a:gridCol w="1231920"/>
              </a:tblGrid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 ПО 1 (БФП+ФИ), ев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 ПО 1 сертифицирани 2018 г., ев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0 449 0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 352 6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6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311040" y="3357720"/>
          <a:ext cx="8653680" cy="949320"/>
        </p:xfrm>
        <a:graphic>
          <a:graphicData uri="http://schemas.openxmlformats.org/drawingml/2006/table">
            <a:tbl>
              <a:tblPr/>
              <a:tblGrid>
                <a:gridCol w="3443400"/>
                <a:gridCol w="3986280"/>
                <a:gridCol w="122400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 Столична община  (БФП+резерв), л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видуална цел верифицирани юни 2018 г., л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 375 234,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 675 046,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авила за предоставяне на БФП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ontent Placeholder 2"/>
          <p:cNvSpPr/>
          <p:nvPr/>
        </p:nvSpPr>
        <p:spPr>
          <a:xfrm>
            <a:off x="66600" y="1341360"/>
            <a:ext cx="900612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ндидатстването се извършва чрез 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Инвестиционна програма и проектни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Инвестиционна програма </a:t>
            </a:r>
            <a:r>
              <a:rPr b="0" lang="bg-BG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-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носрочен документ, чрез който бенефициентите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ще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дефинират приоритетните за финансиране проекти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, в съответствие с изискванията на чл. 7, параграф 4 от Регламент №1301/201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ключва общ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бюджет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механизъм за управление и реализация,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екип за управление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съответствие с ИПГВР, описание и обосновка на интегрирания подход,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индикатори, план-график за изпълнение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др</a:t>
            </a:r>
            <a:r>
              <a:rPr b="0" lang="bg-BG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ключва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списък с основни проект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списък с резервни проект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 финансиране чрез БФ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бщ размер на списъка с основните проекти -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до определения максимален ресурс на БФП за съответната инвестиционна програм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бщ размер на списъка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с резервни проект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до 50% от определения максимален ресурс на БФП за съответната инвестиционна програ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авила за предоставяне на БФП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(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ontent Placeholder 2"/>
          <p:cNvSpPr/>
          <p:nvPr/>
        </p:nvSpPr>
        <p:spPr>
          <a:xfrm>
            <a:off x="108000" y="1413000"/>
            <a:ext cx="8856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инимални и максимални прагове на предоставяната БФП (100%)  по  групи дейности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5" name=""/>
          <p:cNvGraphicFramePr/>
          <p:nvPr/>
        </p:nvGraphicFramePr>
        <p:xfrm>
          <a:off x="539640" y="2133720"/>
          <a:ext cx="8280360" cy="3671640"/>
        </p:xfrm>
        <a:graphic>
          <a:graphicData uri="http://schemas.openxmlformats.org/drawingml/2006/table">
            <a:tbl>
              <a:tblPr/>
              <a:tblGrid>
                <a:gridCol w="5256360"/>
                <a:gridCol w="3024000"/>
              </a:tblGrid>
              <a:tr h="861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нвестиционни приоритети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раг на БФП (100%) спрямо общия размер на БФП, определен за всеки бенефици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5659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 Енерг. eф-ст в админ. и жилищни сгради и студентски общежи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Макс. 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многофамилни жилищни сгра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Мин. 50% от сумата по 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 Градска сред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група дейности „Градска среда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Макс. 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 Образователна инфраструк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Мин. 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 Социална инфраструк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44280" rIns="44280" tIns="0" bIns="0" anchor="b">
                      <a:noAutofit/>
                    </a:bodyPr>
                    <a:p>
                      <a:pPr marL="355680" indent="-38160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група дейности „Социална инфраструктура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Мин. 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ИЗМЕНЕНИЕ НА ИНВЕСТИЦИОННА ПРОГР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ontent Placeholder 2"/>
          <p:cNvSpPr/>
          <p:nvPr/>
        </p:nvSpPr>
        <p:spPr>
          <a:xfrm>
            <a:off x="179280" y="1413000"/>
            <a:ext cx="87854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рез 2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г.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УО на ОПРР ще направи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оценка на изпълнението на инвестиционните програм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 на Приоритетната ос като цяло, и може да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преразпредели наличния ресурс от по-неактивните към по-активните бенефициенти</a:t>
            </a:r>
            <a:r>
              <a:rPr b="0" lang="bg-BG" sz="1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и изменения в законодателството, социално икономическата среда, изменения в ОПРР,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одобрените инвестиционни програми могат да бъдат актуализирани, в т.ч. и списъците с резервни проекти, </a:t>
            </a:r>
            <a:r>
              <a:rPr b="1" lang="bg-BG" sz="1800" spc="-1" strike="noStrike" u="sng">
                <a:solidFill>
                  <a:srgbClr val="ff0000"/>
                </a:solidFill>
                <a:uFillTx/>
                <a:latin typeface="Arial"/>
              </a:rPr>
              <a:t>през 201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9 </a:t>
            </a:r>
            <a:r>
              <a:rPr b="1" lang="bg-BG" sz="1800" spc="-1" strike="noStrike" u="sng">
                <a:solidFill>
                  <a:srgbClr val="ff0000"/>
                </a:solidFill>
                <a:uFillTx/>
                <a:latin typeface="Arial"/>
              </a:rPr>
              <a:t>и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2022</a:t>
            </a:r>
            <a:r>
              <a:rPr b="1" lang="bg-BG" sz="1800" spc="-1" strike="noStrike" u="sng">
                <a:solidFill>
                  <a:srgbClr val="ff0000"/>
                </a:solidFill>
                <a:uFillTx/>
                <a:latin typeface="Arial"/>
              </a:rPr>
              <a:t> г.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Всяка актуализация на инвестиционната програм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е извършва в съответствие с процедурата на изготвяне на инвестиционна програма и следва да бъде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добрена от УО на ОПРР 2014-202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1042920" y="1844640"/>
            <a:ext cx="727416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БЛАГОДАРЯ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ария Станев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ачалник отдел „Изпълнение на програмните приоритети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Гр.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 Stanevska</cp:lastModifiedBy>
  <cp:lastPrinted>2015-05-05T13:25:48Z</cp:lastPrinted>
  <dcterms:modified xsi:type="dcterms:W3CDTF">2015-06-03T07:37:11Z</dcterms:modified>
  <cp:revision>1194</cp:revision>
  <dc:subject/>
  <dc:title>Diapositiva 1</dc:title>
</cp:coreProperties>
</file>