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88F-FC53-4609-A4A4-036E77B8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EAE-5F8B-4D7F-87E2-242D48E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86F-16AE-4C23-9EE3-AE093C7B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99B-F6D5-48EE-999E-DD737AEE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8A2A-F82D-4A68-B43B-5427D079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B36-8171-49BF-A06C-E47C8E14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1A4-3858-460A-9616-D6D8940D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D47-2752-4A42-838D-42F51DAA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0CA-BD96-4551-BC3D-6254C6B0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FE9-DCB6-4450-9679-F15CE9B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7B7-B412-4E55-B5FC-2BD06721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409-9452-4785-9330-10740DE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B74-B454-4A87-8F8D-A975977C44B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76200" y="598788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08000" y="3933720"/>
            <a:ext cx="5759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 г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4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08080" y="1413000"/>
            <a:ext cx="868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d14"/>
                </a:solidFill>
                <a:latin typeface="Arial"/>
              </a:rPr>
              <a:t>Предприети м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Осъществяване на предварителен контрол, както от АОП (с посл. изм. на ЗОП), така и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ключени договори с външни изпълнители за предоставяне на юридически услуг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 цел подобряване системите и уеднаквяване на практиката е въведена т. нар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„оценка на качеството“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ърху контролната дейност на регионалните отдел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, която се осъществява ежемесечно на централно ниво, като резултатите се обобщават в доклад. Въведени са ежемесечни срещи-обучения между експертите от РО и тези на централно ни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187280" y="19044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Други 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2400" y="1417680"/>
            <a:ext cx="8859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Забава в подготовката на тръжните документи и обявяването на процедурите за избор на изпълнител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жалване на процедурите за избор на изпълнители по ЗО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дприети м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ъвместни срещи с бенефициентите с установени рискови проекти и обсъждане на възможни сценарии за постигане на заложените цел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Необходимост от ускоряване на процесите по верификация и разплащания за постигане на правилото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N+2/3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към 31.12.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Предприети ме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Регулярен мониторинг по изпълнението на проекти по ОПРР – периодична актуализация на анализа за рискови проек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Оптимизации на процесите, с оглед ускоряване изпълнението на проектите и на верификаци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160720" y="40464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одобрени системи за управление и контрол (СУ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60280" y="1557360"/>
            <a:ext cx="8480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Заключение на Одитния орган в резултат на извършените тематични системни одити през втората половина на 20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4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d14"/>
                </a:solidFill>
                <a:latin typeface="Arial"/>
              </a:rPr>
              <a:t>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349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Издаден Годишен контролен доклад в края на 2014 г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spcBef>
                <a:spcPts val="400"/>
              </a:spcBef>
              <a:buClr>
                <a:srgbClr val="000d1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d14"/>
                </a:solidFill>
                <a:latin typeface="Arial"/>
              </a:rPr>
              <a:t>ИА „ОСЕС“ категоризира цялостната оценка на СУК на ОПРР на ниво 2 „Работи, но са необходими някои подобрения“, което съответства на високото ниво на сигур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БЩ ПРЕГЛЕД НА ИЗПЪЛНЕНИЕТО ПО ПРОГРАМАТА КЪМ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31.12.201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70000" y="1859040"/>
            <a:ext cx="847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ДОГОВОР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 666 млн. евро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или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04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ПЛАТЕНИ СРЕДСТВА –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 232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млн. евро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– или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74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 %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спрямо договорените средства и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77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ОБЩО СЕРТИФИЦИРА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 024 млн. евро 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или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63 %</a:t>
            </a:r>
            <a:r>
              <a:rPr b="1" lang="bg-BG" sz="1800" spc="-1" strike="noStrike">
                <a:solidFill>
                  <a:srgbClr val="808080"/>
                </a:solidFill>
                <a:latin typeface="Arial"/>
              </a:rPr>
              <a:t> спрямо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6" descr="20140627_102709"/>
          <p:cNvPicPr/>
          <p:nvPr/>
        </p:nvPicPr>
        <p:blipFill>
          <a:blip r:embed="rId1"/>
          <a:stretch/>
        </p:blipFill>
        <p:spPr>
          <a:xfrm>
            <a:off x="3840120" y="3797280"/>
            <a:ext cx="2529000" cy="1844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IMG_9116"/>
          <p:cNvPicPr/>
          <p:nvPr/>
        </p:nvPicPr>
        <p:blipFill>
          <a:blip r:embed="rId2"/>
          <a:stretch/>
        </p:blipFill>
        <p:spPr>
          <a:xfrm>
            <a:off x="6443640" y="4203720"/>
            <a:ext cx="2631960" cy="1773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\\oprd-nfs\DG_PRD 2\PEIP\-=Private=-\IP\PETYA\Снимки\КН 2014-2020\IMG_9113.JPG"/>
          <p:cNvPicPr/>
          <p:nvPr/>
        </p:nvPicPr>
        <p:blipFill>
          <a:blip r:embed="rId3"/>
          <a:stretch/>
        </p:blipFill>
        <p:spPr>
          <a:xfrm>
            <a:off x="6033960" y="2421000"/>
            <a:ext cx="3041640" cy="20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IMG_9444"/>
          <p:cNvPicPr/>
          <p:nvPr/>
        </p:nvPicPr>
        <p:blipFill>
          <a:blip r:embed="rId4"/>
          <a:stretch/>
        </p:blipFill>
        <p:spPr>
          <a:xfrm>
            <a:off x="4103640" y="24703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"/>
          <p:cNvPicPr/>
          <p:nvPr/>
        </p:nvPicPr>
        <p:blipFill>
          <a:blip r:embed="rId5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"/>
          <p:cNvPicPr/>
          <p:nvPr/>
        </p:nvPicPr>
        <p:blipFill>
          <a:blip r:embed="rId6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160720" y="404640"/>
            <a:ext cx="46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ИНФОРМАЦИЯ И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УБЛ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454040"/>
            <a:ext cx="4103640" cy="45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и работни срещи и обучения за законосъобразно провеждане на обществените поръчки и оптимизиране на процедурите в Наръчника за управление и изпълнение на ОПРР 2007-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и 14-то и 15-то заседание на Комитета за наблюдение на ОПРР 2007 – 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Проведена Годишна конференция за представяне на напредъка по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Изготвени рекламни и информационни материали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за изпълнението на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Осигуряване на достъпност, публичност и прозрачност чрез електронни и печатни ме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IMG_7174"/>
          <p:cNvPicPr/>
          <p:nvPr/>
        </p:nvPicPr>
        <p:blipFill>
          <a:blip r:embed="rId7"/>
          <a:stretch/>
        </p:blipFill>
        <p:spPr>
          <a:xfrm>
            <a:off x="6369120" y="1203480"/>
            <a:ext cx="2703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160720" y="404640"/>
            <a:ext cx="462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ПРЕДЛОЖЕНИЕ ЗА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270000" y="1773360"/>
            <a:ext cx="847872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КН дава мандат на Ръководителя на УО на ОПР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cc"/>
                </a:solidFill>
                <a:latin typeface="Arial"/>
              </a:rPr>
              <a:t>Да одобри Годишния доклад по ОПРР 2007-2013 г. за 2014 г. и да го изпрати към Европейската коми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332000" y="374760"/>
            <a:ext cx="655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60" y="1628280"/>
            <a:ext cx="8859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одадени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27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8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3 договор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за предоставяне на БФП на обща стойност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24 млн.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Изплатени общо средства за 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 г.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6 млн.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, от кои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- авансов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03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 млн.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Arial"/>
              </a:rPr>
              <a:t>- междинни и окончателн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21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3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млн.</a:t>
            </a:r>
            <a:r>
              <a:rPr b="1" i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Arial"/>
              </a:rPr>
              <a:t>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центът извършени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ъм 31.12.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спрямо бюджета на програмата е в размер на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19,74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Сертифицирани средства от СО за 201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г.</a:t>
            </a:r>
            <a:r>
              <a:rPr b="1" lang="bg-BG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273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 млн. 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e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вро</a:t>
            </a:r>
            <a:r>
              <a:rPr b="1" lang="en-US" sz="1800" spc="-1" strike="noStrike">
                <a:solidFill>
                  <a:srgbClr val="a80000"/>
                </a:solidFill>
                <a:latin typeface="Arial"/>
              </a:rPr>
              <a:t> </a:t>
            </a:r>
            <a:r>
              <a:rPr b="1" i="1" lang="bg-BG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7,08 %</a:t>
            </a:r>
            <a:r>
              <a:rPr b="1" i="1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от бюджета на програма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рой приключили проекти през 2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г.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187280" y="376200"/>
            <a:ext cx="684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500" spc="-1" strike="noStrike">
                <a:solidFill>
                  <a:srgbClr val="a50021"/>
                </a:solidFill>
                <a:latin typeface="Arial"/>
              </a:rPr>
              <a:t>Общ преглед на изпълнението за 2014 г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58920" y="190440"/>
            <a:ext cx="6626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619280" y="39384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Договорени средства за 2014 г.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hart 12" descr=""/>
          <p:cNvPicPr/>
          <p:nvPr/>
        </p:nvPicPr>
        <p:blipFill>
          <a:blip r:embed="rId3"/>
          <a:stretch/>
        </p:blipFill>
        <p:spPr>
          <a:xfrm>
            <a:off x="488880" y="1766880"/>
            <a:ext cx="82375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зплатени средства за 20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 г. - ев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34920" y="1407960"/>
          <a:ext cx="9048600" cy="454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07960"/>
                    <a:ext cx="904860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Сертифицирани средства за 2014 г. - ев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34920" y="1407960"/>
          <a:ext cx="9048600" cy="454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07960"/>
                    <a:ext cx="904860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58920" y="19044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ключени проекти 201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3"/>
          <a:stretch/>
        </p:blipFill>
        <p:spPr>
          <a:xfrm>
            <a:off x="71280" y="1419120"/>
            <a:ext cx="86029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2400" y="1417680"/>
            <a:ext cx="8859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Първоначалната минимална цел в размер на 970 млн. евро  (дял ЕФРР) е намалена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 размер от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131 млн. евро,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в резултат на одобряване от ЕК  следните 2 големи проекти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Голям проект за изграждане на Северната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скоростна тангента</a:t>
            </a:r>
            <a:r>
              <a:rPr b="0" i="1" lang="en-US" sz="17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–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намаление на целта с </a:t>
            </a:r>
            <a:r>
              <a:rPr b="0" i="1" lang="bg-BG" sz="1700" spc="-1" strike="noStrike">
                <a:solidFill>
                  <a:srgbClr val="a80000"/>
                </a:solidFill>
                <a:latin typeface="Arial"/>
              </a:rPr>
              <a:t>92 млн.евро – дял </a:t>
            </a:r>
            <a:r>
              <a:rPr b="0" i="1" lang="bg-BG" sz="1800" spc="-1" strike="noStrike">
                <a:solidFill>
                  <a:srgbClr val="a80000"/>
                </a:solidFill>
                <a:latin typeface="Arial"/>
              </a:rPr>
              <a:t>ЕФ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        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Голям проект за доставка на пожарни коли и противопожарна техника –     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	</a:t>
            </a:r>
            <a:r>
              <a:rPr b="0" i="1" lang="bg-BG" sz="1700" spc="-1" strike="noStrike">
                <a:solidFill>
                  <a:srgbClr val="000d14"/>
                </a:solidFill>
                <a:latin typeface="Arial"/>
              </a:rPr>
              <a:t>бенефициент МВР – с </a:t>
            </a:r>
            <a:r>
              <a:rPr b="0" i="1" lang="bg-BG" sz="1700" spc="-1" strike="noStrike">
                <a:solidFill>
                  <a:srgbClr val="a80000"/>
                </a:solidFill>
                <a:latin typeface="Arial"/>
              </a:rPr>
              <a:t>39 млн. евро – дял ЕФР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ертифицирани разходи</a:t>
            </a:r>
            <a:r>
              <a:rPr b="1" lang="en-US" sz="1800" spc="-1" strike="noStrike">
                <a:solidFill>
                  <a:srgbClr val="000d14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към 31.12.2014  г.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– 855 млн. евро – дял ЕФРР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или</a:t>
            </a:r>
            <a:r>
              <a:rPr b="1" lang="bg-BG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62,82 %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прямо бюджета н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Установен риск от загуба на средства към началото на </a:t>
            </a:r>
            <a:r>
              <a:rPr b="1" lang="en-US" sz="1800" spc="-1" strike="noStrike">
                <a:solidFill>
                  <a:srgbClr val="00131a"/>
                </a:solidFill>
                <a:latin typeface="Arial"/>
              </a:rPr>
              <a:t>IV-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то трим. на 2014 г. –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112</a:t>
            </a:r>
            <a:r>
              <a:rPr b="1" lang="bg-BG" sz="1800" spc="-1" strike="noStrike">
                <a:solidFill>
                  <a:srgbClr val="00131a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Arial"/>
              </a:rPr>
              <a:t>млн.ев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Само за 2014 г. са сертифицирани разходи в размер на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273 млн.евро </a:t>
            </a:r>
            <a:r>
              <a:rPr b="1" lang="bg-BG" sz="1800" spc="-1" strike="noStrike">
                <a:solidFill>
                  <a:srgbClr val="000d14"/>
                </a:solidFill>
                <a:latin typeface="Arial"/>
              </a:rPr>
              <a:t>- дял 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Постигната е целта за усвояване към 31.12.2014 г. и не е налице загуба на средств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във връзка с прилагането на правилото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+3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87280" y="171360"/>
            <a:ext cx="684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a50021"/>
                </a:solidFill>
                <a:latin typeface="Arial"/>
              </a:rPr>
              <a:t>Изпълнение на прогнозите по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Lothar </a:t>
            </a:r>
            <a:r>
              <a:rPr b="1" lang="bg-BG" sz="2100" spc="-1" strike="noStrike">
                <a:solidFill>
                  <a:srgbClr val="a50021"/>
                </a:solidFill>
                <a:latin typeface="Arial"/>
              </a:rPr>
              <a:t>към 31.12.2014 г. и съответствие с правилото </a:t>
            </a:r>
            <a:r>
              <a:rPr b="1" lang="en-US" sz="2100" spc="-1" strike="noStrike">
                <a:solidFill>
                  <a:srgbClr val="a50021"/>
                </a:solidFill>
                <a:latin typeface="Arial"/>
              </a:rPr>
              <a:t>N+2/N+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Ключови предизвикателств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8080" y="1413000"/>
            <a:ext cx="8686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з м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прил 2014 г. - извършен одит от ЕК с обхват проекти и обществени поръчки п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а ос 1 и Приоритетна ос 3 на ОПРР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ез м. юни 2014 г. - плащанията по Приоритетна ос 1 и Приоритетна ос 3 на ОПРР са временно спрени от ЕК за констатирани нередности при оди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ледици - предприети корективни мерки от УО (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драстична промяна в СУК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добрени нови КЛ за предварителен и последващ контрол на процедури за обществени поръчки, включени контролни въпроси за индикатори за измами, възможност за пълно документиране на релевантната информац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ровеждане на регулярни обучения за служителите на УО с цел минимизиране на индивидуалните грешки при осъществявания контр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птимизация на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административната структура на УО  - нов отдел 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„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следващ контрол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за извършване на качествен контро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аложени плоски корекции върху разходите по Приоритетни оси 1 и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Обучения за бенефициенти с цел укрепване капацитета им във връзка с провеждане на обществени поръ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258920" y="19044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едизвикателства и мерки, предприети за разрешаването 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8080" y="1413000"/>
            <a:ext cx="86868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Arial"/>
              </a:rPr>
              <a:t>Констатирани пропуски/слабости при провеждане на процедурите по възлагане на обществените поръ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ъкратени срокове за получаване на документацията, в случаите, в които не е имало пълен и неограничен достъп до документацията за участ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обосновано съкращаване на сроковете за подаване на оферти, основано на непълно предварително обяв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личие на ограничителни/непропорционални критерии за подбор (напр. изискване за наличие на магистърска степен без еквивалент, неприемане на договори, които са в процес на изпълнение, когато изпълнената част е сходна с предмета на обществената поръчк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ромяна на критериите за подбор в хода на процедурата за въпроси и отговори, която не е публикувана в Официален вестник  (например годишен оборот, приемане на еквивалентна диплом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правомерно отстраняване на участниц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еясно/недостатъчно описана методика за оц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dcterms:modified xsi:type="dcterms:W3CDTF">2015-06-03T12:01:16Z</dcterms:modified>
  <cp:revision>824</cp:revision>
  <dc:subject/>
  <dc:title>Diapositiva 1</dc:title>
</cp:coreProperties>
</file>