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4.jpeg" ContentType="image/jpeg"/>
  <Override PartName="/ppt/media/image3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ariya Shamonina" initials="DS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5-06-01T11:56:18.183000000" idx="1">
    <p:pos x="3842" y="317"/>
    <p:text>Да се актуализира към 3.06</p:text>
  </p:cm>
</p:cmLst>
</file>

<file path=ppt/comments/comment3.xml><?xml version="1.0" encoding="utf-8"?>
<p:cmLst xmlns:p="http://schemas.openxmlformats.org/presentationml/2006/main">
  <p:cm authorId="0" dt="2015-06-01T11:56:32.941000000" idx="2">
    <p:pos x="3974" y="530"/>
    <p:text>Да се актуализира към 3.06</p:text>
  </p:cm>
</p:cmLst>
</file>

<file path=ppt/comments/comment4.xml><?xml version="1.0" encoding="utf-8"?>
<p:cmLst xmlns:p="http://schemas.openxmlformats.org/presentationml/2006/main">
  <p:cm authorId="0" dt="2015-06-01T11:57:11.099000000" idx="3">
    <p:pos x="392" y="1319"/>
    <p:text>Да се актуализира към 3.06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8A8D-17A7-41F4-8AD0-06DE9001819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рой подобрени туристически обекти/атракци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рой проведени иновативни културни съб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7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рой посетители на иновативните културни събития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9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58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Линейни метри изграде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ъоръжения за превенция от наводнения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х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ил.л.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Дължина на почистените речни корита и дерета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67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л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лощ на укрепени свлачищ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,1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800000"/>
                </a:solidFill>
                <a:latin typeface="Calibri"/>
              </a:rPr>
              <a:t>млн</a:t>
            </a: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Населени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облагодетелствано от укрепени свлач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624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 февруари 2015 г. в Стара Загора беше проведено обучение на бенефициенти за основните изменения в Наръчника за изпълнение и управление на ОПРР 2007 – 2013 г., свързани със структурните промени в ГД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Р“ и улесняване на процеса на вер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ведени са 4 работни срещи и обучения на УО на ОПРР и бенефициенти за законосъобразното провеждане на обществени поръ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отвени са информационни материали за Напредъка и изпълнението на ОП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печатани са 33 материала в печатни медии за популяризиране на проекти и добри практики на УО на ОП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4F4E-232C-476B-9B73-F072C08296A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я на програмния период 2007 - 2013 г. УО на ОПРР започна подготовката и планирането на процеса на приключване на програмата. Успешното приключване на програмата зависи от изпълнението в срок и с необходимото качество на всички сключени договори за БФ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В тази връзка се извършва регулярно актуализиране на вътрешен анализ относно изпълнението на ОПРР на проектно ниво, с цел определяне на степента на риск за всеки конкретен прое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В резултат от предприетите действия от страна на УО от извършен анализ на риска към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27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.0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.2015г., 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чрез провеждане на писмена кореспонденция, осъществяване на срещи с бенефициентите и изготвяне на индивидуални планове за действие, броят на високо рисковите проекти към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15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.0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.2015г. 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е намален от </a:t>
            </a:r>
            <a:r>
              <a:rPr b="0" lang="en-US" sz="1200" spc="-1" strike="noStrike">
                <a:solidFill>
                  <a:srgbClr val="000036"/>
                </a:solidFill>
                <a:latin typeface="Calibri"/>
              </a:rPr>
              <a:t>36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 бр. на обща стойност </a:t>
            </a:r>
            <a:r>
              <a:rPr b="0" lang="en-US" sz="1200" spc="-1" strike="noStrike">
                <a:solidFill>
                  <a:srgbClr val="000036"/>
                </a:solidFill>
                <a:latin typeface="Calibri"/>
              </a:rPr>
              <a:t>532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 млн.лв. д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бр. 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на обща стойност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млн.лв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.е. </a:t>
            </a:r>
            <a:r>
              <a:rPr b="1" lang="bg-BG" sz="1200" spc="-1" strike="noStrike">
                <a:solidFill>
                  <a:srgbClr val="ff0000"/>
                </a:solidFill>
                <a:latin typeface="Calibri"/>
              </a:rPr>
              <a:t>39%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oт общия обем договори в изпълнение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lang="bg-BG" sz="1200" spc="-1" strike="noStrike">
                <a:solidFill>
                  <a:srgbClr val="ff0000"/>
                </a:solidFill>
                <a:latin typeface="Calibri"/>
              </a:rPr>
              <a:t>(1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bg-BG" sz="1200" spc="-1" strike="noStrike">
                <a:solidFill>
                  <a:srgbClr val="ff0000"/>
                </a:solidFill>
                <a:latin typeface="Calibri"/>
              </a:rPr>
              <a:t>6 бр. на стойност 1,3 млрд.л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исокорисковите проекти са определени на база следните крите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 договор за БФП преди повече от 10 месе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липсва сключен договор с изпълнител по основна дейност по проекта – СМР, доставка ил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и са част от основните договори с изпълнители, но за част от дейностите не е сключен договор с изпълнител (пример: сключени са договори за изпълнение на СМР по 4 обособени позиции, но по една позиция процедурата се обжалва) или не е сключен договор за доставка на оборудване. Според спецификата на дейността по договора за БФП и преценка за степента на риска за изпълнение на крайните срокове на договора за БФП проектът се определя като рисков или високо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говорът за БФП е временно спрян и има риск за неизпълнение на догов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сновна дейност по проекта е спряна и не се изпълнява, което застрашава изпълнението в рамките на крайния срок на договора за БФП (пример: спряно е изпълнението на СМР поради нужда от допълнително проектиране или договорът с изпълнителя на СМР е прекратен и е необходим избор на нов изпълнител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финансово усвояване - процент на изплатени средства под 30% (процентното съотношение на стойност на БФП (100%) след анекс спрямо стойност на изплатени средства по проек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тановяване на разликата между стойност на подадени искания и стойност на изплатени средства над 25% (процентното съотношение на стойност на изплатени средства по проекта спрямо стойност на подадени искания за плаща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руги причини, застрашаващи изпълнението на крайните срокове на договора з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зултати от анализ на изпълнението на проектно ниво за всички проекти по ОПРР -  166 бр. на стойност 1,3 млрд.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Високорискови проекти (червен цвят)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32 договора за БФП с висок риск за изпълнение на обща стойност около 519 млн. лв., т.е. 38,97% от общия обем договори в изпълн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1.1-05/2008  „Подкрепа за осигуряване на подходяща и ефективна държавна културна инфраструктура, допринасяща за развитието на устойчиви градски ареали“ – 1 бр. ( проект на 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1.1-08/2010  „Подкрепа за реконструкция, обновяване и оборудване на държавни лечебни и здравни заведения в градските агломерации“ – 6 бр. ( проекти на М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1.2-01/2011 „Подкрепа за енергийна ефективност в многофамилни жилищни сгради“ – 1 бр. ( МРРБ - Жилищна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1.2-02/2011 „Подкрепа за осигуряване на съвременни социални жилища за настаняване на уязвими, малцинствени и социално слаби групи от населението и други групи в неравностойно положение“ – 1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: BG161PO001/1.4-09/2012 „Зелена и достъпна градска среда” – 1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: BG161PO001/1.5-03/2011 „Подкрепа за интегриран градски транспорт в петте големи града” – 1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2.1-01/2007  „Подкрепа за рехабилитация и реконструкция на второкласни и третокласни пътища” - 4 бр. ( Проекти на АПИ, включително С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3.1-03/2009 „Подкрепа за развитието на природни, културни и исторически атракции”– 1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3.1-04/2011 „Реставрация и консервация на дворец "Евксиноград" и прилежащия му парк” – 1 бр. (проект на М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3.3-01/2008  „Подкрепа за ефективен национален маркетинг на туристическия продукт и подобряване на информационното обслужване” – 4 бр. (проекти на М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5-02/2012 "В подкрепа за следващия програмен период" – 8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5-03/2013 "Подкрепа за интегрирани планове за градско възстановяване и развитие II" – 3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Рискови проекти (оранжев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48 договора за БФП на обща стойност около 237 млн. лв., т.е. 17,8 % от общия обем договори в изпълн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 с нисък риск (жълт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52 договора за БФП на обща стойност около 467 млн. лв., т.е. 35,12 % от общия обем договори в изпълн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 без установени рискове (зелен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4 договора за БФП на обща стойност около 108 млн. лв., т.е. 8,10% от общия обем договори в изпълн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 цел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коряване процеса на верифик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 осигуряване ритмичност на плащанията към бенефициентит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с оглед приключването на ОПРР 2007-2013 през 2015 г., 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О на ОПРР въведе нов подход, който предвижд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гистриране на служеб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кания з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междинн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лащан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При приключване на регистрирани сигнали за нередности с прекратяване поради липса на установена нередност, приключване с налагане на намалена финансова корекция или приключване поради наложена плоска финансова корекция (ПФК) следва да бъдат регистрирани служебни искания за плащане, с които задържаната /неверифицирана/ сума да бъде верифицирана и платена на бене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 цел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коряване на процеса на верифик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 осигуряване ритмичност на плащанията към бенефициентите, УО на ОПРР въведе нов подход, който предвижда „частична“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ерифика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 окончателните искания за плащане, а именно процедиране на искането за окончателно плащане при наличие на активни сигнали със съмнения за нередности по някои от договорите по проекта, чрез неверифициране на разходи във връзка с тези сигн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C807-3F36-4AE9-B889-AAFFDB17B22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идно от таблиц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от началото на оперативната програма досега, най-висока е стойността на наложените финансови корекции по първа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лизо 55 млн. лв., следвана от втора приоритетна ос -16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От 2011 г. стойността на финансовите корекции по първа ос е с най-голямо съотношение в общо наложените финансови ко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ез 2014 г. рязко нарастват финансовите корекции, което е вследствие на предприетите мерки за подобряване на системите за управление и контрол и актуализираните процедури и контролни листове за осъществяване на предварителен и последващ контрол при възлагане на обществени поръчки - влезли в сила от 01.07.201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я на 2014г. Одитният орган ИА „ОСЕС“ извърши два тематични системни одита, при които провери адекватността и ефективността на прилаганите от УО процедури за контрол върху обществени поръчки. Заключението на Одитния орган в резултат на извършените тематични системни одити е, че УО е предприел всички необходими действия за подобряване на системите за управление и контрол и за осигуряване на ефективност на процедурите по верификация на разходи от обществени поръ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 последно място, в доклада е посочено, че отчитайки оценката на СУК, установеното ниво на грешка в сертифицираните през 2013г. разходи и предприетите адекватни действия от УО по осчетоводяване на всички финансови корекции от извършената повторна верификация на разходите по договори за обществени поръчки, ИА „ОСЕС“  категоризира цялостната оценка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К на ОПРР на ниво 2 „Работи, но са необходими някои подобрения“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ето съответства на високото ниво на сигурно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Графиката ясно показва развитието (тренда) на наложените финансови корекции през годините, където отново е видно рязкото увеличение в размера на наложените финансови корекции през 2014 г. – 31 млн. лв. в сравнение с 2013 г. (10,2 млн. л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чакванията за 2015 г. са за лек спад (-15%) в размера на наложените финансови корекции спрямо 2014 г., вследствие на регулярно провеждани от УО семинари и обучения, както на бенефициентите, така и на своите служители по верификация. Целта на обученията е да запознаят бенефициенти и служители с добрите практики и констатираните грешки при възлагане на обществени поръчки, както и предприемането на превантивни действия за недопускане на нарушения. Не на последно място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во с цел засилване на превенцията, на интернет сайта на ОПРР са публикувани „Допълнителни указания към бенефициентите относно идентифицирани нарушения, допускани от бенефициентите на ОПРР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убликувани 48 схеми за предоставяне на БФП на обща стойност 3,131 млрд. лв. или 100 % от бюджета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Общ размер на плащанията по договори –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,3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3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  млрд.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лв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.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или 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7</a:t>
            </a:r>
            <a:r>
              <a:rPr b="0" lang="bg-BG" sz="900" spc="-1" strike="noStrike">
                <a:solidFill>
                  <a:srgbClr val="800000"/>
                </a:solidFill>
                <a:latin typeface="Calibri"/>
              </a:rPr>
              <a:t>2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размера на договорираните средства и 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7</a:t>
            </a:r>
            <a:r>
              <a:rPr b="0" lang="bg-BG" sz="900" spc="-1" strike="noStrike">
                <a:solidFill>
                  <a:srgbClr val="800000"/>
                </a:solidFill>
                <a:latin typeface="Calibri"/>
              </a:rPr>
              <a:t>5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бюджета на ОПР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Към края на 201</a:t>
            </a: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4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г. очакван размер на плащанията – 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2,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4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65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 млрд.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лв.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или </a:t>
            </a:r>
            <a:r>
              <a:rPr b="0" lang="bg-BG" sz="900" spc="-1" strike="noStrike">
                <a:solidFill>
                  <a:srgbClr val="800000"/>
                </a:solidFill>
                <a:latin typeface="Calibri"/>
              </a:rPr>
              <a:t>7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5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%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от размера на договорените средства и 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79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бюджета на ОПРР</a:t>
            </a:r>
            <a:r>
              <a:rPr b="0" lang="bg-BG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плащанията спрямо бюджета на програмат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договорени средства спрямо бюджета на програмат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плащанията спрямо договорени средства по програ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Обща стойност на сертифицираните разходи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03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.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6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.2015 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845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ФРР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и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62,09 %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от бюджета на ОП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Прогноза за сертифицирани разходи към 31.12.2015 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1 246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млн. евро – ЕФР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Прогноза за сертифицирани разходи към 30.04.2016 г.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1 328 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– ЕФРР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 или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97,57 % от бюджета на програмата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Очакван риск от неусвояване на средства по програмата -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33 млн. евро – ЕФР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Изпълнение на ОПРР в Лот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РР – в ев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Договорени       Верифиц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Сертифицир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4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4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36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2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2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7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65000" y="4211280"/>
            <a:ext cx="58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Инициативат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се прилага в България с подкрепа на средства от ОПРР предоставени под формата на нисколихвени кредити, вместо чрез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БФП. Въпреки че инициативат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стартира на сравнително късен етап от изпълнението на програмата - едва през 2010 година, до момента е постигнат съществен напредък при прилагането на тази иновативна форма на подкреп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Средствата по JESSICA са насочени към развитие на градската среда, рехабилитация на индустриални зони, инвестиции в здравна, културна, спортна инфраструктура и др. Към 30.04.2015 г. двата фонда са </a:t>
            </a:r>
            <a:r>
              <a:rPr b="0" lang="bg-BG" sz="900" spc="-1" strike="noStrike" u="sng">
                <a:solidFill>
                  <a:srgbClr val="ffff00"/>
                </a:solidFill>
                <a:uFillTx/>
                <a:latin typeface="Calibri"/>
              </a:rPr>
              <a:t>подписали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договори за финансиране н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1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проекта за градско развитие на обща стойност 1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87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, от които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1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8 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млн. лв. по ОПРР,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78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 – съфинансиране от страна на фондовия мениджър и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7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 собствен капитал на проектните инициатори.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E8FC-D907-448C-B04D-EC2F3D3F392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одкрепа за градския транспорт в големите град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рамките на Приоритетна ос 1 „Устойчиво и интегрирано градско развитие”, Операция 1.5 „Системи за устойчив градски транспорт” по Оперативна програма „Регионално развитие”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а предвиден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403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за развитието на интегриран градски транспорт в 7-те големи града на страната – София, Бургас, Варна, Пловдив, Плевен,  Стара Загора и Русе. Акцентира се върху създаване на по-ефективен и бърз градски транспорт с по-малко потребление на енергия, изграждане на по-достъпна вторична инфраструктура на обществените транспортни мрежи и въвеждане на природосъобразни видове градски транспор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Община Бург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ият размер възлиза н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31 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от които: безвъзмездна финансова помощ -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01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30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собствен принос на Община Бургас. Договорът за предоставяне на безвъзмездна финансова помощ е сключен на 26 ноември 2010 г. със срок на продължителност до юни 2016 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 са доставени: 28 бр. дизелови съчленени автобуси  и 39 бр. метанови автобуса, които са в експлоатация; в процес на реконструкция и разширение са терминал „Меден Рудник“ и прилежаща територия,   изграждат се: Бърза автобусна линия, терминали и система от велосипедни алеи Етап І и Етап ІІ, както и  четири пешеходни надле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процес на въвеждане в експлоатация са реконструираните автобусно депо, работилница, дизел и метан станция и новоизградената централна автобусна спирка. Предстои публикуване на процедура за избор на изпълнител за извършване на проучвания за бъдещи инвестиции, които да надградят постигнатите резултати.  Подписан е договор за обществена услуга между „БУРГАСБУС“ ЕООД и Община Бургас в съответствие с изискванията на Регламент 1370/2007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С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ият размер възлиза н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22 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от които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98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безвъзмездна финансова помощ 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25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собствен принос на Столична община. Предстои подписване на допълнително споразумение към ДБФП с ревизиран обхват на проекта, като новата обща стойност на проекта е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90,7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от които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78,3 млн. лв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– безвъзмездна финансова помощ 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2,4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собствен принос на Столична общ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говорът за предоставяне на безвъзмездна финансова помощ е сключен на 23 август 2011 г.. Към 27.05.2015 г. са доставени 50 бр. нови нископодови съчленени тролейбуса, които са в експлоатация, и е приключил етап 1 от реконструкцията на трамваен релсов път, контактна и кабелна мрежа по бул.”България”. Доставени и въведени в експлоатация са  600 бр. нови Електронни информационни табла. Подписан е договор за доставка и монтаж на Интелигентна система за управление на т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стои изпращане на апликационната форма и подкрепящите документи до ЕК за одобрение на редуцирания обхват на проекта. и преобразуването му от голям в неголям. На 22.01.2015 г. с решение на Столичен общински съвет е дадено съгласие за прекратяване на процедурата за избор на изпълнител за „Изграждане на нова трамвайна линия Семинарията – Дървеница“ и отпадане на компонента от обхвата на  проекта поради обжалването на плана за регулация на новото трамвайно трасе и несъгласието на местната общественост с реализацията на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писан е договор за обществена услуга между Център за градска мобилност и Столична община в съответствие с изискванията на Регламент 1370/200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и за интегриран градски транспорт в петте големи гр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з юли и август 2012 г. са подписани договори с общините: Варна, Плевен, Пловдив, Русе и Стара Загора.  Общият размер на проектите възлиза н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125,9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от които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12,5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безвъзмездна финансова помощ. Подписани са договори за обществена услуга между „Тролейбусен транспорт“ ЕООД Плевен и община Плевен, както и между „Тролейбусни превози“ ЕООД и община Стара Загора в съответствие с изискванията на Регламент 1370/200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Ва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говорът за предоставяне на безвъзмездна финансова помощ е сключен на 9 юли 2012 г. Общият му размер възлиза н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114 млн. лв.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 които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91 млн. лв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– безвъзмездна финансова помощ и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23 млн. лв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средства на общината, като след процедура по анексиране общата стойност на проекта възлиза на 107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а доставени 70 бр. нови нископодови автобуса, които са в експлоатация. Подписан е договор за обществена услуга (ДОУ) между община Варна и вътрешния оператор и партньор по проекта "Градски транспорт" 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и са всички основни договори с изпълнители за: изграждане на коридор за бърза автобусна линия (BRT); съоръжения за колоездене; подобрения на 3 крайни спирки; мерки за подобряване на достъпността; предимство на масов градски обществен транспорт (МГОТ) на кръстовища; система за информация на пътниците в реално време; център за контрол на МГОТ; автоматизирана билетна система; строителен надзор за  всички компоненти по проекта. Предстои изготвянето на инвестиционни проекти, които ще бъдат представени за съгласуване от УО от гледна точка на съответствието им с приложимото законодателство и одобрените Д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Пловд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 са сключени всички договори с изпълнители: изграждане на 48 км. велоалеи; внедряване и експлоатация на системата за управление на градския транспорт, изграждане и внедряване на Център за управление на трафика; Проучване за планиране на градския транспор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Стара Заг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 предстои въвеждането в експлоатация на обектите от изпълнените договори за: СМР по градска пътна мрежа (вкл. велоалеи и рампи за хора с увреждания); Ремонт и рехабилитация на контактна мрежа и изграждане на ВКМ; ремонт и рехабилитация на токоизправителни станции, изграждане на информационна система (телемат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пълнен е договорът за ремонт и рехабилитация на тролейбусно депо и доставка на оборудване за депо. Предстои доставка на 14 броя нови нископодови тролейб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Плевен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 се изпълняват сключените договори за процедури на инженеринг за следните компоненти: Облагородяване на спирките; Изграждане на велоалеи; Изграждане на тролейбусно депо; Рехабилитация и реконструкция на Въздушно контактна мрежа. Приключени и въведени в експлоатация са обектите от следните договори: Изграждане на Система за управление и контрол на МГОТ и Интелигентна система за управление на т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Ру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са сключени договори с изпълнители за: Реконструкция на кръгово кръстовище, изграждане на подлез и обособяване на бус ленти и лента за паркиране - бул. Цар Освободител - проектиране, СМР, авторски надзор;  Изграждане на подлез при ж/п линията за свързване на кв. Родина с центъра  проектиране, СМР, авторски надзор; Изграждане на система за контрол и управление на обществения транспорт (СКУОТ) - СМР и тролейбусна инфраструктура“; Подобряване достъпността до ОГТ в кв. Чародейка; Подобряване достъпа до спирките на ОГТ и безопасността за пешеходци и велосипедисти на бул. България - проектиране, СМР, авторски надзор; Оборудване на електронна  система за таксуване и на система за контрол и управление на обществения транспорт (СКУ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отвен е план за изграждане на мрежа от велоалеи, проведени са обществени обсъждания за избор на трасета. Обявена е процедура за избор на изпълнител за  „Изграждане на велоалеи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3AB-7E4E-466E-9AFF-727DD0EB5C7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 брой приключени проекти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8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новени/реконстру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образователна, социална и културн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чил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4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тски ясли и гради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- 3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8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културнат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6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9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5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читалища 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1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 на държавни културни институци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3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училища в сферата на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културат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теат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3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опе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4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музея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1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концертна зал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оциалн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80 ( 4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оциалн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нституци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3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юра по труд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новени/реконстру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университети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4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798-71F5-4BA8-8C17-5D585946749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крепа з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институционализация на децата в България –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градени 108 ЦНСТ, 16 изградени, обзаведени и оборудвани защитени жилища и 5 бр. ремонтирани и оборудвани защитени жилищ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хабилитира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конструиран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път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 02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обрена градска 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елени пл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тски площадк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млн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.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селение, облагодетелствано от подобрената градска 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млн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зграде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хабилитира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пешеходни зо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велоалеи, тротоа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2732-4B6B-4696-AA7A-97F37CF8C71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D8B-10C0-4B83-A74B-04A953A4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9CB-1EAB-4E02-A2A6-DB151EEB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030-C4B5-41EF-A4DF-B19E086B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B00-1F0E-47F2-B21F-D2312B3A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0CCF-1C60-4ACA-8996-306D8931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65D4-8402-456E-AB18-1E10CB34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26A1-872C-4CBB-B29C-D9653BB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0118-E750-4A70-B185-A58FA8FB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100C-AB26-41EC-A4CA-A56C14A6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4158-56C8-4247-84B1-597C7178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D936-0A4E-43E1-B054-44AEA32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1B8-D488-4B6F-A944-D4A2C7A9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7C4C-BF90-4F9D-A9C9-B28B63A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C1E1-9364-4234-A46F-CF9B256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2EA2-F9FD-441E-B300-D60081B1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7DD8-A6BC-42EF-B185-B6A64DE0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A180-8B60-4043-92B6-E42464E4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2FD1-6CB5-427D-BAD6-BF451503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9AC1-183A-48E7-9A1C-3FD5D83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1231D-7197-41C6-BBBC-1DB9AD61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ECCF-026C-4DF7-85B9-72B90724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0AA1-A837-447F-AF62-9F90D4F8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F01-C5CC-4DBF-8AA4-2204B4A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0A41-67D9-4ED4-AC74-FE9CEC65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3DD5-1116-49BD-AD72-19BE49D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047C-1AF7-4F09-AE9D-B9F850D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BED5-33C6-4715-894F-9F71968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33F9-7A9F-4C05-A1E9-5CD0805D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4109-563D-42C7-99C8-8AC0DF2D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5AE1-4C18-41FF-8997-9159AFE7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10BD-3CAF-439B-8251-F308DB80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D2E9-46CD-4F9B-9F08-CC2A6987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9649-58E0-4A16-B5DB-8AD5B7A3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9A0-8764-42C5-BC92-2A845EE1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54F4-BCA4-4B62-9483-2CF67E73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96CB3-5F5C-4399-B902-EE363658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AF75-0D27-429D-A78E-6EA68CA8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0391-ACBE-4BA1-B0A8-267DF4B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D708-361A-47A5-87EB-B37AAAD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E9C3-3273-41C3-AFCA-DE24D1CC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7193-DDEB-49EC-97E1-B4552BF9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3F94-044D-4D23-881C-CD3E23B4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1CCD7-313B-462B-B3C0-196E7C55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802A2-147A-40E3-A97F-3DCEAB8C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6F2-0DD9-4386-85EC-D25BEAF2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F10B-F14C-4FD0-88D6-E0750648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D2E5-0ED9-4CE6-A61E-8071D774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6AA49-2A0D-4A9E-AE6D-268EC29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FB94-24E9-408A-8225-C228FDA4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4DDEF-14B0-412E-8EC3-532394DA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96F91-EC4B-4F95-95DA-57BB1760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F9D66-17F2-40C8-83C5-FABD28D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B950B-13F4-4906-BD34-527555A7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25E5B-08E1-4C8C-99E0-9C9E82A1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0DBE-3111-41FB-8495-2D702C85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CA3-2CE2-4EF7-9FD2-B59514F2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ABC5-260E-4912-8B64-588FF6EA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5CB8B-A44B-4FE2-AE07-AE71C1B6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00F1E-E8FC-4CAB-8663-859F6A83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2CCE2-56E7-44C3-B183-3B12BC8A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329F6-0D18-4675-92A0-83F7F9B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E2625-E6C0-4D66-8545-8085AD5D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C38A-AE25-4ADD-B97B-C9D66FA2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EDDF5-B099-4AD2-860A-F68D1E84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4325F-34D3-4854-8FAF-071884C1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3EDE-F807-4590-A817-6112580A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FE2-D5E6-4F29-9658-213EAE3A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BB06-4797-4F9C-8D42-7AB8ACD8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75E2-54B8-4564-9BA9-FA912991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7E922-78E4-4615-A97A-6338C7E8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0C026-A201-4A51-8A1E-0E505EFB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AEE5A-DE85-4209-96C9-EBF8C9BB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9C343-46D0-4BC5-B804-81F8488E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3D390-EC7C-4437-9B97-148146F9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91563-3D8F-4762-A301-FA3F50C1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DA496-F9E7-475A-9258-40BC1D41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1E97-F532-42F3-9063-B2DC579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FFA-FA5F-471F-8E5E-FDE9473B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A5359-6856-42D6-B0CB-7AA8BE1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9E8D8-5593-4C3C-A14B-A87E8E20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936C-DBC5-442F-B33A-D0A3523B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6200-F1BB-40CA-9F75-776A87C7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4EBF-8C2C-42DD-884B-45A5D075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4EF-D5CF-463B-B0C8-B7AED71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02CE-9EA1-4A54-B335-CCFE1F698F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43C3-6894-4CA7-98A9-BF6194372D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A2F5-BE82-4F17-83E2-DA6A531DCD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01BA-F61B-4B5E-B658-D078356549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FBA9-B96E-461D-B054-C962012E22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A830-D267-4123-A367-A7D3935C62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9A95-AC27-474F-9769-A8ECB46891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comments" Target="../comments/comment2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comments" Target="../comments/commen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14400" y="465300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Аналитичен прегле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 напредък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егионално развитие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2007-2013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104760" y="5987880"/>
            <a:ext cx="63230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Шестнадесе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на КН на ОПРР 2007-2013 г. 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50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обрени туристически обекти/атра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9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дени иновативни културни съб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сетители на иновативните културни събит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8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Линейни метри 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ъоръжения за превенция от навод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х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ил. л.м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ължина на почистените речни корита и дерет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7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 л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лощ на укрепени свлачищ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,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лагодетелствано от укрепени свлачищ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24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ду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4" descr="\\oprd-nfs\DG_PRD\-=Public=-\-= Photos =-\за календар 2015\Допълнителни\остров Света Анастасия - Бургас\вариант 1\1-2aerial_15764d.jpg"/>
          <p:cNvPicPr/>
          <p:nvPr/>
        </p:nvPicPr>
        <p:blipFill>
          <a:blip r:embed="rId3"/>
          <a:stretch/>
        </p:blipFill>
        <p:spPr>
          <a:xfrm>
            <a:off x="4951440" y="1293840"/>
            <a:ext cx="4192560" cy="24192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2"/>
          <p:cNvSpPr/>
          <p:nvPr/>
        </p:nvSpPr>
        <p:spPr>
          <a:xfrm>
            <a:off x="5219640" y="3344760"/>
            <a:ext cx="3452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в Св. Анастасия – Бург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5" descr="\\oprd-nfs\DG_PRD\-=Public=-\-= Photos =-\1_snimki+info_proekti_shemi_PRR\1.4-06\ЮЗР+\44. Община Сандански река\ENCHO_FOTO_0052.JPG"/>
          <p:cNvPicPr/>
          <p:nvPr/>
        </p:nvPicPr>
        <p:blipFill>
          <a:blip r:embed="rId4"/>
          <a:stretch/>
        </p:blipFill>
        <p:spPr>
          <a:xfrm>
            <a:off x="4951440" y="3713040"/>
            <a:ext cx="4192560" cy="23018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2"/>
          <p:cNvSpPr/>
          <p:nvPr/>
        </p:nvSpPr>
        <p:spPr>
          <a:xfrm>
            <a:off x="6156360" y="5599080"/>
            <a:ext cx="32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бщина Сандан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1187280" y="388800"/>
            <a:ext cx="669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Действия за информация и публич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22320" y="1490760"/>
            <a:ext cx="9050400" cy="4430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130320" y="1557360"/>
            <a:ext cx="472896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Проведено обучение на бенефициенти в гр. Стара Загора във връзка с изменението на Наръчника за управление и изпълнение на ОПРР 2007 –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ведени работни срещи и обучения на Управляващия орган на ОПРР и бенефициенти за законосъобразно провеждане на обществените поръ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924360" y="4560840"/>
            <a:ext cx="51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80000"/>
              </a:lnSpc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Изготвени рекламни и информационни материали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за изпълнението на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- Осигуряване на достъпност, публичност и прозрачност чрез електронни и печатни ме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4" descr="\\oprd-nfs\DG_PRD 2\-=Public=-\-=Photos=-\събития ОПРР 2015\14-15.04.2015 работна среща ЗОРН\IMG_9580.JPG"/>
          <p:cNvPicPr/>
          <p:nvPr/>
        </p:nvPicPr>
        <p:blipFill>
          <a:blip r:embed="rId4"/>
          <a:stretch/>
        </p:blipFill>
        <p:spPr>
          <a:xfrm>
            <a:off x="654120" y="4005360"/>
            <a:ext cx="2806560" cy="1782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5" descr="\\oprd-nfs\DG_PRD 2\-=Public=-\-=Photos=-\събития ОПРР 2015\20.02.2015 Работна среща с бенеф. Ст.Загора\IMG_9382.JPG"/>
          <p:cNvPicPr/>
          <p:nvPr/>
        </p:nvPicPr>
        <p:blipFill>
          <a:blip r:embed="rId5"/>
          <a:stretch/>
        </p:blipFill>
        <p:spPr>
          <a:xfrm>
            <a:off x="5005440" y="2565360"/>
            <a:ext cx="2994120" cy="1995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\\oprd-nfs\DG_PRD 2\-=Public=-\-=Photos=-\събития ОПРР 2015\20.02.2015 Работна среща с бенеф. Ст.Загора\IMG_9373.JPG"/>
          <p:cNvPicPr/>
          <p:nvPr/>
        </p:nvPicPr>
        <p:blipFill>
          <a:blip r:embed="rId6"/>
          <a:stretch/>
        </p:blipFill>
        <p:spPr>
          <a:xfrm>
            <a:off x="5940360" y="1490760"/>
            <a:ext cx="3029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1152360" y="422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едизвикателства при приключван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перативнат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135000" y="1557360"/>
            <a:ext cx="87850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УО на ОПРР предприе следните мерки за ускоряване изпълнението на ОПР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Извършва се регулярно актуализиране на вътрешния анализ относно изпълнението на ОПРР 2007-2013 г. на проектно ниво, с цел определяне на степента на риск за всеки конкретен проек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Провежда се писмена кореспонденция с бенефициентите, осъществят се  срещи с бенефициентите и се изготвят индивидуални планове за 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В резултат от предприетите действия от страна на УО, броят на високо рисковите проекти към 15.05.2015 г. е намален от 36 бр. на обща стойност 532 млн. лв. до 32 бр. на обща стойност 519 млн. лв., т.е. 39% oт общия обем договори в изпълнение (156 бр. на стойност 1,3 млрд.лв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270000" y="1844640"/>
            <a:ext cx="440208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новни причини, определящи проектите с  висок риск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Липса на сключени договори с </a:t>
            </a:r>
            <a:r>
              <a:rPr b="0" sz="1800" spc="-1" strike="noStrike">
                <a:solidFill>
                  <a:srgbClr val="000036"/>
                </a:solidFill>
                <a:latin typeface="Arial"/>
              </a:rPr>
              <a:t>изпълнители</a:t>
            </a: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 по </a:t>
            </a: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основните</a:t>
            </a: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 дейности повече от 10 месеца след сключване на договора за БФ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Спряна основна дейност по договора; не се изпълня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Финансово усвояване - процент на изплатени средства под 3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Други причини, застрашаващи изпълнението на крайните срокове на договора за БФ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Chart 11" descr=""/>
          <p:cNvPicPr/>
          <p:nvPr/>
        </p:nvPicPr>
        <p:blipFill>
          <a:blip r:embed="rId3"/>
          <a:stretch/>
        </p:blipFill>
        <p:spPr>
          <a:xfrm>
            <a:off x="4737240" y="1793880"/>
            <a:ext cx="4208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539640" y="14414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иран вътрешен анализ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2015 г.  относно изпълнението на ОПРР на проектно н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Chart 10" descr=""/>
          <p:cNvPicPr/>
          <p:nvPr/>
        </p:nvPicPr>
        <p:blipFill>
          <a:blip r:embed="rId3"/>
          <a:stretch/>
        </p:blipFill>
        <p:spPr>
          <a:xfrm>
            <a:off x="646200" y="2154240"/>
            <a:ext cx="78516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152360" y="422280"/>
            <a:ext cx="68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план за действие за приключване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а ОПРР 2007-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00160" y="1484280"/>
          <a:ext cx="8694720" cy="4381560"/>
        </p:xfrm>
        <a:graphic>
          <a:graphicData uri="http://schemas.openxmlformats.org/drawingml/2006/table">
            <a:tbl>
              <a:tblPr/>
              <a:tblGrid>
                <a:gridCol w="4733640"/>
                <a:gridCol w="3961080"/>
              </a:tblGrid>
              <a:tr h="175320">
                <a:tc>
                  <a:txBody>
                    <a:bodyPr lIns="20520" rIns="20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и и задач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тус на изпълнение към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5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цел гарантиране изпълнение на всички дейности и извършване на окончателни плащания по всички договора за предоставяне на БФП в рамките на установените крайни срокове, както и осигуряване на успешно приключване на програмния период 2007 – 2013, УО предприе следните действия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ждане на писмена кореспонденция с бенефициентите с идентифицирани високорискови проекти. Бенефициентите бяха уведомени, че след извършен анализ на проектно ниво, УО е идентифицирал проекти, за които своевременното изпълнение на заложените дейности по съответните ДБФП е поставено под риск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ждане на срещи с бенефициентите, чийто проекти са идентифицирани като високорискови, подготовка на индивидуални планове за действия, ускоряване на изпълнението на проектните дейности и регулярно подаване на искания за плащан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 вътрешен риск анализ – март 2015 г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а писмена кореспонденция с бенефициентите с идентифицирани високорискови проект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 срещи с бенефициентите с идентифицирани високорискови проекти – 27.04.2015 – 12.05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ени индивидуални планове за действия с препоръки към бенефициентите с конкретни крайни срокове за изпълн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уализиране на анализа на риска – 15 май 2015 г. - броят на високорисковите проекти е намалял от 36 бр. (на стойност 532 млн. лв.) на 32 бр. (519 млн. лв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52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ане на одобрените резервни проекти на конкретни бенефициенти с възможност за физическо приключване до 31.12.2015 т. УО на ОПРР ще извърш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телен анализ на спестените ресурси по програмата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телен анализ за напредъка на процедурите за избор на изпълнители с оглед иницииране на предложение до Комитета за наблюдение за окончателна приоритизация на списък с резервни проек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ане на одобрените резервни проекти на конкретни бенефициенти - 31.12.2015 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на спестения финансов ресурс и анализ на напредъка на процедурите за избор на изпълнители  по отношение на списъка с резервните проект с оглед иницииране на предложение до 16-тия Комитет за наблюдение, които ще се проведе на 5 юни 2015 г., за наддоговаряне на бюджета на програма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разпределение на налични ресур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разпределение на налични ресур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писани договори за резервни проекти, в съответствие със спестените финансови ресурс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ед КН ще бъдат сключени/анексирани договори по проектни от резервните списъц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О на ОПРР предвижда изпращане на последна промяна на програм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О на ОПРР предвижда изпращане на последна промяна на програм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"/>
          <p:cNvSpPr/>
          <p:nvPr/>
        </p:nvSpPr>
        <p:spPr>
          <a:xfrm>
            <a:off x="93600" y="665316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1189080" y="252360"/>
            <a:ext cx="67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едизвикателства при приключване на Оперативната програ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179280" y="1628640"/>
            <a:ext cx="88934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С цел  ускоряване процеса на верификация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осигуряване ритмичност на плащанията към бенефициентите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и успешно приключване на ОПРР 2007-2013 г., УО на ОПРР предприе следните мер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Регистриране и верификация на служебни искания за междинно плащ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Частична“ верификация на искания за окончателно плащ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Своевременна обработка на сигнали за нередности при подадени искания за междинни и окончателни плащ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г. (прогноза) в лева 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3560" y="4436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осочените стойности на финансовите корекции не включват прекратените нередности както и наложени плоски финансови корекции (ПФК). </a:t>
            </a:r>
            <a:br>
              <a:rPr sz="1200"/>
            </a:br>
            <a:br>
              <a:rPr sz="1200"/>
            </a:b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тойността на ПФК е в размер на приблизително 109,4 млн. л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ърху всички сертифицирани и бъдещи разходи, подлежащи на сертификация по засегнатите договори по Приоритетни оси 1 и 3.</a:t>
            </a:r>
            <a:br>
              <a:rPr sz="1200"/>
            </a:br>
            <a:br>
              <a:rPr sz="1200"/>
            </a:b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осочените стойности включват индивидуални финансови корекции (по извадките и чл. 10), които ще се поемат от бюджета на МРРБ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3"/>
          <a:stretch/>
        </p:blipFill>
        <p:spPr>
          <a:xfrm>
            <a:off x="592200" y="1773360"/>
            <a:ext cx="7896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(прогноза) в лева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457200" y="1916280"/>
            <a:ext cx="822960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г. (прогноза) в лева (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4880" y="5119560"/>
          <a:ext cx="6278760" cy="685800"/>
        </p:xfrm>
        <a:graphic>
          <a:graphicData uri="http://schemas.openxmlformats.org/drawingml/2006/table">
            <a:tbl>
              <a:tblPr/>
              <a:tblGrid>
                <a:gridCol w="6278760"/>
              </a:tblGrid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екратените нередности не са включени в анализ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За 2008 г. всички регистрирани нередности за прекратени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За 2009 г. има само две нередности на обща стойност 149 744 л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2" descr=""/>
          <p:cNvPicPr/>
          <p:nvPr/>
        </p:nvPicPr>
        <p:blipFill>
          <a:blip r:embed="rId3"/>
          <a:stretch/>
        </p:blipFill>
        <p:spPr>
          <a:xfrm>
            <a:off x="460440" y="1700280"/>
            <a:ext cx="822960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1332000" y="95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03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0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2015 г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4560" y="1412640"/>
            <a:ext cx="8859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Публикуван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8 схем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за предоставяне на БФП на обща стойност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3,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31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10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(3,131 млрд.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лв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брой сключени договор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 10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с общ размер на предоставената БФП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3,21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млрд. 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03%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плащанията по договори –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,545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 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79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размера на договорираните средства и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1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% 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сертифицираните разходи по договори –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1 94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 млрд. лв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0,44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размера на договорираните средства 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2,09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Финансово изпълнение на ОПРР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към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03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0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2015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8715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865080" y="158760"/>
            <a:ext cx="75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800000"/>
                </a:solidFill>
                <a:latin typeface="Arial"/>
              </a:rPr>
              <a:t>Прогноза за финансово изпълнение              към 30.04.2016 г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4560" y="1441080"/>
            <a:ext cx="88599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Обща стойност на сертифицираните разходи към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03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.2015 г. –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845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62,09%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Прогноза за сертифицирани разходи към 31.12.2015 г. – 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1 246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млн. евро – ЕФ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Прогноза за сертифицирани разходи към 30.04.2016 г. –  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1 328 млн.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– ЕФРР</a:t>
            </a:r>
            <a:r>
              <a:rPr b="0" lang="bg-BG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ли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97,57 % от бюджета на програмата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Очакван риск от неусвояване на средства по програмата -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33 млн. евро – ЕФ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1152360" y="422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ОПРР по приоритетни оси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LOTHAR system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– ЕФРР ев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34920" y="1413000"/>
          <a:ext cx="9056520" cy="44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1413000"/>
                    <a:ext cx="90565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189080" y="174600"/>
            <a:ext cx="6838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</a:rPr>
              <a:t>Постигнат напредък от Фондовете за градско развитие по 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JES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108000" y="1413000"/>
            <a:ext cx="5040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ойност на сключени договори за финансиране на проекти за градск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 за устойчиво градско развитие на София (ФУГРС) ЕАД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а с общ бюджет 78,3 млн. лв., в т.ч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8 млн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9 млн. лв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съфинансиране от Фо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28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л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о съфинансиране от проектните иници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гионален фонд за градско развитие (РФГР) АД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а с общ бюджет 109 млн. лв., в т.ч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27 млн. лв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3,6 млн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финансиране от Фон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8,3 мл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о съфинансиране от проектните иници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Chart 15" descr=""/>
          <p:cNvPicPr/>
          <p:nvPr/>
        </p:nvPicPr>
        <p:blipFill>
          <a:blip r:embed="rId3"/>
          <a:stretch/>
        </p:blipFill>
        <p:spPr>
          <a:xfrm>
            <a:off x="4808520" y="1380960"/>
            <a:ext cx="4278240" cy="289116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"/>
          <p:cNvSpPr/>
          <p:nvPr/>
        </p:nvSpPr>
        <p:spPr>
          <a:xfrm>
            <a:off x="6084720" y="4229280"/>
            <a:ext cx="28800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Дял на договорените средства по ОПРР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ФУГРС ЕАД: </a:t>
            </a:r>
            <a:r>
              <a:rPr b="1" lang="bg-BG" sz="1500" spc="-1" strike="noStrike">
                <a:solidFill>
                  <a:srgbClr val="a50021"/>
                </a:solidFill>
                <a:latin typeface="Arial"/>
              </a:rPr>
              <a:t>104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РФГР АД: </a:t>
            </a:r>
            <a:r>
              <a:rPr b="1" lang="bg-BG" sz="1500" spc="-1" strike="noStrike">
                <a:solidFill>
                  <a:srgbClr val="a50021"/>
                </a:solidFill>
                <a:latin typeface="Arial"/>
              </a:rPr>
              <a:t>76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Процент разплащани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ФУГРС ЕАД: </a:t>
            </a:r>
            <a:r>
              <a:rPr b="1" lang="bg-BG" sz="1500" spc="-1" strike="noStrike">
                <a:solidFill>
                  <a:srgbClr val="a50021"/>
                </a:solidFill>
                <a:latin typeface="Arial"/>
              </a:rPr>
              <a:t>43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РФГР АД: </a:t>
            </a:r>
            <a:r>
              <a:rPr b="1" lang="bg-BG" sz="1500" spc="-1" strike="noStrike">
                <a:solidFill>
                  <a:srgbClr val="a50021"/>
                </a:solidFill>
                <a:latin typeface="Arial"/>
              </a:rPr>
              <a:t>47,0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Arrow 2"/>
          <p:cNvSpPr/>
          <p:nvPr/>
        </p:nvSpPr>
        <p:spPr>
          <a:xfrm>
            <a:off x="5651640" y="4292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ight Arrow 16"/>
          <p:cNvSpPr/>
          <p:nvPr/>
        </p:nvSpPr>
        <p:spPr>
          <a:xfrm>
            <a:off x="5651640" y="5157720"/>
            <a:ext cx="360360" cy="358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1189080" y="2376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Успешни примери на ключови инвест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270000" y="1859040"/>
            <a:ext cx="4589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Интегриран градск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Рехабилитация/реконструкция на второкласна и третокласна пътна м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Деинституционализация на 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децата в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Изграждане на социални жилища за маргинализирани групи, вкл. 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Инициатива 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JES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5292720" y="3456000"/>
            <a:ext cx="3703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66"/>
                </a:solidFill>
                <a:latin typeface="Arial"/>
              </a:rPr>
              <a:t>Централна автобусна спирка – гр. Бурга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1" descr="C:\Users\DurmushZ\Desktop\20140715_095853.jpg"/>
          <p:cNvPicPr/>
          <p:nvPr/>
        </p:nvPicPr>
        <p:blipFill>
          <a:blip r:embed="rId3"/>
          <a:stretch/>
        </p:blipFill>
        <p:spPr>
          <a:xfrm>
            <a:off x="5367240" y="3716280"/>
            <a:ext cx="3483000" cy="19130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3"/>
          <p:cNvSpPr/>
          <p:nvPr/>
        </p:nvSpPr>
        <p:spPr>
          <a:xfrm>
            <a:off x="5292720" y="5591160"/>
            <a:ext cx="3732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66"/>
                </a:solidFill>
                <a:latin typeface="Arial"/>
              </a:rPr>
              <a:t>Електронни информационни табла и реконструкция на трамваен релсов  път – гр. Соф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3" descr="C:\Users\DurmushZ\Desktop\38b9100bc4fa3dca91172e865dc93851.jpg"/>
          <p:cNvPicPr/>
          <p:nvPr/>
        </p:nvPicPr>
        <p:blipFill>
          <a:blip r:embed="rId4"/>
          <a:stretch/>
        </p:blipFill>
        <p:spPr>
          <a:xfrm>
            <a:off x="5372280" y="1413000"/>
            <a:ext cx="34826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50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щ брой приключени проекти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823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образователна, социална и култур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020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чилищ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тски ясли и градин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- 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8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културнат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5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читалища 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гради на държавни културни институци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- 3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училища в сферата на културат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театр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3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опер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4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музея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1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концертна зал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циал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80 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4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оциалн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нституци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3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бюра по труд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университети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4" descr="\\oprd-nfs\DG_PRD\-=Public=-\-= Photos =-\1_snimki+info_proekti_shemi_PRR\05-02-2013 Снимки приключили проекти ОПРР\Североизточен район\Ikonomicheski universitet Varna\Читалня - сега.JPG"/>
          <p:cNvPicPr/>
          <p:nvPr/>
        </p:nvPicPr>
        <p:blipFill>
          <a:blip r:embed="rId3"/>
          <a:stretch/>
        </p:blipFill>
        <p:spPr>
          <a:xfrm>
            <a:off x="6877080" y="3805200"/>
            <a:ext cx="2266920" cy="2154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5" descr="\\oprd-nfs\DG_PRD\-=Public=-\-= Photos =-\1_snimki+info_proekti_shemi_PRR\05-02-2013 Снимки приключили проекти ОПРР\Североизточен район\Ikonomicheski universitet Varna\Учебен блок 2 - 1 - сега.JPG"/>
          <p:cNvPicPr/>
          <p:nvPr/>
        </p:nvPicPr>
        <p:blipFill>
          <a:blip r:embed="rId4"/>
          <a:stretch/>
        </p:blipFill>
        <p:spPr>
          <a:xfrm>
            <a:off x="4446720" y="3805200"/>
            <a:ext cx="2430360" cy="21542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859280" y="5597640"/>
            <a:ext cx="40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Икономически университет - Вар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\\oprd-nfs\DG_PRD\-=Public=-\-= Photos =-\1_snimki+info_proekti_shemi_PRR\1.1-05 МК\1.1-05 Rusenska opera\Rousse Opera House 3.JPG"/>
          <p:cNvPicPr/>
          <p:nvPr/>
        </p:nvPicPr>
        <p:blipFill>
          <a:blip r:embed="rId5"/>
          <a:stretch/>
        </p:blipFill>
        <p:spPr>
          <a:xfrm>
            <a:off x="6877080" y="1413000"/>
            <a:ext cx="2266920" cy="23922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4"/>
          <p:cNvSpPr/>
          <p:nvPr/>
        </p:nvSpPr>
        <p:spPr>
          <a:xfrm>
            <a:off x="6877080" y="339876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Опера – гр.Ру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8" descr="\\oprd-nfs\DG_PRD\-=Public=-\-= Photos =-\за календар 2015\Допълнителни\ДЪЛГОПОЛ УЧИЛИЩЕ ОПРР\P4090570.JPG"/>
          <p:cNvPicPr/>
          <p:nvPr/>
        </p:nvPicPr>
        <p:blipFill>
          <a:blip r:embed="rId6"/>
          <a:stretch/>
        </p:blipFill>
        <p:spPr>
          <a:xfrm>
            <a:off x="4446720" y="1413000"/>
            <a:ext cx="2430360" cy="23922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4"/>
          <p:cNvSpPr/>
          <p:nvPr/>
        </p:nvSpPr>
        <p:spPr>
          <a:xfrm>
            <a:off x="4473720" y="3444840"/>
            <a:ext cx="2266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Община Дългоп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50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крепа за деинституционализация на децата в България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изградени 108 ЦНСТ, 16 изградени, обзаведени и оборудвани защитени жилища и 5 бр. ремонтирани и оборудвани защитени жили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конструиран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ътищ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02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м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обрен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елени площ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тски площадк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селение, облагодетелствано от подобренат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.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ешеходни зо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елоалеи, тротоар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5" descr="C:\Users\DimitrovaTs\Pictures\за презентация 15КН\CNST_Petrich_0011.JPG"/>
          <p:cNvPicPr/>
          <p:nvPr/>
        </p:nvPicPr>
        <p:blipFill>
          <a:blip r:embed="rId3"/>
          <a:stretch/>
        </p:blipFill>
        <p:spPr>
          <a:xfrm>
            <a:off x="5076720" y="1341360"/>
            <a:ext cx="4067280" cy="1368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6" descr="\\oprd-nfs\DG_PRD\-=Public=-\-= Photos =-\1_snimki+info_proekti_shemi_PRR\2.1-01 АПИ пътища\ЮЦР\2.1-01 лот 38 апи\DSC_1578.JPG"/>
          <p:cNvPicPr/>
          <p:nvPr/>
        </p:nvPicPr>
        <p:blipFill>
          <a:blip r:embed="rId4"/>
          <a:stretch/>
        </p:blipFill>
        <p:spPr>
          <a:xfrm>
            <a:off x="5076720" y="2709720"/>
            <a:ext cx="4067280" cy="13892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5"/>
          <p:cNvSpPr/>
          <p:nvPr/>
        </p:nvSpPr>
        <p:spPr>
          <a:xfrm>
            <a:off x="5651640" y="375912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Лот 38 – област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5113440" y="234792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ЦНСТ - Петр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7" descr="\\oprd-nfs\DG_PRD\-=Public=-\-= Photos =-\1_snimki+info_proekti_shemi_PRR\1.4-09\СИР\Добрич - гр.парк Св.Георги\New folder\Дч. 5.jpg"/>
          <p:cNvPicPr/>
          <p:nvPr/>
        </p:nvPicPr>
        <p:blipFill>
          <a:blip r:embed="rId5"/>
          <a:stretch/>
        </p:blipFill>
        <p:spPr>
          <a:xfrm>
            <a:off x="5076720" y="4098960"/>
            <a:ext cx="4073760" cy="18511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5"/>
          <p:cNvSpPr/>
          <p:nvPr/>
        </p:nvSpPr>
        <p:spPr>
          <a:xfrm>
            <a:off x="5832360" y="561024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Градска среда - Добр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reta Dobreva Dimitrova</cp:lastModifiedBy>
  <dcterms:modified xsi:type="dcterms:W3CDTF">2015-06-03T12:27:48Z</dcterms:modified>
  <cp:revision>959</cp:revision>
  <dc:subject/>
  <dc:title>Diapositiva 1</dc:title>
</cp:coreProperties>
</file>