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wmf" ContentType="image/x-wmf"/>
  <Override PartName="/ppt/media/image4.jpeg" ContentType="image/jpeg"/>
  <Override PartName="/ppt/media/image3.jpeg" ContentType="image/jpeg"/>
  <Override PartName="/ppt/media/image27.png" ContentType="image/png"/>
  <Override PartName="/ppt/media/image26.jpeg" ContentType="image/jpeg"/>
  <Override PartName="/ppt/media/image19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5.wmf" ContentType="image/x-wmf"/>
  <Override PartName="/ppt/media/image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comments/comment2.xml" ContentType="application/vnd.openxmlformats-officedocument.presentationml.comments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ariya Shamonina" initials="DS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15-06-01T11:56:18.183000000" idx="1">
    <p:pos x="3842" y="317"/>
    <p:text>Да се актуализира към 3.06</p:text>
  </p:cm>
</p:cmLst>
</file>

<file path=ppt/comments/comment3.xml><?xml version="1.0" encoding="utf-8"?>
<p:cmLst xmlns:p="http://schemas.openxmlformats.org/presentationml/2006/main">
  <p:cm authorId="0" dt="2015-06-01T11:56:32.941000000" idx="2">
    <p:pos x="3974" y="530"/>
    <p:text>Да се актуализира към 3.06</p:text>
  </p:cm>
</p:cmLst>
</file>

<file path=ppt/comments/comment4.xml><?xml version="1.0" encoding="utf-8"?>
<p:cmLst xmlns:p="http://schemas.openxmlformats.org/presentationml/2006/main">
  <p:cm authorId="0" dt="2015-06-01T11:57:11.099000000" idx="3">
    <p:pos x="392" y="1319"/>
    <p:text>Да се актуализира към 3.06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944E-28F5-4DD6-B5F4-F9460D1E8933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Брой подобрени туристически обекти/атракции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Брой проведени иновативни културни събит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17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Брой посетители на иновативните културни събития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–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над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9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58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хил.ду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Линейни метри изграден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съоръжения за превенция от наводнения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–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над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1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х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ил.л.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Дължина на почистените речни корита и дерета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над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67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хил.л.м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лощ на укрепени свлачищ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над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1,1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800000"/>
                </a:solidFill>
                <a:latin typeface="Calibri"/>
              </a:rPr>
              <a:t>млн</a:t>
            </a:r>
            <a:r>
              <a:rPr b="0" lang="en-US" sz="1200" spc="-1" strike="noStrike">
                <a:solidFill>
                  <a:srgbClr val="8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кв.м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Население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,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облагодетелствано от укрепени свлачища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–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над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624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хил.ду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171360" indent="-17136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20 февруари 2015 г. в Стара Загора беше проведено обучение на бенефициенти за основните изменения в Наръчника за изпълнение и управление на ОПРР 2007 – 2013 г., свързани със структурните промени в ГД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Р“ и улесняване на процеса на верифик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71360" indent="-17136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оведени са 4 работни срещи и обучения на УО на ОПРР и бенефициенти за законосъобразното провеждане на обществени поръч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71360" indent="-17136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Изготвени са информационни материали за Напредъка и изпълнението на ОПР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71360" indent="-17136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тпечатани са 33 материала в печатни медии за популяризиране на проекти и добри практики на УО на ОПР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C63B-63AF-4170-B6C8-592E15CAC6EC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рая на програмния период 2007 - 2013 г. УО на ОПРР започна подготовката и планирането на процеса на приключване на програмата. Успешното приключване на програмата зависи от изпълнението в срок и с необходимото качество на всички сключени договори за БФ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36"/>
                </a:solidFill>
                <a:latin typeface="Calibri"/>
              </a:rPr>
              <a:t>В тази връзка се извършва регулярно актуализиране на вътрешен анализ относно изпълнението на ОПРР на проектно ниво, с цел определяне на степента на риск за всеки конкретен проек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36"/>
                </a:solidFill>
                <a:latin typeface="Calibri"/>
              </a:rPr>
              <a:t>В резултат от предприетите действия от страна на УО от извършен анализ на риска към 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27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.0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.2015г., </a:t>
            </a:r>
            <a:r>
              <a:rPr b="0" lang="ru-RU" sz="1200" spc="-1" strike="noStrike">
                <a:solidFill>
                  <a:srgbClr val="000036"/>
                </a:solidFill>
                <a:latin typeface="Calibri"/>
              </a:rPr>
              <a:t>чрез провеждане на писмена кореспонденция, осъществяване на срещи с бенефициентите и изготвяне на индивидуални планове за действие, броят на високо рисковите проекти към 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15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.0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.2015г. </a:t>
            </a:r>
            <a:r>
              <a:rPr b="0" lang="ru-RU" sz="1200" spc="-1" strike="noStrike">
                <a:solidFill>
                  <a:srgbClr val="000036"/>
                </a:solidFill>
                <a:latin typeface="Calibri"/>
              </a:rPr>
              <a:t>е намален от </a:t>
            </a:r>
            <a:r>
              <a:rPr b="0" lang="en-US" sz="1200" spc="-1" strike="noStrike">
                <a:solidFill>
                  <a:srgbClr val="000036"/>
                </a:solidFill>
                <a:latin typeface="Calibri"/>
              </a:rPr>
              <a:t>36</a:t>
            </a:r>
            <a:r>
              <a:rPr b="0" lang="ru-RU" sz="1200" spc="-1" strike="noStrike">
                <a:solidFill>
                  <a:srgbClr val="000036"/>
                </a:solidFill>
                <a:latin typeface="Calibri"/>
              </a:rPr>
              <a:t> бр. на обща стойност </a:t>
            </a:r>
            <a:r>
              <a:rPr b="0" lang="en-US" sz="1200" spc="-1" strike="noStrike">
                <a:solidFill>
                  <a:srgbClr val="000036"/>
                </a:solidFill>
                <a:latin typeface="Calibri"/>
              </a:rPr>
              <a:t>532</a:t>
            </a:r>
            <a:r>
              <a:rPr b="0" lang="ru-RU" sz="1200" spc="-1" strike="noStrike">
                <a:solidFill>
                  <a:srgbClr val="000036"/>
                </a:solidFill>
                <a:latin typeface="Calibri"/>
              </a:rPr>
              <a:t> млн.лв. д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бр. </a:t>
            </a:r>
            <a:r>
              <a:rPr b="0" lang="ru-RU" sz="1200" spc="-1" strike="noStrike">
                <a:solidFill>
                  <a:srgbClr val="000036"/>
                </a:solidFill>
                <a:latin typeface="Calibri"/>
              </a:rPr>
              <a:t>на обща стойност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19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млн.лв.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т.е. </a:t>
            </a:r>
            <a:r>
              <a:rPr b="1" lang="bg-BG" sz="1200" spc="-1" strike="noStrike">
                <a:solidFill>
                  <a:srgbClr val="ff0000"/>
                </a:solidFill>
                <a:latin typeface="Calibri"/>
              </a:rPr>
              <a:t>39%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oт общия обем договори в изпълнение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1" lang="bg-BG" sz="1200" spc="-1" strike="noStrike">
                <a:solidFill>
                  <a:srgbClr val="ff0000"/>
                </a:solidFill>
                <a:latin typeface="Calibri"/>
              </a:rPr>
              <a:t>(1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1" lang="bg-BG" sz="1200" spc="-1" strike="noStrike">
                <a:solidFill>
                  <a:srgbClr val="ff0000"/>
                </a:solidFill>
                <a:latin typeface="Calibri"/>
              </a:rPr>
              <a:t>6 бр. на стойност 1,3 млрд.лв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исокорисковите проекти са определени на база следните крите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ключен договор за БФП преди повече от 10 месе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липсва сключен договор с изпълнител по основна дейност по проекта – СМР, доставка ил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ключени са част от основните договори с изпълнители, но за част от дейностите не е сключен договор с изпълнител (пример: сключени са договори за изпълнение на СМР по 4 обособени позиции, но по една позиция процедурата се обжалва) или не е сключен договор за доставка на оборудване. Според спецификата на дейността по договора за БФП и преценка за степента на риска за изпълнение на крайните срокове на договора за БФП проектът се определя като рисков или високорис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договорът за БФП е временно спрян и има риск за неизпълнение на догово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сновна дейност по проекта е спряна и не се изпълнява, което застрашава изпълнението в рамките на крайния срок на договора за БФП (пример: спряно е изпълнението на СМР поради нужда от допълнително проектиране или договорът с изпълнителя на СМР е прекратен и е необходим избор на нов изпълнител и др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финансово усвояване - процент на изплатени средства под 30% (процентното съотношение на стойност на БФП (100%) след анекс спрямо стойност на изплатени средства по проект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установяване на разликата между стойност на подадени искания и стойност на изплатени средства над 25% (процентното съотношение на стойност на изплатени средства по проекта спрямо стойност на подадени искания за плаща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други причини, застрашаващи изпълнението на крайните срокове на договора за БФ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Резултати от анализ на изпълнението на проектно ниво за всички проекти по ОПРР -  166 бр. на стойност 1,3 млрд.л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Calibri"/>
              </a:rPr>
              <a:t>Високорискови проекти (червен цвят)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32 договора за БФП с висок риск за изпълнение на обща стойност около 519 млн. лв., т.е. 38,97% от общия обем договори в изпълне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хема BG161PO001/1.1-05/2008  „Подкрепа за осигуряване на подходяща и ефективна държавна културна инфраструктура, допринасяща за развитието на устойчиви градски ареали“ – 1 бр. ( проект на М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хема BG161PO001/1.1-08/2010  „Подкрепа за реконструкция, обновяване и оборудване на държавни лечебни и здравни заведения в градските агломерации“ – 6 бр. ( проекти на МЗ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хема BG161PO001/1.2-01/2011 „Подкрепа за енергийна ефективност в многофамилни жилищни сгради“ – 1 бр. ( МРРБ - Жилищна полити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хема BG161PO001/1.2-02/2011 „Подкрепа за осигуряване на съвременни социални жилища за настаняване на уязвими, малцинствени и социално слаби групи от населението и други групи в неравностойно положение“ – 1 б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хема: BG161PO001/1.4-09/2012 „Зелена и достъпна градска среда” – 1 б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хема: BG161PO001/1.5-03/2011 „Подкрепа за интегриран градски транспорт в петте големи града” – 1б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хема BG161PO001/2.1-01/2007  „Подкрепа за рехабилитация и реконструкция на второкласни и третокласни пътища” - 4 бр. ( Проекти на АПИ, включително СС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хема BG161PO001/3.1-03/2009 „Подкрепа за развитието на природни, културни и исторически атракции”– 1 б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хема BG161PO001/3.1-04/2011 „Реставрация и консервация на дворец "Евксиноград" и прилежащия му парк” – 1 бр. (проект на М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хема BG161PO001/3.3-01/2008  „Подкрепа за ефективен национален маркетинг на туристическия продукт и подобряване на информационното обслужване” – 4 бр. (проекти на М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хема BG161PO001/5-02/2012 "В подкрепа за следващия програмен период" – 8 б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хема BG161PO001/5-03/2013 "Подкрепа за интегрирани планове за градско възстановяване и развитие II" – 3 б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Calibri"/>
              </a:rPr>
              <a:t>Рискови проекти (оранжев цвят)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48 договора за БФП на обща стойност около 237 млн. лв., т.е. 17,8 % от общия обем договори в изпълне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Calibri"/>
              </a:rPr>
              <a:t>Проекти с нисък риск (жълт цвят)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 52 договора за БФП на обща стойност около 467 млн. лв., т.е. 35,12 % от общия обем договори в изпълне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Calibri"/>
              </a:rPr>
              <a:t>Проекти без установени рискове (зелен цвят)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24 договора за БФП на обща стойност около 108 млн. лв., т.е. 8,10% от общия обем договори в изпълне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 цел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ускоряване процеса на верификац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и осигуряване ритмичност на плащанията към бенефициентите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и с оглед приключването на ОПРР 2007-2013 през 2015 г., 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О на ОПРР въведе нов подход, който предвижда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регистриране на служебн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скания за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междинн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лащане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. При приключване на регистрирани сигнали за нередности с прекратяване поради липса на установена нередност, приключване с налагане на намалена финансова корекция или приключване поради наложена плоска финансова корекция (ПФК) следва да бъдат регистрирани служебни искания за плащане, с които задържаната /неверифицирана/ сума да бъде верифицирана и платена на бенефици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 цел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ускоряване на процеса на верификац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и осигуряване ритмичност на плащанията към бенефициентите, УО на ОПРР въведе нов подход, който предвижда „частична“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верификац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 окончателните искания за плащане, а именно процедиране на искането за окончателно плащане при наличие на активни сигнали със съмнения за нередности по някои от договорите по проекта, чрез неверифициране на разходи във връзка с тези сигна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C58F-D3D6-43DD-AADC-4471C72B68BF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идно от таблицат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от началото на оперативната програма досега, най-висока е стойността на наложените финансови корекции по първа о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близо 55 млн. лв., следвана от втора приоритетна ос -16 млн. л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 От 2011 г. стойността на финансовите корекции по първа ос е с най-голямо съотношение в общо наложените финансови коре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 През 2014 г. рязко нарастват финансовите корекции, което е вследствие на предприетите мерки за подобряване на системите за управление и контрол и актуализираните процедури и контролни листове за осъществяване на предварителен и последващ контрол при възлагане на обществени поръчки - влезли в сила от 01.07.2014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рая на 2014г. Одитният орган ИА „ОСЕС“ извърши два тематични системни одита, при които провери адекватността и ефективността на прилаганите от УО процедури за контрол върху обществени поръчки. Заключението на Одитния орган в резултат на извършените тематични системни одити е, че УО е предприел всички необходими действия за подобряване на системите за управление и контрол и за осигуряване на ефективност на процедурите по верификация на разходи от обществени поръч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а последно място, в доклада е посочено, че отчитайки оценката на СУК, установеното ниво на грешка в сертифицираните през 2013г. разходи и предприетите адекватни действия от УО по осчетоводяване на всички финансови корекции от извършената повторна верификация на разходите по договори за обществени поръчки, ИА „ОСЕС“  категоризира цялостната оценка 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К на ОПРР на ниво 2 „Работи, но са необходими някои подобрения“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ето съответства на високото ниво на сигурно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Графиката ясно показва развитието (тренда) на наложените финансови корекции през годините, където отново е видно рязкото увеличение в размера на наложените финансови корекции през 2014 г. – 31 млн. лв. в сравнение с 2013 г. (10,2 млн. л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чакванията за 2015 г. са за лек спад (-15%) в размера на наложените финансови корекции спрямо 2014 г., вследствие на регулярно провеждани от УО семинари и обучения, както на бенефициентите, така и на своите служители по верификация. Целта на обученията е да запознаят бенефициенти и служители с добрите практики и констатираните грешки при възлагане на обществени поръчки, както и предприемането на превантивни действия за недопускане на нарушения. Не на последно място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во с цел засилване на превенцията, на интернет сайта на ОПРР са публикувани „Допълнителни указания към бенефициентите относно идентифицирани нарушения, допускани от бенефициентите на ОПРР“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убликувани 48 схеми за предоставяне на БФП на обща стойност 3,131 млрд. лв. или 100 % от бюджета на ОПР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2090e"/>
                </a:solidFill>
                <a:latin typeface="Calibri"/>
              </a:rPr>
              <a:t>Общ размер на плащанията по договори – </a:t>
            </a:r>
            <a:r>
              <a:rPr b="0" lang="bg-BG" sz="900" spc="-1" strike="noStrike">
                <a:solidFill>
                  <a:srgbClr val="a50021"/>
                </a:solidFill>
                <a:latin typeface="Calibri"/>
              </a:rPr>
              <a:t>2</a:t>
            </a:r>
            <a:r>
              <a:rPr b="0" lang="en-US" sz="900" spc="-1" strike="noStrike">
                <a:solidFill>
                  <a:srgbClr val="a50021"/>
                </a:solidFill>
                <a:latin typeface="Calibri"/>
              </a:rPr>
              <a:t>,3</a:t>
            </a:r>
            <a:r>
              <a:rPr b="0" lang="bg-BG" sz="900" spc="-1" strike="noStrike">
                <a:solidFill>
                  <a:srgbClr val="a50021"/>
                </a:solidFill>
                <a:latin typeface="Calibri"/>
              </a:rPr>
              <a:t>5</a:t>
            </a:r>
            <a:r>
              <a:rPr b="0" lang="en-US" sz="900" spc="-1" strike="noStrike">
                <a:solidFill>
                  <a:srgbClr val="a50021"/>
                </a:solidFill>
                <a:latin typeface="Calibri"/>
              </a:rPr>
              <a:t>3</a:t>
            </a:r>
            <a:r>
              <a:rPr b="0" lang="bg-BG" sz="900" spc="-1" strike="noStrike">
                <a:solidFill>
                  <a:srgbClr val="a50021"/>
                </a:solidFill>
                <a:latin typeface="Calibri"/>
              </a:rPr>
              <a:t>  млрд.</a:t>
            </a:r>
            <a:r>
              <a:rPr b="0" lang="en-US" sz="9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900" spc="-1" strike="noStrike">
                <a:solidFill>
                  <a:srgbClr val="a50021"/>
                </a:solidFill>
                <a:latin typeface="Calibri"/>
              </a:rPr>
              <a:t>лв</a:t>
            </a:r>
            <a:r>
              <a:rPr b="0" lang="en-US" sz="900" spc="-1" strike="noStrike">
                <a:solidFill>
                  <a:srgbClr val="a50021"/>
                </a:solidFill>
                <a:latin typeface="Calibri"/>
              </a:rPr>
              <a:t>. </a:t>
            </a:r>
            <a:r>
              <a:rPr b="0" lang="bg-BG" sz="900" spc="-1" strike="noStrike">
                <a:solidFill>
                  <a:srgbClr val="02090e"/>
                </a:solidFill>
                <a:latin typeface="Calibri"/>
              </a:rPr>
              <a:t>или </a:t>
            </a:r>
            <a:r>
              <a:rPr b="0" lang="en-US" sz="900" spc="-1" strike="noStrike">
                <a:solidFill>
                  <a:srgbClr val="800000"/>
                </a:solidFill>
                <a:latin typeface="Calibri"/>
              </a:rPr>
              <a:t>7</a:t>
            </a:r>
            <a:r>
              <a:rPr b="0" lang="bg-BG" sz="900" spc="-1" strike="noStrike">
                <a:solidFill>
                  <a:srgbClr val="800000"/>
                </a:solidFill>
                <a:latin typeface="Calibri"/>
              </a:rPr>
              <a:t>2</a:t>
            </a:r>
            <a:r>
              <a:rPr b="0" lang="bg-BG" sz="900" spc="-1" strike="noStrike">
                <a:solidFill>
                  <a:srgbClr val="a50021"/>
                </a:solidFill>
                <a:latin typeface="Calibri"/>
              </a:rPr>
              <a:t>%</a:t>
            </a:r>
            <a:r>
              <a:rPr b="0" lang="bg-BG" sz="900" spc="-1" strike="noStrike">
                <a:solidFill>
                  <a:srgbClr val="02090e"/>
                </a:solidFill>
                <a:latin typeface="Calibri"/>
              </a:rPr>
              <a:t> от размера на договорираните средства и </a:t>
            </a:r>
            <a:r>
              <a:rPr b="0" lang="en-US" sz="900" spc="-1" strike="noStrike">
                <a:solidFill>
                  <a:srgbClr val="800000"/>
                </a:solidFill>
                <a:latin typeface="Calibri"/>
              </a:rPr>
              <a:t>7</a:t>
            </a:r>
            <a:r>
              <a:rPr b="0" lang="bg-BG" sz="900" spc="-1" strike="noStrike">
                <a:solidFill>
                  <a:srgbClr val="800000"/>
                </a:solidFill>
                <a:latin typeface="Calibri"/>
              </a:rPr>
              <a:t>5</a:t>
            </a:r>
            <a:r>
              <a:rPr b="0" lang="bg-BG" sz="900" spc="-1" strike="noStrike">
                <a:solidFill>
                  <a:srgbClr val="a50021"/>
                </a:solidFill>
                <a:latin typeface="Calibri"/>
              </a:rPr>
              <a:t>%</a:t>
            </a:r>
            <a:r>
              <a:rPr b="0" lang="bg-BG" sz="900" spc="-1" strike="noStrike">
                <a:solidFill>
                  <a:srgbClr val="02090e"/>
                </a:solidFill>
                <a:latin typeface="Calibri"/>
              </a:rPr>
              <a:t> от бюджета на ОПРР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2090e"/>
                </a:solidFill>
                <a:latin typeface="Calibri"/>
              </a:rPr>
              <a:t>Към края на 201</a:t>
            </a:r>
            <a:r>
              <a:rPr b="0" lang="en-US" sz="900" spc="-1" strike="noStrike">
                <a:solidFill>
                  <a:srgbClr val="02090e"/>
                </a:solidFill>
                <a:latin typeface="Calibri"/>
              </a:rPr>
              <a:t>4</a:t>
            </a:r>
            <a:r>
              <a:rPr b="0" lang="bg-BG" sz="900" spc="-1" strike="noStrike">
                <a:solidFill>
                  <a:srgbClr val="02090e"/>
                </a:solidFill>
                <a:latin typeface="Calibri"/>
              </a:rPr>
              <a:t> г. очакван размер на плащанията – </a:t>
            </a:r>
            <a:r>
              <a:rPr b="0" lang="en-US" sz="900" spc="-1" strike="noStrike">
                <a:solidFill>
                  <a:srgbClr val="a50021"/>
                </a:solidFill>
                <a:latin typeface="Calibri"/>
              </a:rPr>
              <a:t>2,</a:t>
            </a:r>
            <a:r>
              <a:rPr b="0" lang="bg-BG" sz="900" spc="-1" strike="noStrike">
                <a:solidFill>
                  <a:srgbClr val="a50021"/>
                </a:solidFill>
                <a:latin typeface="Calibri"/>
              </a:rPr>
              <a:t>4</a:t>
            </a:r>
            <a:r>
              <a:rPr b="0" lang="en-US" sz="900" spc="-1" strike="noStrike">
                <a:solidFill>
                  <a:srgbClr val="a50021"/>
                </a:solidFill>
                <a:latin typeface="Calibri"/>
              </a:rPr>
              <a:t>65</a:t>
            </a:r>
            <a:r>
              <a:rPr b="0" lang="bg-BG" sz="900" spc="-1" strike="noStrike">
                <a:solidFill>
                  <a:srgbClr val="a50021"/>
                </a:solidFill>
                <a:latin typeface="Calibri"/>
              </a:rPr>
              <a:t> млрд.</a:t>
            </a:r>
            <a:r>
              <a:rPr b="0" lang="en-US" sz="9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900" spc="-1" strike="noStrike">
                <a:solidFill>
                  <a:srgbClr val="a50021"/>
                </a:solidFill>
                <a:latin typeface="Calibri"/>
              </a:rPr>
              <a:t>лв.</a:t>
            </a:r>
            <a:r>
              <a:rPr b="0" lang="bg-BG" sz="900" spc="-1" strike="noStrike">
                <a:solidFill>
                  <a:srgbClr val="02090e"/>
                </a:solidFill>
                <a:latin typeface="Calibri"/>
              </a:rPr>
              <a:t> или </a:t>
            </a:r>
            <a:r>
              <a:rPr b="0" lang="bg-BG" sz="900" spc="-1" strike="noStrike">
                <a:solidFill>
                  <a:srgbClr val="800000"/>
                </a:solidFill>
                <a:latin typeface="Calibri"/>
              </a:rPr>
              <a:t>7</a:t>
            </a:r>
            <a:r>
              <a:rPr b="0" lang="en-US" sz="900" spc="-1" strike="noStrike">
                <a:solidFill>
                  <a:srgbClr val="800000"/>
                </a:solidFill>
                <a:latin typeface="Calibri"/>
              </a:rPr>
              <a:t>5</a:t>
            </a:r>
            <a:r>
              <a:rPr b="0" lang="en-US" sz="900" spc="-1" strike="noStrike">
                <a:solidFill>
                  <a:srgbClr val="a50021"/>
                </a:solidFill>
                <a:latin typeface="Calibri"/>
              </a:rPr>
              <a:t>% </a:t>
            </a:r>
            <a:r>
              <a:rPr b="0" lang="bg-BG" sz="900" spc="-1" strike="noStrike">
                <a:solidFill>
                  <a:srgbClr val="02090e"/>
                </a:solidFill>
                <a:latin typeface="Calibri"/>
              </a:rPr>
              <a:t>от размера на договорените средства и </a:t>
            </a:r>
            <a:r>
              <a:rPr b="0" lang="en-US" sz="900" spc="-1" strike="noStrike">
                <a:solidFill>
                  <a:srgbClr val="a50021"/>
                </a:solidFill>
                <a:latin typeface="Calibri"/>
              </a:rPr>
              <a:t>79</a:t>
            </a:r>
            <a:r>
              <a:rPr b="0" lang="bg-BG" sz="900" spc="-1" strike="noStrike">
                <a:solidFill>
                  <a:srgbClr val="a50021"/>
                </a:solidFill>
                <a:latin typeface="Calibri"/>
              </a:rPr>
              <a:t>%</a:t>
            </a:r>
            <a:r>
              <a:rPr b="0" lang="bg-BG" sz="900" spc="-1" strike="noStrike">
                <a:solidFill>
                  <a:srgbClr val="02090e"/>
                </a:solidFill>
                <a:latin typeface="Calibri"/>
              </a:rPr>
              <a:t> от бюджета на ОПРР</a:t>
            </a:r>
            <a:r>
              <a:rPr b="0" lang="bg-BG" sz="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1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% - процентно изпълнение на плащанията спрямо бюджета на програмата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% - процентно изпълнение на договорени средства спрямо бюджета на програмата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% - процентно изпълнение на плащанията спрямо договорени средства по програ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Tahoma"/>
                <a:ea typeface="Arial"/>
              </a:rPr>
              <a:t>Обща стойност на сертифицираните разходи към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  <a:ea typeface="Arial"/>
              </a:rPr>
              <a:t> 03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  <a:ea typeface="Arial"/>
              </a:rPr>
              <a:t>.0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  <a:ea typeface="Arial"/>
              </a:rPr>
              <a:t>6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  <a:ea typeface="Arial"/>
              </a:rPr>
              <a:t>.2015 г. – 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845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  <a:ea typeface="Arial"/>
              </a:rPr>
              <a:t>млн.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  <a:ea typeface="Arial"/>
              </a:rPr>
              <a:t>евро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 –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  <a:ea typeface="Arial"/>
              </a:rPr>
              <a:t>ЕФРР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  <a:ea typeface="Arial"/>
              </a:rPr>
              <a:t> 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  <a:ea typeface="Arial"/>
              </a:rPr>
              <a:t>или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  <a:ea typeface="Arial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62,09 %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  <a:ea typeface="Arial"/>
              </a:rPr>
              <a:t>от бюджета на ОПРР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Tahoma"/>
                <a:ea typeface="Arial"/>
              </a:rPr>
              <a:t>Прогноза за сертифицирани разходи към 31.12.2015 г. – 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1 246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  <a:ea typeface="Arial"/>
              </a:rPr>
              <a:t>млн. евро – ЕФР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Tahoma"/>
                <a:ea typeface="Arial"/>
              </a:rPr>
              <a:t>Прогноза за сертифицирани разходи към 30.04.2016 г. –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  <a:ea typeface="Arial"/>
              </a:rPr>
              <a:t>1 328 млн.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  <a:ea typeface="Arial"/>
              </a:rPr>
              <a:t>евро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  <a:ea typeface="Arial"/>
              </a:rPr>
              <a:t>– ЕФРР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  <a:ea typeface="Arial"/>
              </a:rPr>
              <a:t> или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  <a:ea typeface="Arial"/>
              </a:rPr>
              <a:t>97,57 % от бюджета на програмата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Tahoma"/>
                <a:ea typeface="Arial"/>
              </a:rPr>
              <a:t>Очакван риск от неусвояване на средства по програмата -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  <a:ea typeface="Arial"/>
              </a:rPr>
              <a:t>33 млн. евро – ЕФР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Calibri"/>
              </a:rPr>
              <a:t>Изпълнение на ОПРР в Лот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ФРР – в евр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Договорени       Верифицира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Сертифицир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на ос 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7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48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45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на ос 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368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2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на ос 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12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на ос 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8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76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ритетна ос 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65000" y="4211280"/>
            <a:ext cx="5832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Инициативата 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JESSICA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 се прилага в България с подкрепа на средства от ОПРР предоставени под формата на нисколихвени кредити, вместо чрез 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БФП. Въпреки че инициативата 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JESSICA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 стартира на сравнително късен етап от изпълнението на програмата - едва през 2010 година, до момента е постигнат съществен напредък при прилагането на тази иновативна форма на подкреп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Средствата по JESSICA са насочени към развитие на градската среда, рехабилитация на индустриални зони, инвестиции в здравна, културна, спортна инфраструктура и др. Към 30.04.2015 г. двата фонда са </a:t>
            </a:r>
            <a:r>
              <a:rPr b="0" lang="bg-BG" sz="900" spc="-1" strike="noStrike" u="sng">
                <a:solidFill>
                  <a:srgbClr val="ffff00"/>
                </a:solidFill>
                <a:uFillTx/>
                <a:latin typeface="Calibri"/>
              </a:rPr>
              <a:t>подписали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 договори за финансиране на 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31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 проекта за градско развитие на обща стойност 1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87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.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3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 млн. лв., от които 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51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.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8 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млн. лв. по ОПРР, 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78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.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 млн. лв. – съфинансиране от страна на фондовия мениджър и </a:t>
            </a:r>
            <a:r>
              <a:rPr b="0" lang="en-US" sz="900" spc="-1" strike="noStrike">
                <a:solidFill>
                  <a:srgbClr val="ffff00"/>
                </a:solidFill>
                <a:latin typeface="Calibri"/>
              </a:rPr>
              <a:t>57</a:t>
            </a:r>
            <a:r>
              <a:rPr b="0" lang="bg-BG" sz="900" spc="-1" strike="noStrike">
                <a:solidFill>
                  <a:srgbClr val="ffff00"/>
                </a:solidFill>
                <a:latin typeface="Calibri"/>
              </a:rPr>
              <a:t> млн. лв. собствен капитал на проектните инициатори.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D5E5-E5F3-4976-9113-CF271583698A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Подкрепа за градския транспорт в големите град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 рамките на Приоритетна ос 1 „Устойчиво и интегрирано градско развитие”, Операция 1.5 „Системи за устойчив градски транспорт” по Оперативна програма „Регионално развитие”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а предвидени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403 млн. лв.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за развитието на интегриран градски транспорт в 7-те големи града на страната – София, Бургас, Варна, Пловдив, Плевен,  Стара Загора и Русе. Акцентира се върху създаване на по-ефективен и бърз градски транспорт с по-малко потребление на енергия, изграждане на по-достъпна вторична инфраструктура на обществените транспортни мрежи и въвеждане на природосъобразни видове градски транспор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Проект за интегриран градски транспорт на Община Бурга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бщият размер възлиза на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131 млн. лв.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, от които: безвъзмездна финансова помощ -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101 млн. лв.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30 млн. лв.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– собствен принос на Община Бургас. Договорът за предоставяне на безвъзмездна финансова помощ е сключен на 26 ноември 2010 г. със срок на продължителност до юни 2016 г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Към 27.05.2015 г. са доставени: 28 бр. дизелови съчленени автобуси  и 39 бр. метанови автобуса, които са в експлоатация; в процес на реконструкция и разширение са терминал „Меден Рудник“ и прилежаща територия,   изграждат се: Бърза автобусна линия, терминали и система от велосипедни алеи Етап І и Етап ІІ, както и  четири пешеходни надле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 процес на въвеждане в експлоатация са реконструираните автобусно депо, работилница, дизел и метан станция и новоизградената централна автобусна спирка. Предстои публикуване на процедура за избор на изпълнител за извършване на проучвания за бъдещи инвестиции, които да надградят постигнатите резултати.  Подписан е договор за обществена услуга между „БУРГАСБУС“ ЕООД и Община Бургас в съответствие с изискванията на Регламент 1370/2007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Проект за интегриран градски транспорт на Соф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бщият размер възлиза на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122 млн. лв.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, от които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98 млн. лв.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– безвъзмездна финансова помощ и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25 млн. лв.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– собствен принос на Столична община. Предстои подписване на допълнително споразумение към ДБФП с ревизиран обхват на проекта, като новата обща стойност на проекта е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90,7 млн. лв.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, от които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78,3 млн. лв.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– безвъзмездна финансова помощ и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12,4 млн. лв.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– собствен принос на Столична общ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Договорът за предоставяне на безвъзмездна финансова помощ е сключен на 23 август 2011 г.. Към 27.05.2015 г. са доставени 50 бр. нови нископодови съчленени тролейбуса, които са в експлоатация, и е приключил етап 1 от реконструкцията на трамваен релсов път, контактна и кабелна мрежа по бул.”България”. Доставени и въведени в експлоатация са  600 бр. нови Електронни информационни табла. Подписан е договор за доставка и монтаж на Интелигентна система за управление на траф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едстои изпращане на апликационната форма и подкрепящите документи до ЕК за одобрение на редуцирания обхват на проекта. и преобразуването му от голям в неголям. На 22.01.2015 г. с решение на Столичен общински съвет е дадено съгласие за прекратяване на процедурата за избор на изпълнител за „Изграждане на нова трамвайна линия Семинарията – Дървеница“ и отпадане на компонента от обхвата на  проекта поради обжалването на плана за регулация на новото трамвайно трасе и несъгласието на местната общественост с реализацията на про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одписан е договор за обществена услуга между Център за градска мобилност и Столична община в съответствие с изискванията на Регламент 1370/2007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Проекти за интегриран градски транспорт в петте големи гра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ез юли и август 2012 г. са подписани договори с общините: Варна, Плевен, Пловдив, Русе и Стара Загора.  Общият размер на проектите възлиза на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 125,9 млн. лв.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, от които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112,5 млн. лв.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– безвъзмездна финансова помощ. Подписани са договори за обществена услуга между „Тролейбусен транспорт“ ЕООД Плевен и община Плевен, както и между „Тролейбусни превози“ ЕООД и община Стара Загора в съответствие с изискванията на Регламент 1370/2007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Проект за интегриран градски транспорт на Вар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Договорът за предоставяне на безвъзмездна финансова помощ е сключен на 9 юли 2012 г. Общият му размер възлиза на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 114 млн. лв.,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т които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 91 млн. лв.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– безвъзмездна финансова помощ и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 23 млн. лв.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 средства на общината, като след процедура по анексиране общата стойност на проекта възлиза на 107 млн. л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Към 27.05.2015 г.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а доставени 70 бр. нови нископодови автобуса, които са в експлоатация. Подписан е договор за обществена услуга (ДОУ) между община Варна и вътрешния оператор и партньор по проекта "Градски транспорт" А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ключени са всички основни договори с изпълнители за: изграждане на коридор за бърза автобусна линия (BRT); съоръжения за колоездене; подобрения на 3 крайни спирки; мерки за подобряване на достъпността; предимство на масов градски обществен транспорт (МГОТ) на кръстовища; система за информация на пътниците в реално време; център за контрол на МГОТ; автоматизирана билетна система; строителен надзор за  всички компоненти по проекта. Предстои изготвянето на инвестиционни проекти, които ще бъдат представени за съгласуване от УО от гледна точка на съответствието им с приложимото законодателство и одобрените ДБФ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Проект за интегриран градски транспорт на Пловди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Към 27.05.2015 г. са сключени всички договори с изпълнители: изграждане на 48 км. велоалеи; внедряване и експлоатация на системата за управление на градския транспорт, изграждане и внедряване на Център за управление на трафика; Проучване за планиране на градския транспор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Проект за интегриран градски транспорт на Стара Заг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Към 27.05.2015 г. предстои въвеждането в експлоатация на обектите от изпълнените договори за: СМР по градска пътна мрежа (вкл. велоалеи и рампи за хора с увреждания); Ремонт и рехабилитация на контактна мрежа и изграждане на ВКМ; ремонт и рехабилитация на токоизправителни станции, изграждане на информационна система (телематик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Изпълнен е договорът за ремонт и рехабилитация на тролейбусно депо и доставка на оборудване за депо. Предстои доставка на 14 броя нови нископодови тролейбу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Проект за интегриран градски транспорт на Плевен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Към 27.05.2015 г. се изпълняват сключените договори за процедури на инженеринг за следните компоненти: Облагородяване на спирките; Изграждане на велоалеи; Изграждане на тролейбусно депо; Рехабилитация и реконструкция на Въздушно контактна мрежа. Приключени и въведени в експлоатация са обектите от следните договори: Изграждане на Система за управление и контрол на МГОТ и Интелигентна система за управление на траф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Проект за интегриран градски транспорт на Рус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Към 27.05.2015 са сключени договори с изпълнители за: Реконструкция на кръгово кръстовище, изграждане на подлез и обособяване на бус ленти и лента за паркиране - бул. Цар Освободител - проектиране, СМР, авторски надзор;  Изграждане на подлез при ж/п линията за свързване на кв. Родина с центъра  проектиране, СМР, авторски надзор; Изграждане на система за контрол и управление на обществения транспорт (СКУОТ) - СМР и тролейбусна инфраструктура“; Подобряване достъпността до ОГТ в кв. Чародейка; Подобряване достъпа до спирките на ОГТ и безопасността за пешеходци и велосипедисти на бул. България - проектиране, СМР, авторски надзор; Оборудване на електронна  система за таксуване и на система за контрол и управление на обществения транспорт (СКУО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Изготвен е план за изграждане на мрежа от велоалеи, проведени са обществени обсъждания за избор на трасета. Обявена е процедура за избор на изпълнител за  „Изграждане на велоалеи“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D29F-EAD5-43BD-AFB7-F532813FCCBA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бщ брой приключени проекти –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8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бновени/реконструира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гради на образователна, социална и културна инфраструктура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–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10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училища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- 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4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43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сград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детски ясли и градин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 - 3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83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сгра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гради на културната инфраструктура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- 6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9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(55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читалища 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1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сгради на държавни културни институци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- 3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училища в сферата на 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културата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театр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, 3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опер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, 4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музея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1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концертна зала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оциална инфраструктура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- 80 ( 45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социални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институции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35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бюра по труда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бновени/реконструира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гради на университети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- 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43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E1D0-D22D-4A40-8372-6D9F8A1055C1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одкрепа з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институционализация на децата в България – </a:t>
            </a: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изградени 108 ЦНСТ, 16 изградени, обзаведени и оборудвани защитени жилища и 5 бр. ремонтирани и оборудвани защитени жилищ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Рехабилитиран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/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реконструирани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пътища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– </a:t>
            </a:r>
            <a:r>
              <a:rPr b="0" lang="en-US" sz="1200" spc="-1" strike="noStrike">
                <a:solidFill>
                  <a:srgbClr val="000066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1 02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одобрена градска сре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зелени площ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детски площадк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–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над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млн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.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кв.м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селение, облагодетелствано от подобрената градска сре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над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млн.ду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Изграден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/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рехабилитиран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пешеходни зон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, </a:t>
            </a:r>
            <a:r>
              <a:rPr b="0" lang="bg-BG" sz="1200" spc="-1" strike="noStrike">
                <a:solidFill>
                  <a:srgbClr val="000066"/>
                </a:solidFill>
                <a:latin typeface="Calibri"/>
              </a:rPr>
              <a:t>велоалеи, тротоар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–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над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8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2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хил.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a50021"/>
                </a:solidFill>
                <a:latin typeface="Calibri"/>
              </a:rPr>
              <a:t>кв.м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77F5-FD24-4115-B03D-887BAE3FCEC4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0D0B-B49C-487A-A72F-75BF220A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0E3B-397E-4C4B-BBA9-A295A036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B1E2-6662-471E-964E-8BA9CE718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F4E0-A927-4754-A764-9CAB8D71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28D1-13B8-4652-9653-3533CC46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59F7-DA9E-4F9E-AABD-175E6EB0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C890-36BD-4480-BF87-E3F16519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5BDC-94B2-408F-8774-E7E8F5D5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B8C0-D6AE-4161-9D55-A31E2E7B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000D-D5E1-4307-938D-9D99D9F9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CD27-CEA1-4D72-86DE-0E096257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BEA9-E744-4CD3-B47B-0521C9FB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D410-2E46-46EC-9257-2EA4194A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2273-3692-4CAB-84D6-069A4C57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823B-137D-47BB-B72D-A150448B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EFA5-0431-4B85-B8EF-FEF2F1E1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9ED4-B919-4391-BAEA-1C799658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0A6DA-20F6-4BD6-95E7-CA4D5730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FFDA9-A323-48FE-9C31-D21E4D08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DC781-193E-4F17-B75B-139EF286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E978A-EB63-4051-8BA5-9A08EBEB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9182E-9193-4E8A-9BA5-8DC7569D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CD4F-7962-4A11-9E21-6EEA3909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A9F90-0EAC-41C1-A5D7-5AF2696E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0BD5A-36D7-4E98-B3AB-C51DDD1D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EA175-906D-40A9-9B6A-BA11F01E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F195E-6171-4E31-BBB1-9DFAF4B0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CC4C7-6337-4FD4-A261-915D6AA5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9AD1D-4FE4-4FE7-84C5-AF0AC4B61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0E537-3A98-41FB-A58D-80B0DF930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3C72E-20D5-401B-B0DB-F7972E1F3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3D325-B789-43CA-85B2-A36DFE44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4C0ED-1393-429C-BEFC-31448575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F322-D715-4DD8-AEBC-0C985992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7DE20-65F8-406C-A52D-2F591B26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B2472-5CEF-4452-9AEB-FDA4D7F9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0768C-86DE-454F-AFC1-880676D8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C73D2-7E68-49E1-AA5E-554973C3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B79A7-115E-4E73-9B62-17CD5E0E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5E1A5-028F-4190-A65C-B4191340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EEF56-0E0F-4064-B884-28661B29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BFA03-49B6-4889-B590-89CF3897F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2B95F-5B5D-4F75-AFA7-E6690CC6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01C1F-EFB3-45FC-B7A6-1CBB76A6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7CA4-D930-44F3-84CB-7B609BE6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1C8F2-B4F7-45C4-9C8D-DA3C7D57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C62A6-7EBA-4CE4-B008-2BA03510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17D27-187E-4292-8EAF-DB98D1B9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F8027-016E-46F6-9108-98EBE31D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13FC7-96F2-4F50-B4FC-D5A918E4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F2991-3460-4A21-895D-7389A4D2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E079F-636C-4571-AD69-DCF429DF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89534-BD24-4374-A03C-77BED6FA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2978C-BBEA-491E-AA5E-E5AE85FA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8E39A-7867-4917-AED2-C4BBAEB3E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E6E9-AAF6-41B1-8134-B9CAFA95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55A74-D2CA-483B-A5D5-D18E428D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8B29C-E873-4D61-B7D0-EAA1EC4F3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66ADF-667F-4608-A990-2FC36440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39233-9B50-4EDD-8C52-5FAA5263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19C75-1405-43F7-98F0-30842A8B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5F5E5-390E-40EF-AD05-91098F69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23C18-E69F-408B-A304-30AC3AB5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A5C9A-2DAA-42F5-8016-B16B247C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94DD4-57C4-4EF5-94C6-737DFA42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B27E3-DF8B-45A3-AEBA-4378AC48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60B3-96BB-44B0-8B8D-AEBB4A1A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5210B-51D8-4039-A1FD-237EBFE4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A8D51-D67F-44AD-A314-04BDC1233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C1D87-B9CB-4FE3-8656-0F23A598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91076-088B-410B-871C-B26B1B32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87942-A1A6-4058-B17D-4B45DB83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2F7B3-1845-4728-A79D-8E60432F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74F34-FD66-45AB-B4FB-3E6F45C0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A4EFA-B60C-4040-8C1F-BE9CAD6E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68B46-899C-47C6-8129-F2918921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AF21B-B56F-486B-840F-0BDE0743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0B29-AB8D-471E-AD0F-3B9A5362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B1FE0-C927-4F0F-A8BD-A0988B89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B964A-945D-4CF5-896F-1FCEB8A2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6F4FD-2CE3-4D7B-9189-E25543EF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1ED8B-C6FA-4072-932A-34543764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5EA06-0B31-4D22-9AB6-DA60359B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2591-1BC2-4050-887A-00255240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AA00-BE3C-4A5A-96F4-F724099457C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B7DA-DB3B-4F71-B4C9-9FDD4ADBF25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BF5A-C08D-4666-8E25-0FFFC846DEA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EFFD-039F-4E29-BB55-816919F7452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2E21-3848-48C9-86B8-F2B411EAA2D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0338-A5C9-41B4-A1FA-92BAFD6DCE6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2FCD-991A-4F30-BB9B-F4802EAF5AB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comments" Target="../comments/comment2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comments" Target="../comments/commen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comments" Target="../comments/comment4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" descr=""/>
          <p:cNvPicPr/>
          <p:nvPr/>
        </p:nvPicPr>
        <p:blipFill>
          <a:blip r:embed="rId2"/>
          <a:stretch/>
        </p:blipFill>
        <p:spPr>
          <a:xfrm>
            <a:off x="395280" y="71280"/>
            <a:ext cx="1152360" cy="1224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" descr=""/>
          <p:cNvPicPr/>
          <p:nvPr/>
        </p:nvPicPr>
        <p:blipFill>
          <a:blip r:embed="rId3"/>
          <a:stretch/>
        </p:blipFill>
        <p:spPr>
          <a:xfrm>
            <a:off x="7885080" y="11592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4576680" y="6175440"/>
            <a:ext cx="4572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2160720" y="40464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2d2d8a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"/>
          <p:cNvSpPr/>
          <p:nvPr/>
        </p:nvSpPr>
        <p:spPr>
          <a:xfrm>
            <a:off x="14400" y="4653000"/>
            <a:ext cx="64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Аналитичен преглед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а напредъка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П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Регионално развитие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”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2007-2013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270000" y="1447920"/>
            <a:ext cx="86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А ДИРЕКЦИЯ “ПРОГРАМИРАНЕ НА РЕГИОНАЛНОТО РАЗВИТИ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104760" y="5987880"/>
            <a:ext cx="63230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Sylfaen"/>
              </a:rPr>
              <a:t>Шестнадесето заседание</a:t>
            </a:r>
            <a:r>
              <a:rPr b="1" lang="en-US" sz="2000" spc="-1" strike="noStrike">
                <a:solidFill>
                  <a:srgbClr val="000066"/>
                </a:solidFill>
                <a:latin typeface="Sylfaen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Sylfaen"/>
              </a:rPr>
              <a:t>на КН на ОПРР 2007-2013 г. </a:t>
            </a:r>
            <a:r>
              <a:rPr b="1" lang="en-US" sz="2000" spc="-1" strike="noStrike">
                <a:solidFill>
                  <a:srgbClr val="000066"/>
                </a:solidFill>
                <a:latin typeface="Sylfae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5 юн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5 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гр.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1152360" y="422280"/>
            <a:ext cx="75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Ефект от изпълнението на ОП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5076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одобрени туристически обекти/атра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99 бр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ведени иновативни културни събит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17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 бр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осетители на иновативните културни събит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над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9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58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хил. душ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Линейни метри изграден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ъоръжения за превенция от наводне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над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х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ил. л.м.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Дължина на почистените речни корита и дерет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над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67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хил. л.м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лощ на укрепени свлачищ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над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1,1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млн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кв.м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селен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благодетелствано от укрепени свлачищ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над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624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хил.душ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14" descr="\\oprd-nfs\DG_PRD\-=Public=-\-= Photos =-\за календар 2015\Допълнителни\остров Света Анастасия - Бургас\вариант 1\1-2aerial_15764d.jpg"/>
          <p:cNvPicPr/>
          <p:nvPr/>
        </p:nvPicPr>
        <p:blipFill>
          <a:blip r:embed="rId3"/>
          <a:stretch/>
        </p:blipFill>
        <p:spPr>
          <a:xfrm>
            <a:off x="4951440" y="1293840"/>
            <a:ext cx="4192560" cy="241920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12"/>
          <p:cNvSpPr/>
          <p:nvPr/>
        </p:nvSpPr>
        <p:spPr>
          <a:xfrm>
            <a:off x="5219640" y="3344760"/>
            <a:ext cx="3452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-</a:t>
            </a: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в Св. Анастасия – Бург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5" descr="\\oprd-nfs\DG_PRD\-=Public=-\-= Photos =-\1_snimki+info_proekti_shemi_PRR\1.4-06\ЮЗР+\44. Община Сандански река\ENCHO_FOTO_0052.JPG"/>
          <p:cNvPicPr/>
          <p:nvPr/>
        </p:nvPicPr>
        <p:blipFill>
          <a:blip r:embed="rId4"/>
          <a:stretch/>
        </p:blipFill>
        <p:spPr>
          <a:xfrm>
            <a:off x="4951440" y="3713040"/>
            <a:ext cx="4192560" cy="230184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12"/>
          <p:cNvSpPr/>
          <p:nvPr/>
        </p:nvSpPr>
        <p:spPr>
          <a:xfrm>
            <a:off x="6156360" y="5599080"/>
            <a:ext cx="32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Община Сандан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4"/>
          <p:cNvSpPr/>
          <p:nvPr/>
        </p:nvSpPr>
        <p:spPr>
          <a:xfrm>
            <a:off x="1187280" y="388800"/>
            <a:ext cx="6697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Tahoma"/>
              </a:rPr>
              <a:t>Действия за информация и публичнос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3"/>
          <a:stretch/>
        </p:blipFill>
        <p:spPr>
          <a:xfrm>
            <a:off x="22320" y="1490760"/>
            <a:ext cx="9050400" cy="443052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2"/>
          <p:cNvSpPr/>
          <p:nvPr/>
        </p:nvSpPr>
        <p:spPr>
          <a:xfrm>
            <a:off x="130320" y="1557360"/>
            <a:ext cx="472896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cc"/>
                </a:solidFill>
                <a:latin typeface="Arial"/>
              </a:rPr>
              <a:t>Проведено обучение на бенефициенти в гр. Стара Загора във връзка с изменението на Наръчника за управление и изпълнение на ОПРР 2007 – 201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роведени работни срещи и обучения на Управляващия орган на ОПРР и бенефициенти за законосъобразно провеждане на обществените поръ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3924360" y="4560840"/>
            <a:ext cx="51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80000"/>
              </a:lnSpc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cc"/>
                </a:solidFill>
                <a:latin typeface="Arial"/>
              </a:rPr>
              <a:t>Изготвени рекламни и информационни материали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cc"/>
                </a:solidFill>
                <a:latin typeface="Arial"/>
              </a:rPr>
              <a:t>за изпълнението на ОПР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cc"/>
                </a:solidFill>
                <a:latin typeface="Arial"/>
              </a:rPr>
              <a:t>- Осигуряване на достъпност, публичност и прозрачност чрез електронни и печатни мед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14" descr="\\oprd-nfs\DG_PRD 2\-=Public=-\-=Photos=-\събития ОПРР 2015\14-15.04.2015 работна среща ЗОРН\IMG_9580.JPG"/>
          <p:cNvPicPr/>
          <p:nvPr/>
        </p:nvPicPr>
        <p:blipFill>
          <a:blip r:embed="rId4"/>
          <a:stretch/>
        </p:blipFill>
        <p:spPr>
          <a:xfrm>
            <a:off x="654120" y="4005360"/>
            <a:ext cx="2806560" cy="17827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5" descr="\\oprd-nfs\DG_PRD 2\-=Public=-\-=Photos=-\събития ОПРР 2015\20.02.2015 Работна среща с бенеф. Ст.Загора\IMG_9382.JPG"/>
          <p:cNvPicPr/>
          <p:nvPr/>
        </p:nvPicPr>
        <p:blipFill>
          <a:blip r:embed="rId5"/>
          <a:stretch/>
        </p:blipFill>
        <p:spPr>
          <a:xfrm>
            <a:off x="5005440" y="2565360"/>
            <a:ext cx="2994120" cy="19954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6" descr="\\oprd-nfs\DG_PRD 2\-=Public=-\-=Photos=-\събития ОПРР 2015\20.02.2015 Работна среща с бенеф. Ст.Загора\IMG_9373.JPG"/>
          <p:cNvPicPr/>
          <p:nvPr/>
        </p:nvPicPr>
        <p:blipFill>
          <a:blip r:embed="rId6"/>
          <a:stretch/>
        </p:blipFill>
        <p:spPr>
          <a:xfrm>
            <a:off x="5940360" y="1490760"/>
            <a:ext cx="30290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1152360" y="422280"/>
            <a:ext cx="75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редизвикателства при приключване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Оперативната прогр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135000" y="1557360"/>
            <a:ext cx="878508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УО на ОПРР предприе следните мерки за ускоряване изпълнението на ОПР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3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36"/>
                </a:solidFill>
                <a:latin typeface="Arial"/>
              </a:rPr>
              <a:t>Извършва се регулярно актуализиране на вътрешния анализ относно изпълнението на ОПРР 2007-2013 г. на проектно ниво, с цел определяне на степента на риск за всеки конкретен проект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3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36"/>
                </a:solidFill>
                <a:latin typeface="Arial"/>
              </a:rPr>
              <a:t>Провежда се писмена кореспонденция с бенефициентите, осъществят се  срещи с бенефициентите и се изготвят индивидуални планове за действ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36"/>
                </a:solidFill>
                <a:latin typeface="Arial"/>
              </a:rPr>
              <a:t>В резултат от предприетите действия от страна на УО, броят на високо рисковите проекти към 15.05.2015 г. е намален от 36 бр. на обща стойност 532 млн. лв. до 32 бр. на обща стойност 519 млн. лв., т.е. 39% oт общия обем договори в изпълнение (156 бр. на стойност 1,3 млрд.лв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3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1152360" y="422280"/>
            <a:ext cx="75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Анализ на изпълнението на проектно ни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270000" y="1844640"/>
            <a:ext cx="4402080" cy="39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сновни причини, определящи проектите с  висок риск</a:t>
            </a: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3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6"/>
                </a:solidFill>
                <a:latin typeface="Arial"/>
              </a:rPr>
              <a:t>Липса на сключени договори с </a:t>
            </a:r>
            <a:r>
              <a:rPr b="0" sz="1800" spc="-1" strike="noStrike">
                <a:solidFill>
                  <a:srgbClr val="000036"/>
                </a:solidFill>
                <a:latin typeface="Arial"/>
              </a:rPr>
              <a:t>изпълнители</a:t>
            </a:r>
            <a:r>
              <a:rPr b="0" lang="ru-RU" sz="1800" spc="-1" strike="noStrike">
                <a:solidFill>
                  <a:srgbClr val="000036"/>
                </a:solidFill>
                <a:latin typeface="Arial"/>
              </a:rPr>
              <a:t> по </a:t>
            </a:r>
            <a:r>
              <a:rPr b="0" lang="bg-BG" sz="1800" spc="-1" strike="noStrike">
                <a:solidFill>
                  <a:srgbClr val="000036"/>
                </a:solidFill>
                <a:latin typeface="Arial"/>
              </a:rPr>
              <a:t>основните</a:t>
            </a:r>
            <a:r>
              <a:rPr b="0" lang="ru-RU" sz="1800" spc="-1" strike="noStrike">
                <a:solidFill>
                  <a:srgbClr val="000036"/>
                </a:solidFill>
                <a:latin typeface="Arial"/>
              </a:rPr>
              <a:t> дейности повече от 10 месеца след сключване на договора за БФП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3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6"/>
                </a:solidFill>
                <a:latin typeface="Arial"/>
              </a:rPr>
              <a:t>Спряна основна дейност по договора; не се изпълня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3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6"/>
                </a:solidFill>
                <a:latin typeface="Arial"/>
              </a:rPr>
              <a:t>Финансово усвояване - процент на изплатени средства под 30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3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36"/>
                </a:solidFill>
                <a:latin typeface="Arial"/>
              </a:rPr>
              <a:t>Други причини, застрашаващи изпълнението на крайните срокове на договора за БФП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Chart 11" descr=""/>
          <p:cNvPicPr/>
          <p:nvPr/>
        </p:nvPicPr>
        <p:blipFill>
          <a:blip r:embed="rId3"/>
          <a:stretch/>
        </p:blipFill>
        <p:spPr>
          <a:xfrm>
            <a:off x="4737240" y="1793880"/>
            <a:ext cx="42084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1152360" y="422280"/>
            <a:ext cx="75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Анализ на изпълнението на проектно ни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3"/>
          <p:cNvSpPr/>
          <p:nvPr/>
        </p:nvSpPr>
        <p:spPr>
          <a:xfrm>
            <a:off x="539640" y="144144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уализиран вътрешен анализ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ъ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2015 г.  относно изпълнението на ОПРР на проектно ни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Chart 10" descr=""/>
          <p:cNvPicPr/>
          <p:nvPr/>
        </p:nvPicPr>
        <p:blipFill>
          <a:blip r:embed="rId3"/>
          <a:stretch/>
        </p:blipFill>
        <p:spPr>
          <a:xfrm>
            <a:off x="646200" y="2154240"/>
            <a:ext cx="785160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1152360" y="422280"/>
            <a:ext cx="68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Изпълнение на план за действие за приключване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на ОПРР 2007-201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200160" y="1484280"/>
          <a:ext cx="8694720" cy="4381560"/>
        </p:xfrm>
        <a:graphic>
          <a:graphicData uri="http://schemas.openxmlformats.org/drawingml/2006/table">
            <a:tbl>
              <a:tblPr/>
              <a:tblGrid>
                <a:gridCol w="4733640"/>
                <a:gridCol w="3961080"/>
              </a:tblGrid>
              <a:tr h="175320">
                <a:tc>
                  <a:txBody>
                    <a:bodyPr lIns="20520" rIns="20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ли и задач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атус на изпълнение към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.05.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7800">
                <a:tc>
                  <a:txBody>
                    <a:bodyPr lIns="20520" rIns="205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 цел гарантиране изпълнение на всички дейности и извършване на окончателни плащания по всички договора за предоставяне на БФП в рамките на установените крайни срокове, както и осигуряване на успешно приключване на програмния период 2007 – 2013, УО предприе следните действия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ждане на писмена кореспонденция с бенефициентите с идентифицирани високорискови проекти. Бенефициентите бяха уведомени, че след извършен анализ на проектно ниво, УО е идентифицирал проекти, за които своевременното изпълнение на заложените дейности по съответните ДБФП е поставено под риск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ждане на срещи с бенефициентите, чийто проекти са идентифицирани като високорискови, подготовка на индивидуални планове за действия, ускоряване на изпълнението на проектните дейности и регулярно подаване на искания за плащане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 вътрешен риск анализ – март 2015 г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а писмена кореспонденция с бенефициентите с идентифицирани високорискови проекти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и срещи с бенефициентите с идентифицирани високорискови проекти – 27.04.2015 – 12.05.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работени индивидуални планове за действия с препоръки към бенефициентите с конкретни крайни срокове за изпълне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ктуализиране на анализа на риска – 15 май 2015 г. - броят на високорисковите проекти е намалял от 36 бр. (на стойност 532 млн. лв.) на 32 бр. (519 млн. лв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6520">
                <a:tc>
                  <a:txBody>
                    <a:bodyPr lIns="20520" rIns="205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дентифициране на одобрените резервни проекти на конкретни бенефициенти с възможност за физическо приключване до 31.12.2015 т. УО на ОПРР ще извърши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ончателен анализ на спестените ресурси по програмата 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ончателен анализ за напредъка на процедурите за избор на изпълнители с оглед иницииране на предложение до Комитета за наблюдение за окончателна приоритизация на списък с резервни проект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дентифициране на одобрените резервни проекти на конкретни бенефициенти - 31.12.2015 т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ализ на спестения финансов ресурс и анализ на напредъка на процедурите за избор на изпълнители  по отношение на списъка с резервните проект с оглед иницииране на предложение до 16-тия Комитет за наблюдение, които ще се проведе на 5 юни 2015 г., за наддоговаряне на бюджета на програмат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280">
                <a:tc>
                  <a:txBody>
                    <a:bodyPr lIns="20520" rIns="205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разпределение на налични ресурс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разпределение на налични ресурс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20520" rIns="205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писани договори за резервни проекти, в съответствие със спестените финансови ресурс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ед КН ще бъдат сключени/анексирани договори по проектни от резервните списъц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20520" rIns="205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О на ОПРР предвижда изпращане на последна промяна на програм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520" marR="2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О на ОПРР предвижда изпращане на последна промяна на програм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1"/>
          <p:cNvSpPr/>
          <p:nvPr/>
        </p:nvSpPr>
        <p:spPr>
          <a:xfrm>
            <a:off x="93600" y="665316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1189080" y="252360"/>
            <a:ext cx="676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редизвикателства при приключване на Оперативната програм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3"/>
          <p:cNvSpPr/>
          <p:nvPr/>
        </p:nvSpPr>
        <p:spPr>
          <a:xfrm>
            <a:off x="179280" y="1628640"/>
            <a:ext cx="88934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66"/>
                </a:solidFill>
                <a:latin typeface="Arial"/>
              </a:rPr>
              <a:t>С цел  ускоряване процеса на верификация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66"/>
                </a:solidFill>
                <a:latin typeface="Arial"/>
              </a:rPr>
              <a:t>осигуряване ритмичност на плащанията към бенефициентите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66"/>
                </a:solidFill>
                <a:latin typeface="Arial"/>
              </a:rPr>
              <a:t>и успешно приключване на ОПРР 2007-2013 г., УО на ОПРР предприе следните мер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66"/>
                </a:solidFill>
                <a:latin typeface="Arial"/>
              </a:rPr>
              <a:t>Регистриране и верификация на служебни искания за междинно плаща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66"/>
                </a:solidFill>
                <a:latin typeface="Arial"/>
              </a:rPr>
              <a:t>„</a:t>
            </a:r>
            <a:r>
              <a:rPr b="0" lang="bg-BG" sz="2000" spc="-1" strike="noStrike">
                <a:solidFill>
                  <a:srgbClr val="000066"/>
                </a:solidFill>
                <a:latin typeface="Arial"/>
              </a:rPr>
              <a:t>Частична“ верификация на искания за окончателно плащ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66"/>
                </a:solidFill>
                <a:latin typeface="Arial"/>
              </a:rPr>
              <a:t>Своевременна обработка на сигнали за нередности при подадени искания за междинни и окончателни плащ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1332000" y="9540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Наложени финансови корекции по приоритетни  оси за периода 2010 – 2015 г. (прогноза) в лева (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93560" y="4436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Посочените стойности на финансовите корекции не включват прекратените нередности както и наложени плоски финансови корекции (ПФК). </a:t>
            </a:r>
            <a:br>
              <a:rPr sz="1200"/>
            </a:br>
            <a:br>
              <a:rPr sz="1200"/>
            </a:b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Стойността на ПФК е в размер на приблизително 109,4 млн. лв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ърху всички сертифицирани и бъдещи разходи, подлежащи на сертификация по засегнатите договори по Приоритетни оси 1 и 3.</a:t>
            </a:r>
            <a:br>
              <a:rPr sz="1200"/>
            </a:br>
            <a:br>
              <a:rPr sz="1200"/>
            </a:b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Посочените стойности включват индивидуални финансови корекции (по извадките и чл. 10), които ще се поемат от бюджета на МРРБ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2" descr=""/>
          <p:cNvPicPr/>
          <p:nvPr/>
        </p:nvPicPr>
        <p:blipFill>
          <a:blip r:embed="rId3"/>
          <a:stretch/>
        </p:blipFill>
        <p:spPr>
          <a:xfrm>
            <a:off x="592200" y="1773360"/>
            <a:ext cx="789624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1332000" y="9540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Наложени финансови корекции по приоритетни  оси за периода 2010 – 2015 (прогноза) в лева (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2" descr=""/>
          <p:cNvPicPr/>
          <p:nvPr/>
        </p:nvPicPr>
        <p:blipFill>
          <a:blip r:embed="rId3"/>
          <a:stretch/>
        </p:blipFill>
        <p:spPr>
          <a:xfrm>
            <a:off x="457200" y="1916280"/>
            <a:ext cx="8229600" cy="36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332000" y="9540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Наложени финансови корекции по приоритетни  оси за периода 2010 – 2015 г. (прогноза) в лева (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434880" y="5119560"/>
          <a:ext cx="6278760" cy="685800"/>
        </p:xfrm>
        <a:graphic>
          <a:graphicData uri="http://schemas.openxmlformats.org/drawingml/2006/table">
            <a:tbl>
              <a:tblPr/>
              <a:tblGrid>
                <a:gridCol w="6278760"/>
              </a:tblGrid>
              <a:tr h="314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Прекратените нередности не са включени в анализ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5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За 2008 г. всички регистрирани нередности за прекратени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85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За 2009 г. има само две нередности на обща стойност 149 744 л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474" name="Picture 2" descr=""/>
          <p:cNvPicPr/>
          <p:nvPr/>
        </p:nvPicPr>
        <p:blipFill>
          <a:blip r:embed="rId3"/>
          <a:stretch/>
        </p:blipFill>
        <p:spPr>
          <a:xfrm>
            <a:off x="460440" y="1700280"/>
            <a:ext cx="822960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1332000" y="954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Общ преглед на изпълнението на ОПРР към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03</a:t>
            </a: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.0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6</a:t>
            </a: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.2015 г.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4560" y="1412640"/>
            <a:ext cx="88599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Публикувани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4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8 схеми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за предоставяне на БФП на обща стойност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3,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131 млрд.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лв.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или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100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%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 от бюджета на ОПРР </a:t>
            </a:r>
            <a:r>
              <a:rPr b="0" i="1" lang="bg-BG" sz="2200" spc="-1" strike="noStrike">
                <a:solidFill>
                  <a:srgbClr val="000066"/>
                </a:solidFill>
                <a:latin typeface="Arial"/>
              </a:rPr>
              <a:t>(3,131 млрд.</a:t>
            </a:r>
            <a:r>
              <a:rPr b="0" i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bg-BG" sz="2200" spc="-1" strike="noStrike">
                <a:solidFill>
                  <a:srgbClr val="000066"/>
                </a:solidFill>
                <a:latin typeface="Arial"/>
              </a:rPr>
              <a:t>лв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2090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Общ брой сключени договори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1 10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8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с общ размер на предоставената БФП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3,21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4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 млрд. лв.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или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103%</a:t>
            </a:r>
            <a:r>
              <a:rPr b="0" lang="bg-BG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от бюджета на ОПР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Общ размер на плащанията по договори –</a:t>
            </a:r>
            <a:r>
              <a:rPr b="0" lang="bg-BG" sz="2200" spc="-1" strike="noStrike">
                <a:solidFill>
                  <a:srgbClr val="02090e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,545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  млрд.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лв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.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или</a:t>
            </a:r>
            <a:r>
              <a:rPr b="0" lang="bg-BG" sz="2200" spc="-1" strike="noStrike">
                <a:solidFill>
                  <a:srgbClr val="02090e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79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%</a:t>
            </a:r>
            <a:r>
              <a:rPr b="0" lang="bg-BG" sz="2200" spc="-1" strike="noStrike">
                <a:solidFill>
                  <a:srgbClr val="02090e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от размера на договорираните средства и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81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% от бюджета на ОПР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Общ размер на сертифицираните разходи по договори –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         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1 944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  млрд. лв. 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или 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60,44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%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 от размера на договорираните средства и </a:t>
            </a:r>
            <a:r>
              <a:rPr b="0" lang="en-US" sz="2200" spc="-1" strike="noStrike">
                <a:solidFill>
                  <a:srgbClr val="a50021"/>
                </a:solidFill>
                <a:latin typeface="Arial"/>
              </a:rPr>
              <a:t>62,09 </a:t>
            </a:r>
            <a:r>
              <a:rPr b="0" lang="bg-BG" sz="2200" spc="-1" strike="noStrike">
                <a:solidFill>
                  <a:srgbClr val="a50021"/>
                </a:solidFill>
                <a:latin typeface="Arial"/>
              </a:rPr>
              <a:t>%</a:t>
            </a:r>
            <a:r>
              <a:rPr b="0" lang="bg-BG" sz="2200" spc="-1" strike="noStrike">
                <a:solidFill>
                  <a:srgbClr val="000066"/>
                </a:solidFill>
                <a:latin typeface="Arial"/>
              </a:rPr>
              <a:t> от бюджета на ОПРР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0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179280" y="1484280"/>
            <a:ext cx="87854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ГЛАВНА ДИРЕКЦИЯ „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</a:rPr>
              <a:t>БЛАГОДАРЯ ЗА ВНИМАНИЕ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Деница Нико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Заместник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министър и Ръководител на УО на ОП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66"/>
                </a:solidFill>
                <a:latin typeface="Tahoma"/>
              </a:rPr>
              <a:t>ИНВЕСТИРАМЕ ВЪВ ВАШЕТО БЪДЕЩ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юни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01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5 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р. Соф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4"/>
          <p:cNvSpPr/>
          <p:nvPr/>
        </p:nvSpPr>
        <p:spPr>
          <a:xfrm>
            <a:off x="216072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42984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       </a:t>
            </a: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Финансово изпълнение на ОПРР 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        </a:t>
            </a: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към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03</a:t>
            </a: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.0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6</a:t>
            </a: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.2015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3"/>
          <a:stretch/>
        </p:blipFill>
        <p:spPr>
          <a:xfrm>
            <a:off x="179280" y="1413000"/>
            <a:ext cx="87156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865080" y="158760"/>
            <a:ext cx="7596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800000"/>
                </a:solidFill>
                <a:latin typeface="Arial"/>
              </a:rPr>
              <a:t>Прогноза за финансово изпълнение              към 30.04.2016 г</a:t>
            </a: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4560" y="1441080"/>
            <a:ext cx="885996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66"/>
                </a:solidFill>
                <a:latin typeface="Tahoma"/>
              </a:rPr>
              <a:t>Обща стойност на сертифицираните разходи към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 03</a:t>
            </a:r>
            <a:r>
              <a:rPr b="0" lang="bg-BG" sz="2200" spc="-1" strike="noStrike">
                <a:solidFill>
                  <a:srgbClr val="000066"/>
                </a:solidFill>
                <a:latin typeface="Tahoma"/>
              </a:rPr>
              <a:t>.0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6</a:t>
            </a:r>
            <a:r>
              <a:rPr b="0" lang="bg-BG" sz="2200" spc="-1" strike="noStrike">
                <a:solidFill>
                  <a:srgbClr val="000066"/>
                </a:solidFill>
                <a:latin typeface="Tahoma"/>
              </a:rPr>
              <a:t>.2015 г. – </a:t>
            </a: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845 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млн.</a:t>
            </a: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евро</a:t>
            </a: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 – 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ЕФРР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Tahoma"/>
              </a:rPr>
              <a:t>или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62,09% 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от бюджета на ОПР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66"/>
                </a:solidFill>
                <a:latin typeface="Tahoma"/>
              </a:rPr>
              <a:t>Прогноза за сертифицирани разходи към 31.12.2015 г. –  </a:t>
            </a: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1 246 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млн. евро – ЕФР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66"/>
                </a:solidFill>
                <a:latin typeface="Tahoma"/>
              </a:rPr>
              <a:t>Прогноза за сертифицирани разходи към 30.04.2016 г. –   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1 328 млн.</a:t>
            </a: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евро</a:t>
            </a: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– ЕФРР</a:t>
            </a:r>
            <a:r>
              <a:rPr b="0" lang="bg-BG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Tahoma"/>
              </a:rPr>
              <a:t>или 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97,57 % от бюджета на програмата</a:t>
            </a: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66"/>
                </a:solidFill>
                <a:latin typeface="Tahoma"/>
              </a:rPr>
              <a:t>Очакван риск от неусвояване на средства по програмата - </a:t>
            </a:r>
            <a:r>
              <a:rPr b="0" lang="bg-BG" sz="2200" spc="-1" strike="noStrike">
                <a:solidFill>
                  <a:srgbClr val="800000"/>
                </a:solidFill>
                <a:latin typeface="Tahoma"/>
              </a:rPr>
              <a:t>33 млн. евро – ЕФР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1152360" y="422280"/>
            <a:ext cx="75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</a:t>
            </a: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Изпълнение на ОПРР по приоритетни оси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              </a:t>
            </a: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LOTHAR system</a:t>
            </a: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 – ЕФРР ев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34920" y="1413000"/>
          <a:ext cx="9056520" cy="4452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0" y="1413000"/>
                    <a:ext cx="905652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1189080" y="174600"/>
            <a:ext cx="6838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a50021"/>
                </a:solidFill>
                <a:latin typeface="Arial"/>
              </a:rPr>
              <a:t>Постигнат напредък от Фондовете за градско развитие по 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JESS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1"/>
          <p:cNvSpPr/>
          <p:nvPr/>
        </p:nvSpPr>
        <p:spPr>
          <a:xfrm>
            <a:off x="108000" y="1413000"/>
            <a:ext cx="5040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ойност на сключени договори за финансиране на проекти за градско разви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 за устойчиво градско развитие на София (ФУГРС) ЕАД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оекта с общ бюджет 78,3 млн. лв., в т.ч.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,8 млн. лв.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ОПР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,9 млн. лв.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съфинансиране от Фон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28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7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мл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лв.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обствено съфинансиране от проектните инициато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Регионален фонд за градско развитие (РФГР) АД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оекта с общ бюджет 109 млн. лв., в т.ч.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27 млн. лв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ОПР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3,6 млн. лв.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ъфинансиране от Фон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8,3 мл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лв.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обствено съфинансиране от проектните инициато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Chart 15" descr=""/>
          <p:cNvPicPr/>
          <p:nvPr/>
        </p:nvPicPr>
        <p:blipFill>
          <a:blip r:embed="rId3"/>
          <a:stretch/>
        </p:blipFill>
        <p:spPr>
          <a:xfrm>
            <a:off x="4808520" y="1380960"/>
            <a:ext cx="4278240" cy="2891160"/>
          </a:xfrm>
          <a:prstGeom prst="rect">
            <a:avLst/>
          </a:prstGeom>
          <a:ln w="0">
            <a:noFill/>
          </a:ln>
        </p:spPr>
      </p:pic>
      <p:sp>
        <p:nvSpPr>
          <p:cNvPr id="338" name="TextBox 1"/>
          <p:cNvSpPr/>
          <p:nvPr/>
        </p:nvSpPr>
        <p:spPr>
          <a:xfrm>
            <a:off x="6084720" y="4229280"/>
            <a:ext cx="288000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00000"/>
                </a:solidFill>
                <a:latin typeface="Arial"/>
              </a:rPr>
              <a:t>Дял на договорените средства по ОПРР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ФУГРС ЕАД: </a:t>
            </a:r>
            <a:r>
              <a:rPr b="1" lang="bg-BG" sz="1500" spc="-1" strike="noStrike">
                <a:solidFill>
                  <a:srgbClr val="a50021"/>
                </a:solidFill>
                <a:latin typeface="Arial"/>
              </a:rPr>
              <a:t>104,6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РФГР АД: </a:t>
            </a:r>
            <a:r>
              <a:rPr b="1" lang="bg-BG" sz="1500" spc="-1" strike="noStrike">
                <a:solidFill>
                  <a:srgbClr val="a50021"/>
                </a:solidFill>
                <a:latin typeface="Arial"/>
              </a:rPr>
              <a:t>76,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00000"/>
                </a:solidFill>
                <a:latin typeface="Arial"/>
              </a:rPr>
              <a:t>Процент разплащания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ФУГРС ЕАД: </a:t>
            </a:r>
            <a:r>
              <a:rPr b="1" lang="bg-BG" sz="1500" spc="-1" strike="noStrike">
                <a:solidFill>
                  <a:srgbClr val="a50021"/>
                </a:solidFill>
                <a:latin typeface="Arial"/>
              </a:rPr>
              <a:t>43,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РФГР АД: </a:t>
            </a:r>
            <a:r>
              <a:rPr b="1" lang="bg-BG" sz="1500" spc="-1" strike="noStrike">
                <a:solidFill>
                  <a:srgbClr val="a50021"/>
                </a:solidFill>
                <a:latin typeface="Arial"/>
              </a:rPr>
              <a:t>47,01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ight Arrow 2"/>
          <p:cNvSpPr/>
          <p:nvPr/>
        </p:nvSpPr>
        <p:spPr>
          <a:xfrm>
            <a:off x="5651640" y="4292640"/>
            <a:ext cx="3603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ight Arrow 16"/>
          <p:cNvSpPr/>
          <p:nvPr/>
        </p:nvSpPr>
        <p:spPr>
          <a:xfrm>
            <a:off x="5651640" y="5157720"/>
            <a:ext cx="360360" cy="358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1189080" y="23760"/>
            <a:ext cx="683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Успешни примери на ключови инвест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270000" y="1859040"/>
            <a:ext cx="458928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spcBef>
                <a:spcPts val="1250"/>
              </a:spcBef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62673"/>
                </a:solidFill>
                <a:latin typeface="Arial"/>
              </a:rPr>
              <a:t>Интегриран градски тран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1250"/>
              </a:spcBef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62673"/>
                </a:solidFill>
                <a:latin typeface="Arial"/>
              </a:rPr>
              <a:t>Рехабилитация/реконструкция на второкласна и третокласна пътна мре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1250"/>
              </a:spcBef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62673"/>
                </a:solidFill>
                <a:latin typeface="Arial"/>
              </a:rPr>
              <a:t>Деинституционализация на </a:t>
            </a:r>
            <a:r>
              <a:rPr b="0" lang="en-US" sz="20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262673"/>
                </a:solidFill>
                <a:latin typeface="Arial"/>
              </a:rPr>
              <a:t>децата в Бълга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1250"/>
              </a:spcBef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62673"/>
                </a:solidFill>
                <a:latin typeface="Arial"/>
              </a:rPr>
              <a:t>Изграждане на социални жилища за маргинализирани групи, вкл. ро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1250"/>
              </a:spcBef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73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Инициатива </a:t>
            </a:r>
            <a:r>
              <a:rPr b="0" lang="en-US" sz="2000" spc="-1" strike="noStrike">
                <a:solidFill>
                  <a:srgbClr val="262673"/>
                </a:solidFill>
                <a:latin typeface="Arial"/>
              </a:rPr>
              <a:t>JESS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0"/>
          <p:cNvSpPr/>
          <p:nvPr/>
        </p:nvSpPr>
        <p:spPr>
          <a:xfrm>
            <a:off x="5292720" y="3456000"/>
            <a:ext cx="3703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66"/>
                </a:solidFill>
                <a:latin typeface="Arial"/>
              </a:rPr>
              <a:t>Централна автобусна спирка – гр. Бурга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1" descr="C:\Users\DurmushZ\Desktop\20140715_095853.jpg"/>
          <p:cNvPicPr/>
          <p:nvPr/>
        </p:nvPicPr>
        <p:blipFill>
          <a:blip r:embed="rId3"/>
          <a:stretch/>
        </p:blipFill>
        <p:spPr>
          <a:xfrm>
            <a:off x="5367240" y="3716280"/>
            <a:ext cx="3483000" cy="191304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13"/>
          <p:cNvSpPr/>
          <p:nvPr/>
        </p:nvSpPr>
        <p:spPr>
          <a:xfrm>
            <a:off x="5292720" y="5591160"/>
            <a:ext cx="3732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66"/>
                </a:solidFill>
                <a:latin typeface="Arial"/>
              </a:rPr>
              <a:t>Електронни информационни табла и реконструкция на трамваен релсов  път – гр. Соф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13" descr="C:\Users\DurmushZ\Desktop\38b9100bc4fa3dca91172e865dc93851.jpg"/>
          <p:cNvPicPr/>
          <p:nvPr/>
        </p:nvPicPr>
        <p:blipFill>
          <a:blip r:embed="rId4"/>
          <a:stretch/>
        </p:blipFill>
        <p:spPr>
          <a:xfrm>
            <a:off x="5372280" y="1413000"/>
            <a:ext cx="348264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1152360" y="422280"/>
            <a:ext cx="75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Ефект от изпълнението на ОП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4500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бщ брой приключени проекти 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823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бр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бновени/реконструиран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гради на образователна, социална и културна инфраструктура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1020 бр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училища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43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сград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детски ясли и градини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 - 3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83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сград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гради на културната инфраструктура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- 6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9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(55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читалища и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1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сгради на държавни културни институции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- 3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училища в сферата на културата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театри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, 3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опери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, 4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музея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и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1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концертна зала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оциална инфраструктура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- 80 сгра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(45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социални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институции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и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35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бюра по труда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бновени/реконструиран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гради на университети 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–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3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 бр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14" descr="\\oprd-nfs\DG_PRD\-=Public=-\-= Photos =-\1_snimki+info_proekti_shemi_PRR\05-02-2013 Снимки приключили проекти ОПРР\Североизточен район\Ikonomicheski universitet Varna\Читалня - сега.JPG"/>
          <p:cNvPicPr/>
          <p:nvPr/>
        </p:nvPicPr>
        <p:blipFill>
          <a:blip r:embed="rId3"/>
          <a:stretch/>
        </p:blipFill>
        <p:spPr>
          <a:xfrm>
            <a:off x="6877080" y="3805200"/>
            <a:ext cx="2266920" cy="21542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5" descr="\\oprd-nfs\DG_PRD\-=Public=-\-= Photos =-\1_snimki+info_proekti_shemi_PRR\05-02-2013 Снимки приключили проекти ОПРР\Североизточен район\Ikonomicheski universitet Varna\Учебен блок 2 - 1 - сега.JPG"/>
          <p:cNvPicPr/>
          <p:nvPr/>
        </p:nvPicPr>
        <p:blipFill>
          <a:blip r:embed="rId4"/>
          <a:stretch/>
        </p:blipFill>
        <p:spPr>
          <a:xfrm>
            <a:off x="4446720" y="3805200"/>
            <a:ext cx="2430360" cy="215424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4"/>
          <p:cNvSpPr/>
          <p:nvPr/>
        </p:nvSpPr>
        <p:spPr>
          <a:xfrm>
            <a:off x="4859280" y="5597640"/>
            <a:ext cx="403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Икономически университет - Вар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6" descr="\\oprd-nfs\DG_PRD\-=Public=-\-= Photos =-\1_snimki+info_proekti_shemi_PRR\1.1-05 МК\1.1-05 Rusenska opera\Rousse Opera House 3.JPG"/>
          <p:cNvPicPr/>
          <p:nvPr/>
        </p:nvPicPr>
        <p:blipFill>
          <a:blip r:embed="rId5"/>
          <a:stretch/>
        </p:blipFill>
        <p:spPr>
          <a:xfrm>
            <a:off x="6877080" y="1413000"/>
            <a:ext cx="2266920" cy="239220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14"/>
          <p:cNvSpPr/>
          <p:nvPr/>
        </p:nvSpPr>
        <p:spPr>
          <a:xfrm>
            <a:off x="6877080" y="3398760"/>
            <a:ext cx="22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Опера – гр.Рус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8" descr="\\oprd-nfs\DG_PRD\-=Public=-\-= Photos =-\за календар 2015\Допълнителни\ДЪЛГОПОЛ УЧИЛИЩЕ ОПРР\P4090570.JPG"/>
          <p:cNvPicPr/>
          <p:nvPr/>
        </p:nvPicPr>
        <p:blipFill>
          <a:blip r:embed="rId6"/>
          <a:stretch/>
        </p:blipFill>
        <p:spPr>
          <a:xfrm>
            <a:off x="4446720" y="1413000"/>
            <a:ext cx="2430360" cy="239220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14"/>
          <p:cNvSpPr/>
          <p:nvPr/>
        </p:nvSpPr>
        <p:spPr>
          <a:xfrm>
            <a:off x="4473720" y="3444840"/>
            <a:ext cx="2266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Община Дългоп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1152360" y="422280"/>
            <a:ext cx="75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Ефект от изпълнението на ОП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5076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одкрепа за деинституционализация на децата в България 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изградени 108 ЦНСТ, 16 изградени, обзаведени и оборудвани защитени жилища и 5 бр. ремонтирани и оборудвани защитени жилищ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Рехабилитиран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реконструиран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ътищ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 02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км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одобрена градска сред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зелени площ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детски площадки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над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млн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кв.м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селение, облагодетелствано от подобрената градска сред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над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млн. душ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зграден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рехабилитиран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ешеходни зон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велоалеи, тротоар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над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хил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кв.м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5" descr="C:\Users\DimitrovaTs\Pictures\за презентация 15КН\CNST_Petrich_0011.JPG"/>
          <p:cNvPicPr/>
          <p:nvPr/>
        </p:nvPicPr>
        <p:blipFill>
          <a:blip r:embed="rId3"/>
          <a:stretch/>
        </p:blipFill>
        <p:spPr>
          <a:xfrm>
            <a:off x="5076720" y="1341360"/>
            <a:ext cx="4067280" cy="1368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6" descr="\\oprd-nfs\DG_PRD\-=Public=-\-= Photos =-\1_snimki+info_proekti_shemi_PRR\2.1-01 АПИ пътища\ЮЦР\2.1-01 лот 38 апи\DSC_1578.JPG"/>
          <p:cNvPicPr/>
          <p:nvPr/>
        </p:nvPicPr>
        <p:blipFill>
          <a:blip r:embed="rId4"/>
          <a:stretch/>
        </p:blipFill>
        <p:spPr>
          <a:xfrm>
            <a:off x="5076720" y="2709720"/>
            <a:ext cx="4067280" cy="138924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15"/>
          <p:cNvSpPr/>
          <p:nvPr/>
        </p:nvSpPr>
        <p:spPr>
          <a:xfrm>
            <a:off x="5651640" y="3759120"/>
            <a:ext cx="34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Лот 38 – област Пловди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5"/>
          <p:cNvSpPr/>
          <p:nvPr/>
        </p:nvSpPr>
        <p:spPr>
          <a:xfrm>
            <a:off x="5113440" y="234792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ЦНСТ - Петр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7" descr="\\oprd-nfs\DG_PRD\-=Public=-\-= Photos =-\1_snimki+info_proekti_shemi_PRR\1.4-09\СИР\Добрич - гр.парк Св.Георги\New folder\Дч. 5.jpg"/>
          <p:cNvPicPr/>
          <p:nvPr/>
        </p:nvPicPr>
        <p:blipFill>
          <a:blip r:embed="rId5"/>
          <a:stretch/>
        </p:blipFill>
        <p:spPr>
          <a:xfrm>
            <a:off x="5076720" y="4098960"/>
            <a:ext cx="4073760" cy="185112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15"/>
          <p:cNvSpPr/>
          <p:nvPr/>
        </p:nvSpPr>
        <p:spPr>
          <a:xfrm>
            <a:off x="5832360" y="5610240"/>
            <a:ext cx="32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Градска среда - Добр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Greta Dobreva Dimitrova</cp:lastModifiedBy>
  <dcterms:modified xsi:type="dcterms:W3CDTF">2015-06-03T12:27:48Z</dcterms:modified>
  <cp:revision>959</cp:revision>
  <dc:subject/>
  <dc:title>Diapositiva 1</dc:title>
</cp:coreProperties>
</file>