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518B-E641-4286-9A62-4AD44F13DA9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29BA-0C4D-470E-90D8-22D73399E59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70A-2F71-40CE-862D-BB71703D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513-0824-4DA5-8937-A545898D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F7F-C26A-4554-BBD9-DB9B7AA2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84B-3A85-4795-AA03-DB22BF4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43FE-6DD6-4075-8CBE-AC250A67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BBF-49AE-40AF-B192-9ADD3304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B27E-74EC-41E7-AD28-6D4CEE5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9D95-0E75-4EC0-B55F-CE970218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A7D0-5E1F-444A-8B3A-9D43E63D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44A0-F809-4435-818F-2A6C309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2DC5-5C30-426D-AB92-3C1007B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5FC-5297-4DC4-9091-23045C60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2B6E-B007-45FF-BCF4-61B96ED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7B30-3239-4FAE-AFA5-972CAF3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C16-06AD-4BD5-926F-B780F7D1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8A6-F03D-46CE-985C-609274B7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1882-66EC-4E6E-B141-80947A11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9644-1569-4465-B8B7-4E056B0A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C585-D0D5-4968-B9BF-6DB4CA5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58F0-8CFA-45C9-BFEC-E7080D13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0BD7-A892-4898-9177-B515C94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C711-0469-4205-8D54-8462C19C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1B4-7385-418D-8BD2-32FD60EF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D2CD-2EB0-4084-BB3A-31BF334A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556F-A753-4798-8BE1-8FF004B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802-9BCF-422C-8B37-1F42D14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BC3B-B205-4FA9-9315-B442227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CEB0-D54D-48C5-A77E-CD98327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AB40-3BE4-4A14-AC19-5D8D7A1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3D32-9C0D-4008-909F-FF324B59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D61C-46B1-4EDC-90F8-68ED028E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3619-A384-46BE-8E87-1022DB1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E6EE-C201-46DD-BF10-E2DE0733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9C2-8F33-49CF-8634-16E03CC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E9D7-9176-4E86-8D9A-D523E8E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22AD-9CF8-4B9C-9368-51911004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B078-23B3-438D-BD14-AE2DA22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A74E-A03C-415F-AE63-24471BA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239C-8053-4C90-9216-52DEE02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36C88-FAA4-4B76-8FE2-2A8E283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18C4-A27F-474D-B11A-3C5FA24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FF4D-05CC-4FC8-B850-AC1FAD11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CE45-E45D-477F-BC10-8D3E076B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BE4-AF31-47FA-A109-7C44CD9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EB9-8AEF-476A-8E4C-8DE5798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56F-040B-4511-8AF7-9BF5151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DC3-7FEB-4677-9D98-24CC9E1C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70F-BAC4-4E44-A20E-B368EAE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204-DFBD-4B4A-963C-16754FF880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948-A751-499E-91E0-D0BE5FA790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2E8-037E-4DE5-B900-0F3DA0479C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215-C413-41E4-88E3-BA42E09CB2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„Региони в растеж“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2014-2020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0"/>
          <p:cNvSpPr/>
          <p:nvPr/>
        </p:nvSpPr>
        <p:spPr>
          <a:xfrm>
            <a:off x="666720" y="517680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КОМИТЕТ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 ЗА 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54120" y="587052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547640" y="338040"/>
            <a:ext cx="597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Техническ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4878360" y="2322360"/>
            <a:ext cx="3889440" cy="62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О и Бенефициенти на ОПРР 2014-20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6615720" y="196920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7"/>
          <p:cNvSpPr/>
          <p:nvPr/>
        </p:nvSpPr>
        <p:spPr>
          <a:xfrm>
            <a:off x="4863960" y="3208320"/>
            <a:ext cx="38894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О и Бенефициенти на ОПРР 2014-20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6"/>
          <p:cNvSpPr/>
          <p:nvPr/>
        </p:nvSpPr>
        <p:spPr>
          <a:xfrm>
            <a:off x="4156200" y="4270320"/>
            <a:ext cx="14158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Информация и публично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7"/>
          <p:cNvSpPr/>
          <p:nvPr/>
        </p:nvSpPr>
        <p:spPr>
          <a:xfrm>
            <a:off x="5675400" y="4281480"/>
            <a:ext cx="14414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Ефективност на У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8"/>
          <p:cNvSpPr/>
          <p:nvPr/>
        </p:nvSpPr>
        <p:spPr>
          <a:xfrm>
            <a:off x="7261200" y="4248000"/>
            <a:ext cx="17035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апацитет на бенефициент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 rot="5400000">
            <a:off x="504900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 rot="5400000">
            <a:off x="642852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 rot="5400000">
            <a:off x="788904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887400" y="351000"/>
            <a:ext cx="7658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8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Техническа помощ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1413000"/>
            <a:ext cx="4716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52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3"/>
          <a:stretch/>
        </p:blipFill>
        <p:spPr>
          <a:xfrm>
            <a:off x="587520" y="2455920"/>
            <a:ext cx="3294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042920" y="1844640"/>
            <a:ext cx="7274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алник на отдел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рограмиране, оценка, информация и публичност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ГД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619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риториален обхват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GISuser\Desktop\centralni i periferni rajoni.jpg"/>
          <p:cNvPicPr/>
          <p:nvPr/>
        </p:nvPicPr>
        <p:blipFill>
          <a:blip r:embed="rId2"/>
          <a:stretch/>
        </p:blipFill>
        <p:spPr>
          <a:xfrm>
            <a:off x="539640" y="1413000"/>
            <a:ext cx="6696360" cy="460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6696000" y="4581360"/>
            <a:ext cx="2305080" cy="93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rcRect l="0" t="0" r="22708" b="-26221"/>
          <a:stretch/>
        </p:blipFill>
        <p:spPr>
          <a:xfrm>
            <a:off x="6696000" y="545292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5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1 „Устойчиво и интегрирано градско развитие“ – индикати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70000" y="1413000"/>
          <a:ext cx="8623080" cy="4130640"/>
        </p:xfrm>
        <a:graphic>
          <a:graphicData uri="http://schemas.openxmlformats.org/drawingml/2006/table">
            <a:tbl>
              <a:tblPr/>
              <a:tblGrid>
                <a:gridCol w="6064200"/>
                <a:gridCol w="1509480"/>
                <a:gridCol w="1049400"/>
              </a:tblGrid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и средства + национално съфинанси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1 "Устойчиво и интегрирано градско развитие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подкрепа  за  преминаването  към  нисковъглеродна </a:t>
                      </a:r>
                      <a:br>
                        <a:rPr sz="1600"/>
                      </a:b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номика във всички сект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 962 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4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опазване  на околната  среда и  насърчаване  на ресурсната ефектив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991 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8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насърчаване  на  социалното  включване, борбата  с бедността и дискриминация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800 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инвестиции в образованието, уменията и ученето през </a:t>
                      </a:r>
                      <a:br>
                        <a:rPr sz="1600"/>
                      </a:b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я жив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0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1 „Устойчиво и интегрирано градско развитие“ – рамка за изпъ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08000" y="1258920"/>
          <a:ext cx="8964720" cy="4718160"/>
        </p:xfrm>
        <a:graphic>
          <a:graphicData uri="http://schemas.openxmlformats.org/drawingml/2006/table">
            <a:tbl>
              <a:tblPr/>
              <a:tblGrid>
                <a:gridCol w="4978440"/>
                <a:gridCol w="938160"/>
                <a:gridCol w="1442880"/>
                <a:gridCol w="160524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2530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а о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3 352 61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: Понижаване на годишното потребление на първична енергия от обществените сгр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ч/г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732 28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682 34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Незастроени площи, създадени или рехабилитирани в градските райо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8 72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84 72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жи за децата и образование: Капацитет на подпомогнатата инфраструктура, предназначена за грижи за децата или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9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57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Рехабилитирани жилища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Обществени или търговски сгради, построени или обнове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06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91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, ползващо подобрени социални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 57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38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образовател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87480" y="1446120"/>
            <a:ext cx="4628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5364000" y="3321000"/>
            <a:ext cx="15703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чилищно образ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7507440" y="3321000"/>
            <a:ext cx="15001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Висше образ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 rot="5400000">
            <a:off x="7989840" y="2425680"/>
            <a:ext cx="1098360" cy="342720"/>
          </a:xfrm>
          <a:prstGeom prst="rightArrow">
            <a:avLst>
              <a:gd name="adj1" fmla="val 50000"/>
              <a:gd name="adj2" fmla="val 2498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 rot="5400000">
            <a:off x="5455440" y="2463120"/>
            <a:ext cx="1100160" cy="342720"/>
          </a:xfrm>
          <a:prstGeom prst="rightArrow">
            <a:avLst>
              <a:gd name="adj1" fmla="val 50000"/>
              <a:gd name="adj2" fmla="val 25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5311800" y="4292640"/>
            <a:ext cx="162396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тодология за приоритиз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 rot="5400000">
            <a:off x="5769720" y="3964680"/>
            <a:ext cx="277920" cy="29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311800" y="5259240"/>
            <a:ext cx="16225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, МОН, МЗХ, ММС, М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276960" y="2527200"/>
            <a:ext cx="200340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Ресурс за съответните образователни и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7507440" y="4311720"/>
            <a:ext cx="150012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йтингова систе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7507440" y="5259240"/>
            <a:ext cx="15001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висши училищ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21320" y="2048040"/>
            <a:ext cx="1738440" cy="34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MS Minngs"/>
              </a:rPr>
              <a:t>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 rot="5400000">
            <a:off x="5828040" y="489168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 rot="5400000">
            <a:off x="8080560" y="396468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 rot="5400000">
            <a:off x="8080560" y="496476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224320" y="1484280"/>
            <a:ext cx="381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образовател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421320" y="2048040"/>
            <a:ext cx="1852560" cy="34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О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200" y="1782720"/>
          <a:ext cx="4997520" cy="1857240"/>
        </p:xfrm>
        <a:graphic>
          <a:graphicData uri="http://schemas.openxmlformats.org/drawingml/2006/table">
            <a:tbl>
              <a:tblPr/>
              <a:tblGrid>
                <a:gridCol w="2382840"/>
                <a:gridCol w="355680"/>
                <a:gridCol w="1203480"/>
                <a:gridCol w="1055520"/>
              </a:tblGrid>
              <a:tr h="91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431 22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ацитет на подпомогнатата инфраструктура, предназначена за грижи за децата или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30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87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5" descr="http://www.bgregio.eu/media/Dobri%20praktiki/DSC_0520.JPG"/>
          <p:cNvPicPr/>
          <p:nvPr/>
        </p:nvPicPr>
        <p:blipFill>
          <a:blip r:embed="rId4"/>
          <a:stretch/>
        </p:blipFill>
        <p:spPr>
          <a:xfrm>
            <a:off x="684360" y="4010040"/>
            <a:ext cx="3456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690560" y="189000"/>
            <a:ext cx="597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4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здрав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здрав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4842000" y="2303640"/>
            <a:ext cx="18176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MS Minngs"/>
              </a:rPr>
              <a:t>Концепция за болнич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6891480" y="2303640"/>
            <a:ext cx="18572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онцепция за спешн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ight Brace 3"/>
          <p:cNvSpPr/>
          <p:nvPr/>
        </p:nvSpPr>
        <p:spPr>
          <a:xfrm rot="5620200">
            <a:off x="6084360" y="2112840"/>
            <a:ext cx="431640" cy="76212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762120"/>
              <a:gd name="textAreaBottom" fmla="*/ 7509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16200" y="10800"/>
                  <a:pt x="21600" y="10800"/>
                </a:cubicBezTo>
                <a:cubicBezTo>
                  <a:pt x="162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5"/>
          <p:cNvCxnSpPr>
            <a:stCxn id="244" idx="2"/>
          </p:cNvCxnSpPr>
          <p:nvPr/>
        </p:nvCxnSpPr>
        <p:spPr>
          <a:xfrm flipH="1">
            <a:off x="5580000" y="1915920"/>
            <a:ext cx="1207080" cy="338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11"/>
          <p:cNvCxnSpPr>
            <a:stCxn id="244" idx="2"/>
          </p:cNvCxnSpPr>
          <p:nvPr/>
        </p:nvCxnSpPr>
        <p:spPr>
          <a:xfrm>
            <a:off x="6786720" y="1915920"/>
            <a:ext cx="1170720" cy="369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Oval 13"/>
          <p:cNvSpPr/>
          <p:nvPr/>
        </p:nvSpPr>
        <p:spPr>
          <a:xfrm>
            <a:off x="4829040" y="3521160"/>
            <a:ext cx="4122720" cy="2336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хническа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упуване на линей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дернизация на спешни медицински центрове и техните филиали и спешни отделения в спешни болнични комплек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9"/>
          <p:cNvSpPr/>
          <p:nvPr/>
        </p:nvSpPr>
        <p:spPr>
          <a:xfrm>
            <a:off x="4680000" y="3068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</a:rPr>
              <a:t>Голям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4"/>
          <p:cNvSpPr/>
          <p:nvPr/>
        </p:nvSpPr>
        <p:spPr>
          <a:xfrm>
            <a:off x="4842000" y="2303640"/>
            <a:ext cx="193176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онцепция за болничнат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0" y="1484280"/>
            <a:ext cx="4829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kavarna.bg/pictures/5f01593d78910e5f223e76ea200ba454.jpg"/>
          <p:cNvPicPr/>
          <p:nvPr/>
        </p:nvPicPr>
        <p:blipFill>
          <a:blip r:embed="rId3"/>
          <a:stretch/>
        </p:blipFill>
        <p:spPr>
          <a:xfrm>
            <a:off x="1042920" y="4076640"/>
            <a:ext cx="3097440" cy="19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08000" y="1803240"/>
          <a:ext cx="4721040" cy="1986120"/>
        </p:xfrm>
        <a:graphic>
          <a:graphicData uri="http://schemas.openxmlformats.org/drawingml/2006/table">
            <a:tbl>
              <a:tblPr/>
              <a:tblGrid>
                <a:gridCol w="1944720"/>
                <a:gridCol w="647640"/>
                <a:gridCol w="863640"/>
                <a:gridCol w="1265040"/>
              </a:tblGrid>
              <a:tr h="1032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929 07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бряване на голям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87480" y="1482840"/>
            <a:ext cx="51130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C:\Users\DimitrovaTs\Pictures\за презентация 15КН\CNST_Petrich_0011.JPG"/>
          <p:cNvPicPr/>
          <p:nvPr/>
        </p:nvPicPr>
        <p:blipFill>
          <a:blip r:embed="rId2"/>
          <a:stretch/>
        </p:blipFill>
        <p:spPr>
          <a:xfrm>
            <a:off x="1176480" y="4008600"/>
            <a:ext cx="3090600" cy="184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390680" y="658800"/>
            <a:ext cx="642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5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социал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200560" y="1433520"/>
            <a:ext cx="38721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социал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5140440" y="3276720"/>
            <a:ext cx="112716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Де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7813800" y="3276720"/>
            <a:ext cx="125892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Възрастни х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5400000">
            <a:off x="7862760" y="2441520"/>
            <a:ext cx="1044360" cy="342720"/>
          </a:xfrm>
          <a:prstGeom prst="rightArrow">
            <a:avLst>
              <a:gd name="adj1" fmla="val 50000"/>
              <a:gd name="adj2" fmla="val 249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 rot="5400000">
            <a:off x="5153760" y="2388600"/>
            <a:ext cx="1100160" cy="342720"/>
          </a:xfrm>
          <a:prstGeom prst="rightArrow">
            <a:avLst>
              <a:gd name="adj1" fmla="val 50000"/>
              <a:gd name="adj2" fmla="val 25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5140440" y="4248000"/>
            <a:ext cx="1860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MS Minngs"/>
              </a:rPr>
              <a:t>Визия за деинституционализация на дец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 rot="5400000">
            <a:off x="6158160" y="3551760"/>
            <a:ext cx="277920" cy="1035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5140440" y="5214960"/>
            <a:ext cx="112716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6267600" y="2476440"/>
            <a:ext cx="17380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азпределение на ресур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7464600" y="4267080"/>
            <a:ext cx="16081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Стратегия за дългосрочна виз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7464600" y="5214960"/>
            <a:ext cx="16081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6267600" y="1996920"/>
            <a:ext cx="1738080" cy="34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ТС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 rot="5400000">
            <a:off x="5564880" y="485064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 rot="5400000">
            <a:off x="8123400" y="38977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 rot="5400000">
            <a:off x="8123760" y="489816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6372360" y="3289320"/>
            <a:ext cx="132084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дико-социални домов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6311880" y="5214960"/>
            <a:ext cx="1014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 – М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5400000">
            <a:off x="6631200" y="4440600"/>
            <a:ext cx="1046160" cy="343080"/>
          </a:xfrm>
          <a:prstGeom prst="rightArrow">
            <a:avLst>
              <a:gd name="adj1" fmla="val 50000"/>
              <a:gd name="adj2" fmla="val 249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7480" y="1928880"/>
          <a:ext cx="4916160" cy="1832040"/>
        </p:xfrm>
        <a:graphic>
          <a:graphicData uri="http://schemas.openxmlformats.org/drawingml/2006/table">
            <a:tbl>
              <a:tblPr/>
              <a:tblGrid>
                <a:gridCol w="2224080"/>
                <a:gridCol w="747720"/>
                <a:gridCol w="796680"/>
                <a:gridCol w="1147680"/>
              </a:tblGrid>
              <a:tr h="537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170 93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подкрепени обекти на социалната инфраструктура в процеса на деинституцион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533600" y="306360"/>
            <a:ext cx="5978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ен туризъ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4878360" y="2322360"/>
            <a:ext cx="3889440" cy="62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Фонд за инвестиции в туриз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 rot="5400000">
            <a:off x="6615720" y="196920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4809960" y="3170160"/>
            <a:ext cx="2214720" cy="172080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6575400" y="3186000"/>
            <a:ext cx="2238480" cy="172260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4809960" y="370368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Безвъзмездна финансова помо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829560" y="374976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Финансови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4"/>
          <p:cNvSpPr/>
          <p:nvPr/>
        </p:nvSpPr>
        <p:spPr>
          <a:xfrm>
            <a:off x="5626080" y="4616280"/>
            <a:ext cx="2616120" cy="1419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нтегриран туристически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81160" y="593640"/>
            <a:ext cx="642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6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ен туризъм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0" y="1413000"/>
            <a:ext cx="484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15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10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3"/>
          <a:stretch/>
        </p:blipFill>
        <p:spPr>
          <a:xfrm>
            <a:off x="903240" y="4046400"/>
            <a:ext cx="3035520" cy="19004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graphicFrame>
        <p:nvGraphicFramePr>
          <p:cNvPr id="305" name=""/>
          <p:cNvGraphicFramePr/>
          <p:nvPr/>
        </p:nvGraphicFramePr>
        <p:xfrm>
          <a:off x="101520" y="1785960"/>
          <a:ext cx="4614840" cy="1498680"/>
        </p:xfrm>
        <a:graphic>
          <a:graphicData uri="http://schemas.openxmlformats.org/drawingml/2006/table">
            <a:tbl>
              <a:tblPr/>
              <a:tblGrid>
                <a:gridCol w="2011320"/>
                <a:gridCol w="658800"/>
                <a:gridCol w="865440"/>
                <a:gridCol w="1079280"/>
              </a:tblGrid>
              <a:tr h="4518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735 52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755 8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ъздаване на финансов инструмент за развитие на туризм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131760" y="1217520"/>
            <a:ext cx="4840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6" descr=""/>
          <p:cNvPicPr/>
          <p:nvPr/>
        </p:nvPicPr>
        <p:blipFill>
          <a:blip r:embed="rId2"/>
          <a:stretch/>
        </p:blipFill>
        <p:spPr>
          <a:xfrm>
            <a:off x="971640" y="3675240"/>
            <a:ext cx="3529080" cy="22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8"/>
          <p:cNvSpPr/>
          <p:nvPr/>
        </p:nvSpPr>
        <p:spPr>
          <a:xfrm>
            <a:off x="826920" y="317520"/>
            <a:ext cx="765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7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ъ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4971960" y="1471680"/>
            <a:ext cx="38721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път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7370640" y="3114720"/>
            <a:ext cx="1473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тодика и критер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4971960" y="3114720"/>
            <a:ext cx="14572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Пътна стратег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5969160" y="2325600"/>
            <a:ext cx="1738080" cy="558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АП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5969160" y="4361040"/>
            <a:ext cx="1738080" cy="59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Приоритизирани пътни отсеч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6665040" y="19533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7341000">
            <a:off x="7534800" y="3863160"/>
            <a:ext cx="344520" cy="342720"/>
          </a:xfrm>
          <a:prstGeom prst="rightArrow">
            <a:avLst>
              <a:gd name="adj1" fmla="val 50000"/>
              <a:gd name="adj2" fmla="val 2506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 rot="2892600">
            <a:off x="5911920" y="3846600"/>
            <a:ext cx="342720" cy="342720"/>
          </a:xfrm>
          <a:prstGeom prst="rightArrow">
            <a:avLst>
              <a:gd name="adj1" fmla="val 50000"/>
              <a:gd name="adj2" fmla="val 249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5400000">
            <a:off x="6258240" y="3521880"/>
            <a:ext cx="1157400" cy="343080"/>
          </a:xfrm>
          <a:prstGeom prst="rightArrow">
            <a:avLst>
              <a:gd name="adj1" fmla="val 50000"/>
              <a:gd name="adj2" fmla="val 249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31760" y="1863720"/>
          <a:ext cx="4727520" cy="1670040"/>
        </p:xfrm>
        <a:graphic>
          <a:graphicData uri="http://schemas.openxmlformats.org/drawingml/2006/table">
            <a:tbl>
              <a:tblPr/>
              <a:tblGrid>
                <a:gridCol w="2063880"/>
                <a:gridCol w="503280"/>
                <a:gridCol w="1081080"/>
                <a:gridCol w="1079280"/>
              </a:tblGrid>
              <a:tr h="618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 428 29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сеен транспорт: Обща дължина на реконструирани или модернизирани пътищ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cp:lastPrinted>2015-04-28T17:44:28Z</cp:lastPrinted>
  <dcterms:modified xsi:type="dcterms:W3CDTF">2015-06-03T12:32:03Z</dcterms:modified>
  <cp:revision>1133</cp:revision>
  <dc:subject/>
  <dc:title>Diapositiva 1</dc:title>
</cp:coreProperties>
</file>