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DB44-C546-4A7A-B81F-006056897D47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5728-E260-48B2-9DFA-3F4AD152049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A6F-2A00-424D-9F1A-4F89553E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67A-9723-443D-93DF-ECAB9A33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221-02A3-4BA8-8321-E8BFC978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1B3-E765-40C5-B514-9C7E5F3D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1688-9138-4920-B1B3-7791148D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E8D0-C893-458C-9B62-2353AE18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FAA7-8180-4938-85DC-C9D7949B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60F5-7500-4450-B603-63C3F9D8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1495-3914-4055-8A52-11D41B15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0E30-F363-4737-8CCF-DADE65B4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A2BA-A22E-4614-A88E-C6FAB64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9FD-4FEC-4BD4-A4E8-D3D181B3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22DF-6F9E-4BBF-8D57-E6D169C0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7EC4-54DB-4E0C-9501-ED15262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6B2C-0BA8-45BD-A509-C22ED666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1CDB-ECD2-44B8-89E9-CFF4394E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9247-A15F-4179-891E-B2DD028D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68C04-9F7B-4E25-8268-875876CA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D6769-1076-4135-8D9F-CCF623CA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51C0-2AA4-4A9B-B1C9-3223DB06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AFC5-1CB4-4E7D-A8D5-07B35BAD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9178-80E6-4C0F-BCB0-DE40BD0F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266-38B0-4F75-B03A-9D44191E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169E-709F-4F84-9453-99643F53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85D5F-8762-4B9C-B914-3AC64EE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12EE4-F650-4FAA-9ABF-48CAFB67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DE60-29BE-4C3F-8731-BE2C9519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2138B-7E60-4920-938C-395A1DBE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75480-1E70-4B63-91FE-AD8A23E6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515E1-4720-49A6-B318-3C7BEF5A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3A13-E0BF-40D1-9F8A-5A3EA6F9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625E-DF09-4D97-8646-F884F210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FF3E-D335-48A6-8B34-CD07D73C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871-2336-4373-A8E3-7655F87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04FE4-20D1-4B56-B6C9-72F9BC4F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9D7AA-D050-4DDB-9715-12617F95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25A73-CEF5-4095-B8D8-F0BBCD15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C1F16-378A-4AAE-B7D1-17A5920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2350B-742E-4522-84CD-85ED8F48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E68D6-561B-4BDE-93F6-E23B55C7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F27F9-294A-41B6-B507-157AB92B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A08CA-09FA-43D1-A5E0-89C43BD6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D5107-6590-43BD-9EB7-7EE2E2EF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C42-E24A-4AF5-B4C8-6A87136A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082-4869-4528-80AF-ECBCACFE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0407-7981-410C-8EA4-86401D0C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674-8CF3-4659-B0D7-EC81A8AC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21F-6BDB-495E-BA2F-53A18996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CF05-A19B-4A1E-90E1-F52092823D7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92EF-8203-436D-AE1A-023D753F80F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4030-D39F-405F-9A73-8F134A64FF9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5383-401E-425C-A8F6-E1B46450EB6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0"/>
          <p:cNvSpPr/>
          <p:nvPr/>
        </p:nvSpPr>
        <p:spPr>
          <a:xfrm>
            <a:off x="146160" y="4005360"/>
            <a:ext cx="622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Оперативна програма „Региони в растеж“</a:t>
            </a: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 2014-2020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70"/>
          <p:cNvSpPr/>
          <p:nvPr/>
        </p:nvSpPr>
        <p:spPr>
          <a:xfrm>
            <a:off x="666720" y="517680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КОМИТЕТ</a:t>
            </a:r>
            <a:r>
              <a:rPr b="1" lang="en-US" sz="2400" spc="-1" strike="noStrike">
                <a:solidFill>
                  <a:srgbClr val="800000"/>
                </a:solidFill>
                <a:latin typeface="Sylfaen"/>
              </a:rPr>
              <a:t>  </a:t>
            </a: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 ЗА </a:t>
            </a:r>
            <a:r>
              <a:rPr b="1" lang="en-US" sz="2400" spc="-1" strike="noStrike">
                <a:solidFill>
                  <a:srgbClr val="800000"/>
                </a:solidFill>
                <a:latin typeface="Sylfaen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54120" y="5870520"/>
            <a:ext cx="457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Втор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0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547640" y="338040"/>
            <a:ext cx="597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8"/>
          <p:cNvSpPr/>
          <p:nvPr/>
        </p:nvSpPr>
        <p:spPr>
          <a:xfrm>
            <a:off x="4842000" y="1484280"/>
            <a:ext cx="38890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Техническа помо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0"/>
          <p:cNvSpPr/>
          <p:nvPr/>
        </p:nvSpPr>
        <p:spPr>
          <a:xfrm>
            <a:off x="4878360" y="2322360"/>
            <a:ext cx="3889440" cy="62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УО и Бенефициенти на ОПРР 2014-20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 rot="5400000">
            <a:off x="6615720" y="1969200"/>
            <a:ext cx="27756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7"/>
          <p:cNvSpPr/>
          <p:nvPr/>
        </p:nvSpPr>
        <p:spPr>
          <a:xfrm>
            <a:off x="4863960" y="3208320"/>
            <a:ext cx="3889440" cy="625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УО и Бенефициенти на ОПРР 2014-20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6"/>
          <p:cNvSpPr/>
          <p:nvPr/>
        </p:nvSpPr>
        <p:spPr>
          <a:xfrm>
            <a:off x="4156200" y="4270320"/>
            <a:ext cx="14158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Информация и публичнос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7"/>
          <p:cNvSpPr/>
          <p:nvPr/>
        </p:nvSpPr>
        <p:spPr>
          <a:xfrm>
            <a:off x="5675400" y="4281480"/>
            <a:ext cx="144144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Ефективност на У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8"/>
          <p:cNvSpPr/>
          <p:nvPr/>
        </p:nvSpPr>
        <p:spPr>
          <a:xfrm>
            <a:off x="7261200" y="4248000"/>
            <a:ext cx="170352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Капацитет на бенефициентит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 rot="5400000">
            <a:off x="5049000" y="3875760"/>
            <a:ext cx="27756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/>
          <p:cNvSpPr/>
          <p:nvPr/>
        </p:nvSpPr>
        <p:spPr>
          <a:xfrm rot="5400000">
            <a:off x="6428520" y="3875760"/>
            <a:ext cx="27756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 rot="5400000">
            <a:off x="7889040" y="3875760"/>
            <a:ext cx="27756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887400" y="351000"/>
            <a:ext cx="7658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8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Техническа помощ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0" y="1413000"/>
            <a:ext cx="4716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52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3"/>
          <a:stretch/>
        </p:blipFill>
        <p:spPr>
          <a:xfrm>
            <a:off x="587520" y="2455920"/>
            <a:ext cx="3294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042920" y="1844640"/>
            <a:ext cx="7274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Началник на отдел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рограмиране, оценка, информация и публичност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, ГД „Програмиране на регионалнот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619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Териториален обхват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Users\GISuser\Desktop\centralni i periferni rajoni.jpg"/>
          <p:cNvPicPr/>
          <p:nvPr/>
        </p:nvPicPr>
        <p:blipFill>
          <a:blip r:embed="rId2"/>
          <a:stretch/>
        </p:blipFill>
        <p:spPr>
          <a:xfrm>
            <a:off x="539640" y="1413000"/>
            <a:ext cx="6696360" cy="46098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6696000" y="4581360"/>
            <a:ext cx="2305080" cy="935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4"/>
          <a:srcRect l="0" t="0" r="22708" b="-26221"/>
          <a:stretch/>
        </p:blipFill>
        <p:spPr>
          <a:xfrm>
            <a:off x="6696000" y="5452920"/>
            <a:ext cx="2160720" cy="557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5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6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1 „Устойчиво и интегрирано градско развитие“ – индикативен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70000" y="1413000"/>
          <a:ext cx="8623080" cy="4130640"/>
        </p:xfrm>
        <a:graphic>
          <a:graphicData uri="http://schemas.openxmlformats.org/drawingml/2006/table">
            <a:tbl>
              <a:tblPr/>
              <a:tblGrid>
                <a:gridCol w="6064200"/>
                <a:gridCol w="1509480"/>
                <a:gridCol w="1049400"/>
              </a:tblGrid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ритетни оси и инвестиционни приоритет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пейски средства + национално съфинансира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 национално съфинансиран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1 "Устойчиво и интегрирано градско развитие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449 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 подкрепа  за  преминаването  към  нисковъглеродна </a:t>
                      </a:r>
                      <a:br>
                        <a:rPr sz="1600"/>
                      </a:b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ономика във всички секто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 962 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4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 опазване  на околната  среда и  насърчаване  на ресурсната ефектив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 991 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8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 насърчаване  на  социалното  включване, борбата  с бедността и дискриминация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800 8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6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) инвестиции в образованието, уменията и ученето през </a:t>
                      </a:r>
                      <a:br>
                        <a:rPr sz="1600"/>
                      </a:b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я живо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694 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0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1 „Устойчиво и интегрирано градско развитие“ – рамка за изпъ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108000" y="1258920"/>
          <a:ext cx="8964720" cy="4718160"/>
        </p:xfrm>
        <a:graphic>
          <a:graphicData uri="http://schemas.openxmlformats.org/drawingml/2006/table">
            <a:tbl>
              <a:tblPr/>
              <a:tblGrid>
                <a:gridCol w="4978440"/>
                <a:gridCol w="938160"/>
                <a:gridCol w="1442880"/>
                <a:gridCol w="1605240"/>
              </a:tblGrid>
              <a:tr h="73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2530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ритетна ос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3 352 614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449 03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ергийна ефективност: Понижаване на годишното потребление на първична енергия от обществените сград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ч/г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732 281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682 347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ско развитие: Незастроени площи, създадени или рехабилитирани в градските райо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.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8 728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84 724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ижи за децата и образование: Капацитет на подпомогнатата инфраструктура, предназначена за грижи за децата или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395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571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ско развитие: Рехабилитирани жилища в градските рай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лищ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ско развитие: Обществени или търговски сгради, построени или обновени в градските рай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. 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06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91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ление, ползващо подобрени социални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 570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 383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3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Регионална образователна инфраструктура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87480" y="1446120"/>
            <a:ext cx="4628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15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5"/>
          <p:cNvSpPr/>
          <p:nvPr/>
        </p:nvSpPr>
        <p:spPr>
          <a:xfrm>
            <a:off x="5364000" y="3321000"/>
            <a:ext cx="1570320" cy="5907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Училищно образов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7507440" y="3321000"/>
            <a:ext cx="1500120" cy="5907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Висше образов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 rot="5400000">
            <a:off x="7989840" y="2425680"/>
            <a:ext cx="1098360" cy="342720"/>
          </a:xfrm>
          <a:prstGeom prst="rightArrow">
            <a:avLst>
              <a:gd name="adj1" fmla="val 50000"/>
              <a:gd name="adj2" fmla="val 2498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 rot="5400000">
            <a:off x="5455440" y="2463120"/>
            <a:ext cx="1100160" cy="342720"/>
          </a:xfrm>
          <a:prstGeom prst="rightArrow">
            <a:avLst>
              <a:gd name="adj1" fmla="val 50000"/>
              <a:gd name="adj2" fmla="val 2502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5311800" y="4292640"/>
            <a:ext cx="162396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Методология за приоритизац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 rot="5400000">
            <a:off x="5769720" y="3964680"/>
            <a:ext cx="277920" cy="29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5311800" y="5259240"/>
            <a:ext cx="162252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Бенефициенти – общини, МОН, МЗХ, ММС, МК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6276960" y="2527200"/>
            <a:ext cx="200340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MS Minngs"/>
              </a:rPr>
              <a:t>Ресурс за съответните образователни и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7507440" y="4311720"/>
            <a:ext cx="1500120" cy="590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йтингова систе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7507440" y="5259240"/>
            <a:ext cx="150012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Бенефициенти – висши училищ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6421320" y="2048040"/>
            <a:ext cx="1738440" cy="347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MS Minngs"/>
              </a:rPr>
              <a:t>М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 rot="5400000">
            <a:off x="5828040" y="4891680"/>
            <a:ext cx="277920" cy="29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 rot="5400000">
            <a:off x="8080560" y="3964680"/>
            <a:ext cx="277920" cy="29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 rot="5400000">
            <a:off x="8080560" y="4964760"/>
            <a:ext cx="277920" cy="29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5224320" y="1484280"/>
            <a:ext cx="3816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гионална образователна инфраструкту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6421320" y="2048040"/>
            <a:ext cx="1852560" cy="347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МО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9200" y="1782720"/>
          <a:ext cx="4997520" cy="1857240"/>
        </p:xfrm>
        <a:graphic>
          <a:graphicData uri="http://schemas.openxmlformats.org/drawingml/2006/table">
            <a:tbl>
              <a:tblPr/>
              <a:tblGrid>
                <a:gridCol w="2382840"/>
                <a:gridCol w="355680"/>
                <a:gridCol w="1203480"/>
                <a:gridCol w="1055520"/>
              </a:tblGrid>
              <a:tr h="91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431 22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896 48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ацитет на подпомогнатата инфраструктура, предназначена за грижи за децата или 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304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87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5" descr="http://www.bgregio.eu/media/Dobri%20praktiki/DSC_0520.JPG"/>
          <p:cNvPicPr/>
          <p:nvPr/>
        </p:nvPicPr>
        <p:blipFill>
          <a:blip r:embed="rId4"/>
          <a:stretch/>
        </p:blipFill>
        <p:spPr>
          <a:xfrm>
            <a:off x="684360" y="4010040"/>
            <a:ext cx="345600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690560" y="189000"/>
            <a:ext cx="5978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4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Регионална здравна инфраструктура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8"/>
          <p:cNvSpPr/>
          <p:nvPr/>
        </p:nvSpPr>
        <p:spPr>
          <a:xfrm>
            <a:off x="4842000" y="1484280"/>
            <a:ext cx="38890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гионална здравна инфраструкту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0"/>
          <p:cNvSpPr/>
          <p:nvPr/>
        </p:nvSpPr>
        <p:spPr>
          <a:xfrm>
            <a:off x="4842000" y="2303640"/>
            <a:ext cx="1817640" cy="625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MS Minngs"/>
              </a:rPr>
              <a:t>Концепция за болничната помо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6891480" y="2303640"/>
            <a:ext cx="1857240" cy="625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Концепция за спешна помо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ight Brace 3"/>
          <p:cNvSpPr/>
          <p:nvPr/>
        </p:nvSpPr>
        <p:spPr>
          <a:xfrm rot="5620200">
            <a:off x="6084360" y="2112840"/>
            <a:ext cx="431640" cy="762120"/>
          </a:xfrm>
          <a:custGeom>
            <a:avLst/>
            <a:gdLst>
              <a:gd name="textAreaLeft" fmla="*/ 0 w 431640"/>
              <a:gd name="textAreaRight" fmla="*/ 155880 w 431640"/>
              <a:gd name="textAreaTop" fmla="*/ 11160 h 762120"/>
              <a:gd name="textAreaBottom" fmla="*/ 7509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10"/>
                  <a:pt x="10800" y="1020"/>
                </a:cubicBezTo>
                <a:lnTo>
                  <a:pt x="10800" y="9780"/>
                </a:lnTo>
                <a:cubicBezTo>
                  <a:pt x="10800" y="10290"/>
                  <a:pt x="16200" y="10800"/>
                  <a:pt x="21600" y="10800"/>
                </a:cubicBezTo>
                <a:cubicBezTo>
                  <a:pt x="16200" y="10800"/>
                  <a:pt x="10800" y="11310"/>
                  <a:pt x="10800" y="11820"/>
                </a:cubicBezTo>
                <a:lnTo>
                  <a:pt x="10800" y="20580"/>
                </a:lnTo>
                <a:cubicBezTo>
                  <a:pt x="10800" y="21090"/>
                  <a:pt x="5400" y="21600"/>
                  <a:pt x="0" y="21600"/>
                </a:cubicBezTo>
              </a:path>
            </a:pathLst>
          </a:custGeom>
          <a:noFill/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5"/>
          <p:cNvCxnSpPr>
            <a:stCxn id="244" idx="2"/>
          </p:cNvCxnSpPr>
          <p:nvPr/>
        </p:nvCxnSpPr>
        <p:spPr>
          <a:xfrm flipH="1">
            <a:off x="5580000" y="1915920"/>
            <a:ext cx="1207080" cy="3387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9" name="Straight Arrow Connector 11"/>
          <p:cNvCxnSpPr>
            <a:stCxn id="244" idx="2"/>
          </p:cNvCxnSpPr>
          <p:nvPr/>
        </p:nvCxnSpPr>
        <p:spPr>
          <a:xfrm>
            <a:off x="6786720" y="1915920"/>
            <a:ext cx="1170720" cy="369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Oval 13"/>
          <p:cNvSpPr/>
          <p:nvPr/>
        </p:nvSpPr>
        <p:spPr>
          <a:xfrm>
            <a:off x="4829040" y="3521160"/>
            <a:ext cx="4122720" cy="2336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Техническа подкре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купуване на линей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одернизация на спешни медицински центрове и техните филиали и спешни отделения в спешни болнични комплекс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9"/>
          <p:cNvSpPr/>
          <p:nvPr/>
        </p:nvSpPr>
        <p:spPr>
          <a:xfrm>
            <a:off x="4680000" y="306864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</a:rPr>
              <a:t>Голям прое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4"/>
          <p:cNvSpPr/>
          <p:nvPr/>
        </p:nvSpPr>
        <p:spPr>
          <a:xfrm>
            <a:off x="4842000" y="2303640"/>
            <a:ext cx="1931760" cy="6253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Концепция за болничната помощ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ontent Placeholder 2"/>
          <p:cNvSpPr/>
          <p:nvPr/>
        </p:nvSpPr>
        <p:spPr>
          <a:xfrm>
            <a:off x="0" y="1484280"/>
            <a:ext cx="4829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84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http://kavarna.bg/pictures/5f01593d78910e5f223e76ea200ba454.jpg"/>
          <p:cNvPicPr/>
          <p:nvPr/>
        </p:nvPicPr>
        <p:blipFill>
          <a:blip r:embed="rId3"/>
          <a:stretch/>
        </p:blipFill>
        <p:spPr>
          <a:xfrm>
            <a:off x="1042920" y="4076640"/>
            <a:ext cx="3097440" cy="197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108000" y="1803240"/>
          <a:ext cx="4721040" cy="1986120"/>
        </p:xfrm>
        <a:graphic>
          <a:graphicData uri="http://schemas.openxmlformats.org/drawingml/2006/table">
            <a:tbl>
              <a:tblPr/>
              <a:tblGrid>
                <a:gridCol w="1944720"/>
                <a:gridCol w="647640"/>
                <a:gridCol w="863640"/>
                <a:gridCol w="1265040"/>
              </a:tblGrid>
              <a:tr h="10324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929 074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597 313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обряване на голям про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bg-BG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tent Placeholder 2"/>
          <p:cNvSpPr/>
          <p:nvPr/>
        </p:nvSpPr>
        <p:spPr>
          <a:xfrm>
            <a:off x="87480" y="1482840"/>
            <a:ext cx="51130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5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5" descr="C:\Users\DimitrovaTs\Pictures\за презентация 15КН\CNST_Petrich_0011.JPG"/>
          <p:cNvPicPr/>
          <p:nvPr/>
        </p:nvPicPr>
        <p:blipFill>
          <a:blip r:embed="rId2"/>
          <a:stretch/>
        </p:blipFill>
        <p:spPr>
          <a:xfrm>
            <a:off x="1176480" y="4008600"/>
            <a:ext cx="3090600" cy="1842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1390680" y="658800"/>
            <a:ext cx="642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5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Регионална социална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фраструктура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5200560" y="1433520"/>
            <a:ext cx="38721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гионална социална инфраструкту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5140440" y="3276720"/>
            <a:ext cx="1127160" cy="590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Де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7813800" y="3276720"/>
            <a:ext cx="1258920" cy="590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Възрастни хо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 rot="5400000">
            <a:off x="7862760" y="2441520"/>
            <a:ext cx="1044360" cy="342720"/>
          </a:xfrm>
          <a:prstGeom prst="rightArrow">
            <a:avLst>
              <a:gd name="adj1" fmla="val 50000"/>
              <a:gd name="adj2" fmla="val 249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 rot="5400000">
            <a:off x="5153760" y="2388600"/>
            <a:ext cx="1100160" cy="342720"/>
          </a:xfrm>
          <a:prstGeom prst="rightArrow">
            <a:avLst>
              <a:gd name="adj1" fmla="val 50000"/>
              <a:gd name="adj2" fmla="val 2502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2"/>
          <p:cNvSpPr/>
          <p:nvPr/>
        </p:nvSpPr>
        <p:spPr>
          <a:xfrm>
            <a:off x="5140440" y="4248000"/>
            <a:ext cx="18604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MS Minngs"/>
              </a:rPr>
              <a:t>Визия за деинституционализация на деца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 rot="5400000">
            <a:off x="6158160" y="3551760"/>
            <a:ext cx="277920" cy="1035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4"/>
          <p:cNvSpPr/>
          <p:nvPr/>
        </p:nvSpPr>
        <p:spPr>
          <a:xfrm>
            <a:off x="5140440" y="5214960"/>
            <a:ext cx="112716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Бенефициенти – общи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6267600" y="2476440"/>
            <a:ext cx="17380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азпределение на ресурс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7464600" y="4267080"/>
            <a:ext cx="1608120" cy="5907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Стратегия за дългосрочна виз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7"/>
          <p:cNvSpPr/>
          <p:nvPr/>
        </p:nvSpPr>
        <p:spPr>
          <a:xfrm>
            <a:off x="7464600" y="5214960"/>
            <a:ext cx="160812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Бенефициенти – общин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8"/>
          <p:cNvSpPr/>
          <p:nvPr/>
        </p:nvSpPr>
        <p:spPr>
          <a:xfrm>
            <a:off x="6267600" y="1996920"/>
            <a:ext cx="1738080" cy="3477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МТС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 rot="5400000">
            <a:off x="5564880" y="4850640"/>
            <a:ext cx="27792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 rot="5400000">
            <a:off x="8123400" y="3897720"/>
            <a:ext cx="27792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/>
          <p:cNvSpPr/>
          <p:nvPr/>
        </p:nvSpPr>
        <p:spPr>
          <a:xfrm rot="5400000">
            <a:off x="8123760" y="4898160"/>
            <a:ext cx="27756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2"/>
          <p:cNvSpPr/>
          <p:nvPr/>
        </p:nvSpPr>
        <p:spPr>
          <a:xfrm>
            <a:off x="6372360" y="3289320"/>
            <a:ext cx="1320840" cy="5904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Медико-социални домов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3"/>
          <p:cNvSpPr/>
          <p:nvPr/>
        </p:nvSpPr>
        <p:spPr>
          <a:xfrm>
            <a:off x="6311880" y="5214960"/>
            <a:ext cx="10144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Бенефициент – МЗ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 rot="5400000">
            <a:off x="6631200" y="4440600"/>
            <a:ext cx="1046160" cy="343080"/>
          </a:xfrm>
          <a:prstGeom prst="rightArrow">
            <a:avLst>
              <a:gd name="adj1" fmla="val 50000"/>
              <a:gd name="adj2" fmla="val 249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87480" y="1928880"/>
          <a:ext cx="4916160" cy="1832040"/>
        </p:xfrm>
        <a:graphic>
          <a:graphicData uri="http://schemas.openxmlformats.org/drawingml/2006/table">
            <a:tbl>
              <a:tblPr/>
              <a:tblGrid>
                <a:gridCol w="2224080"/>
                <a:gridCol w="747720"/>
                <a:gridCol w="796680"/>
                <a:gridCol w="1147680"/>
              </a:tblGrid>
              <a:tr h="5374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170 933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857 68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 подкрепени обекти на социалната инфраструктура в процеса на деинституционал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к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1533600" y="306360"/>
            <a:ext cx="59785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8"/>
          <p:cNvSpPr/>
          <p:nvPr/>
        </p:nvSpPr>
        <p:spPr>
          <a:xfrm>
            <a:off x="4842000" y="1484280"/>
            <a:ext cx="38890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гионален туризъ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4878360" y="2322360"/>
            <a:ext cx="3889440" cy="6256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Фонд за инвестиции в туриз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 rot="5400000">
            <a:off x="6615720" y="1969200"/>
            <a:ext cx="27756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0"/>
          <p:cNvSpPr/>
          <p:nvPr/>
        </p:nvSpPr>
        <p:spPr>
          <a:xfrm>
            <a:off x="4809960" y="3170160"/>
            <a:ext cx="2214720" cy="172080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0"/>
          <p:cNvSpPr/>
          <p:nvPr/>
        </p:nvSpPr>
        <p:spPr>
          <a:xfrm>
            <a:off x="6575400" y="3186000"/>
            <a:ext cx="2238480" cy="172260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4809960" y="3703680"/>
            <a:ext cx="191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Безвъзмездна финансова помо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9"/>
          <p:cNvSpPr/>
          <p:nvPr/>
        </p:nvSpPr>
        <p:spPr>
          <a:xfrm>
            <a:off x="6829560" y="374976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Финансови инструмен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54"/>
          <p:cNvSpPr/>
          <p:nvPr/>
        </p:nvSpPr>
        <p:spPr>
          <a:xfrm>
            <a:off x="5626080" y="4616280"/>
            <a:ext cx="2616120" cy="1419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Интегриран туристически проду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1181160" y="593640"/>
            <a:ext cx="642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6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Регионален туризъм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ontent Placeholder 2"/>
          <p:cNvSpPr/>
          <p:nvPr/>
        </p:nvSpPr>
        <p:spPr>
          <a:xfrm>
            <a:off x="0" y="1413000"/>
            <a:ext cx="484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just">
              <a:lnSpc>
                <a:spcPct val="15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10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"/>
          <p:cNvPicPr/>
          <p:nvPr/>
        </p:nvPicPr>
        <p:blipFill>
          <a:blip r:embed="rId3"/>
          <a:stretch/>
        </p:blipFill>
        <p:spPr>
          <a:xfrm>
            <a:off x="903240" y="4046400"/>
            <a:ext cx="3035520" cy="190044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graphicFrame>
        <p:nvGraphicFramePr>
          <p:cNvPr id="305" name=""/>
          <p:cNvGraphicFramePr/>
          <p:nvPr/>
        </p:nvGraphicFramePr>
        <p:xfrm>
          <a:off x="101520" y="1785960"/>
          <a:ext cx="4614840" cy="1498680"/>
        </p:xfrm>
        <a:graphic>
          <a:graphicData uri="http://schemas.openxmlformats.org/drawingml/2006/table">
            <a:tbl>
              <a:tblPr/>
              <a:tblGrid>
                <a:gridCol w="2011320"/>
                <a:gridCol w="658800"/>
                <a:gridCol w="865440"/>
                <a:gridCol w="1079280"/>
              </a:tblGrid>
              <a:tr h="4518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735 52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755 882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5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ъздаване на финансов инструмент за развитие на туризм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tent Placeholder 2"/>
          <p:cNvSpPr/>
          <p:nvPr/>
        </p:nvSpPr>
        <p:spPr>
          <a:xfrm>
            <a:off x="131760" y="1217520"/>
            <a:ext cx="48402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дикативен финансов ресурс: 194,5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6" descr=""/>
          <p:cNvPicPr/>
          <p:nvPr/>
        </p:nvPicPr>
        <p:blipFill>
          <a:blip r:embed="rId2"/>
          <a:stretch/>
        </p:blipFill>
        <p:spPr>
          <a:xfrm>
            <a:off x="971640" y="3675240"/>
            <a:ext cx="3529080" cy="2252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8"/>
          <p:cNvSpPr/>
          <p:nvPr/>
        </p:nvSpPr>
        <p:spPr>
          <a:xfrm>
            <a:off x="826920" y="317520"/>
            <a:ext cx="7656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7: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„Регионална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ъ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фраструктура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4971960" y="1471680"/>
            <a:ext cx="38721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Регионална пътна инфраструкту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8"/>
          <p:cNvSpPr/>
          <p:nvPr/>
        </p:nvSpPr>
        <p:spPr>
          <a:xfrm>
            <a:off x="7370640" y="3114720"/>
            <a:ext cx="14734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Методика и критер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9"/>
          <p:cNvSpPr/>
          <p:nvPr/>
        </p:nvSpPr>
        <p:spPr>
          <a:xfrm>
            <a:off x="4971960" y="3114720"/>
            <a:ext cx="145728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Пътна стратег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5969160" y="2325600"/>
            <a:ext cx="1738080" cy="558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АП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5969160" y="4361040"/>
            <a:ext cx="1738080" cy="5918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Arial"/>
                <a:ea typeface="MS Minngs"/>
              </a:rPr>
              <a:t>Приоритизирани пътни отсеч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6665040" y="1953360"/>
            <a:ext cx="27756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 rot="7341000">
            <a:off x="7534800" y="3863160"/>
            <a:ext cx="344520" cy="342720"/>
          </a:xfrm>
          <a:prstGeom prst="rightArrow">
            <a:avLst>
              <a:gd name="adj1" fmla="val 50000"/>
              <a:gd name="adj2" fmla="val 2506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 rot="2892600">
            <a:off x="5911920" y="3846600"/>
            <a:ext cx="342720" cy="342720"/>
          </a:xfrm>
          <a:prstGeom prst="rightArrow">
            <a:avLst>
              <a:gd name="adj1" fmla="val 50000"/>
              <a:gd name="adj2" fmla="val 249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 rot="5400000">
            <a:off x="6258240" y="3521880"/>
            <a:ext cx="1157400" cy="343080"/>
          </a:xfrm>
          <a:prstGeom prst="rightArrow">
            <a:avLst>
              <a:gd name="adj1" fmla="val 50000"/>
              <a:gd name="adj2" fmla="val 2498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31760" y="1863720"/>
          <a:ext cx="4727520" cy="1670040"/>
        </p:xfrm>
        <a:graphic>
          <a:graphicData uri="http://schemas.openxmlformats.org/drawingml/2006/table">
            <a:tbl>
              <a:tblPr/>
              <a:tblGrid>
                <a:gridCol w="2063880"/>
                <a:gridCol w="503280"/>
                <a:gridCol w="1081080"/>
                <a:gridCol w="1079280"/>
              </a:tblGrid>
              <a:tr h="6184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дикат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рна еди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ждинн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 стой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66092"/>
                    </a:solidFill>
                  </a:tcPr>
                </a:tc>
              </a:tr>
              <a:tr h="373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индика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 428 29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526 920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сеен транспорт: Обща дължина на реконструирани или модернизирани пътищ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bg-BG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reta Dobreva Dimitrova</cp:lastModifiedBy>
  <cp:lastPrinted>2015-04-28T17:44:28Z</cp:lastPrinted>
  <dcterms:modified xsi:type="dcterms:W3CDTF">2015-06-03T12:32:03Z</dcterms:modified>
  <cp:revision>1133</cp:revision>
  <dc:subject/>
  <dc:title>Diapositiva 1</dc:title>
</cp:coreProperties>
</file>