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A89-FEE0-4226-BEA1-EAD4783E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D72-6319-4CA5-95D1-FB0FF6F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5A7-E4DC-405C-857C-9564D2F2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94C-2A5E-462E-8B10-AFE6BB1E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D8D-4052-432A-B6E7-C128FC8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8DA-3650-4EBB-81BB-10070A8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EAB-2477-481A-90D2-72A7842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CB5-227E-49BF-ACC5-76494C9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D6A-F7CE-4EAB-ABDF-2B1842C0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59B-DDAD-47C9-8967-B38407C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44B-04B2-438F-AEF5-BB5810C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906-607D-4F67-A432-75CB9FB6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DEB-7B6A-4406-9CFE-7A7C71CDC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6004080"/>
            <a:ext cx="6985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14-2020 г. и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оведени писмени процедури на Комитета за наблюдение на ОП „Регионално развитие“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187280" y="889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6-то заседание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 КН на ОПРР 2007-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360" y="1403280"/>
            <a:ext cx="90741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ъм проекта за ССТ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а бъде пренасочван единствено освободеният ресурс от наложени ПФК и ИФ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ъгласно Протоколно решение № 54 на МС/22.12.2014 г.,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 изключение на ИФ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 нередност, която касае КТ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Да наддоговори финансовия ресурс по ПО1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резервни проекти, одобрен на 15-то заседание на КН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допълнителни обекти по схема „Зелена и достъпна градска среда“, предложението за интегриран градски транспорт на гр.Ст.Загора, предложението на МЗ за допълнителна апаратура за лъчелечение (19,9 млн.лв.) и одобрените проекти по схемата за социални жилищ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 допълни списъка с резервни проект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 предложението на МЗ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закупуване на допълнително оборудван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3,37 млн.л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гулярно освобождаващият се финансов ресурс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 анексиране/ приключване/ прекратяване на договори за БФП да бъде пренасочван към списъка с резервни проект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то приоритетно се удовлетвори списъкът от 15-то заседание, а след това предложението на МЗ от 16-то заседание на КН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се задържи ресурс от 2,4 млн.лв. по ПО5 Техническа помощ за нуждите на УО, ДЖП и проекта на община Асеновград по схема „В подкрепа за следващия програмен период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258920" y="334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Н на ОПРР 2007-2013 г. чрез писмена процедура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1.08.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-36360" y="1290600"/>
            <a:ext cx="91216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и резервни проект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 схема BG161PO001/1.4-09/2012 „Зелена и достъпна градска среда“,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следните услов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ставяне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влезли в сила решения/сключени договори с изпълнители за основните дейности за обектит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(СМР и строителен надзор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дейностите и разплащане към изпълнителите до 31.12.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азходи, платени след 31.12.2015 г., остават собствен принос на бенефициента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Неосигурените от УО към 31.12.2015 средства остават собствен принос на бенефици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 измени Изисванията за кандидатстване по схема „Зелена и достъпна градска среда", като определи нов краен срок за подаване на проектн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ата дейност по проект „Интегриран градски транспорт на Бургас"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лед представяне на ревизиран Формуляр и актуализиран АРП и влязло в сила решение/сключен договор с изпълнит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улярно освобождаващият се финансов ресур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анексиране/ приключване/ прекратяване на договори за БФП да бъде пренасочван към новите резервни проекти като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оритетно се удовлетвори списъкът от 15-то и 16-то заседание на К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включително предложението на МЗ от 16-то заседание на КН и се задържи 2,4 млн.лв. по ПО5 Техническа помощ в съответствие с Решение от 16-то заседание на К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58920" y="334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Н на ОПРР 2007-2013 г. чрез писмена процедура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септември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4400" y="1290600"/>
            <a:ext cx="91296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шение на КН чрез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исмен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цедура (07.09.2015 г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а  наддоговори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 не повече от 4.8 млн.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инансовия ресурс по ПО1, във връзка с новата дейност и актуализирания размер на финансовия дефицит по проект „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Интегриран градски транспорт на Бурга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шение на КН чрез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исмен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цедура (16.09.2015 г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а 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и резервни обекти по схема „Зелена и достъпна градска среда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следнит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сло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ъответствие с Изискванията за кандидатстване (допустимост на дейности/ разходи, пълна проектна готовност, индикатори, план-график за изпълнение на дейностит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ставяне на влезли в сила решения/договори с изпълнители за основните дей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дейностите и разплащане към изпълнителите до 31.12.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азходи, платени след 31.12.2015 г. остават собствен принос на бенефициента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Неосигурените от УО към 31.12.2015 средства остават собствен принос на бенефици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За обекти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в процес на изпълнение или с приключило физическо изпълнение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, преди вземане на окончателно решение за анекс да бъде извършена проверка на място от УО за качество на извършената работа, и пълна документална проверка, включително на проведените обществени поръчки за избор на изпълните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9-23T07:03:30Z</cp:lastPrinted>
  <dcterms:modified xsi:type="dcterms:W3CDTF">2015-09-23T10:14:52Z</dcterms:modified>
  <cp:revision>834</cp:revision>
  <dc:subject/>
  <dc:title>Diapositiva 1</dc:title>
</cp:coreProperties>
</file>