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67C-41BE-48BB-9C98-27CB24AE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7D6-2648-4CBA-A16F-8104F87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54D-A117-4EBE-A397-6809A5EF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EE3-C07B-428C-B6DE-C2863F4C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B5B-4EE8-4A57-8D66-545E0F6D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35DC-C78A-44C4-8F0A-019CB16A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2949-FDC0-4A74-9581-4439E762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3C2-D19E-4FE5-8F23-480E6C1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F6D2-9D74-4A82-9AAE-708A18D3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975-2D72-4D6D-9E2B-0695FFC9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EC7-63E5-4732-A7D4-29EAE7E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F20-9FE7-459E-9B5A-06258997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AA89-BBFA-42CD-8611-2CB0A723E2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6004080"/>
            <a:ext cx="6985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14-2020 г. и 2007-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57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оведени писмени процедури на Комитета за наблюдение на ОП „Регионално развитие“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187280" y="889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от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16-то заседание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а КН на ОПРР 2007-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360" y="1403280"/>
            <a:ext cx="90741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ъм проекта за ССТ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а бъде пренасочван единствено освободеният ресурс от наложени ПФК и ИФ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ъгласно Протоколно решение № 54 на МС/22.12.2014 г.,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 изключение на ИФ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 нередност, която касае КТ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Да наддоговори финансовия ресурс по ПО1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по отношение списъка с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резервни проекти, одобрен на 15-то заседание на КН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допълнителни обекти по схема „Зелена и достъпна градска среда“, предложението за интегриран градски транспорт на гр.Ст.Загора, предложението на МЗ за допълнителна апаратура за лъчелечение (19,9 млн.лв.) и одобрените проекти по схемата за социални жилищ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 допълни списъка с резервни проект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 предложението на МЗ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закупуване на допълнително оборудван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23,37 млн.лв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гулярно освобождаващият се финансов ресурс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 анексиране/ приключване/ прекратяване на договори за БФП да бъде пренасочван към списъка с резервни проект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то приоритетно се удовлетвори списъкът от 15-то заседание, а след това предложението на МЗ от 16-то заседание на КН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се задържи ресурс от 2,4 млн.лв. по ПО5 Техническа помощ за нуждите на УО, ДЖП и проекта на община Асеновград по схема „В подкрепа за следващия програмен период“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258920" y="334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Н на ОПРР 2007-2013 г. чрез писмена процедура от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21.08.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-36360" y="1290600"/>
            <a:ext cx="912168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ддоговори финансовия ресурс по ПО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о отношение списъка с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нови резервни проект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 схема BG161PO001/1.4-09/2012 „Зелена и достъпна градска среда“,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и следните услов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едставяне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влезли в сила решения/сключени договори с изпълнители за основните дейности за обектите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(СМР и строителен надзор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зпълнение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дейностите и разплащане към изпълнителите до 31.12.2015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азходи, платени след 31.12.2015 г., остават собствен принос на бенефициента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Неосигурените от УО към 31.12.2015 средства остават собствен принос на бенефици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 измени Изисванията за кандидатстване по схема „Зелена и достъпна градска среда", като определи нов краен срок за подаване на проектни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а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ддоговори финансовия ресурс по ПО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о отношени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новата дейност по проект „Интегриран градски транспорт на Бургас"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лед представяне на ревизиран Формуляр и актуализиран АРП и влязло в сила решение/сключен договор с изпълнит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гулярно освобождаващият се финансов ресурс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т анексиране/ приключване/ прекратяване на договори за БФП да бъде пренасочван към новите резервни проекти като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оритетно се удовлетвори списъкът от 15-то и 16-то заседание на КН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включително предложението на МЗ от 16-то заседание на КН и се задържи 2,4 млн.лв. по ПО5 Техническа помощ в съответствие с Решение от 16-то заседание на К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258920" y="3348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Н на ОПРР 2007-2013 г. чрез писмена процедура от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септември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4400" y="1290600"/>
            <a:ext cx="9129600" cy="46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шение на КН чрез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исмен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процедура (07.09.2015 г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а  наддоговори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 не повече от 4.8 млн.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финансовия ресурс по ПО1, във връзка с новата дейност и актуализирания размер на финансовия дефицит по проект „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Интегриран градски транспорт на Бурга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ешение на КН чрез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исмен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процедура (16.09.2015 г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а наддоговори финансовия ресурс по ПО1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о отношение списъка с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нови резервни обекти по схема „Зелена и достъпна градска среда“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и следнит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слов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Съответствие с Изискванията за кандидатстване (допустимост на дейности/ разходи, пълна проектна готовност, индикатори, план-график за изпълнение на дейностите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Представяне на влезли в сила решения/договори с изпълнители за основните дей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зпълнение на дейностите и разплащане към изпълнителите до 31.12.2015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азходи, платени след 31.12.2015 г. остават собствен принос на бенефициента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Неосигурените от УО към 31.12.2015 средства остават собствен принос на бенефици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За обекти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в процес на изпълнение или с приключило физическо изпълнение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, преди вземане на окончателно решение за анекс да бъде извършена проверка на място от УО за качество на извършената работа, и пълна документална проверка, включително на проведените обществени поръчки за избор на изпълните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 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9-23T07:03:30Z</cp:lastPrinted>
  <dcterms:modified xsi:type="dcterms:W3CDTF">2015-09-23T10:14:52Z</dcterms:modified>
  <cp:revision>834</cp:revision>
  <dc:subject/>
  <dc:title>Diapositiva 1</dc:title>
</cp:coreProperties>
</file>