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868-B151-4FAE-98F0-3F454202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A69-B33F-4051-B5B6-43F552E8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89F-4A5A-4E5C-846B-57FF2495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694-CA74-4998-ACE1-FA9E766F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5A4-55B0-47E1-B52D-AF45E0DE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D7A-FA59-4C02-B969-E25C3830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49A-7DF8-45F2-8A27-02234524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18A-AB32-45C9-A141-8B1DBFC7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3F7-BCD1-42E0-8BDC-CFD84351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779-093C-427A-A093-4B67942B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B59-0D0F-426B-99EA-044E75FF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695-CADA-41F3-A48E-961DD11B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69E4-EE93-45C2-9630-D304139291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08000" y="5762520"/>
            <a:ext cx="6389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  <a:ea typeface="Arial"/>
              </a:rPr>
              <a:t>Първ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  <a:ea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Sylfaen"/>
                <a:ea typeface="Arial"/>
              </a:rPr>
              <a:t>на КН на ОПРР 2014-2020 г. и 2007-2013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08000" y="393372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Информация за </a:t>
            </a:r>
            <a:r>
              <a:rPr b="1" lang="bg-BG" sz="2800" spc="-1" strike="noStrike">
                <a:solidFill>
                  <a:srgbClr val="800000"/>
                </a:solidFill>
                <a:latin typeface="Arial"/>
                <a:ea typeface="Arial"/>
              </a:rPr>
              <a:t>осъществени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lang="bg-BG" sz="2800" spc="-1" strike="noStrike">
                <a:solidFill>
                  <a:srgbClr val="800000"/>
                </a:solidFill>
                <a:latin typeface="Arial"/>
                <a:ea typeface="Arial"/>
              </a:rPr>
              <a:t>реалокации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на сред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по OПРР 2007-2013 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Arial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  <a:ea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  <a:ea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Мария Стане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Началник отдел „Изпълнение на програмните приоритет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  <a:ea typeface="Arial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6 окто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189080" y="69840"/>
            <a:ext cx="676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и в ОПРР след 1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6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-то заседание на КН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 (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85760" y="1557360"/>
            <a:ext cx="869616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решения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 16-то заседание на КН на ОПРР 2007-2013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Arial"/>
              </a:rPr>
              <a:t>освободеният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финансов ресурс от </a:t>
            </a: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Arial"/>
              </a:rPr>
              <a:t>налагане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н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лоски </a:t>
            </a:r>
            <a:r>
              <a:rPr b="0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финансови корекции</a:t>
            </a: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(ПФК) </a:t>
            </a: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Arial"/>
              </a:rPr>
              <a:t>съгласно Протоколно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шение № 54 на </a:t>
            </a: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Arial"/>
              </a:rPr>
              <a:t>Министерския съвет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т 22.12.2014 г. се </a:t>
            </a: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Arial"/>
              </a:rPr>
              <a:t>насочва </a:t>
            </a:r>
            <a:r>
              <a:rPr b="1" i="1" lang="bg-BG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към проекта за Северна скоростна тангент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Arial"/>
              </a:rPr>
              <a:t>освободеният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финансов ресурс от </a:t>
            </a:r>
            <a:r>
              <a:rPr b="0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анексиране, приключван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 </a:t>
            </a:r>
            <a:r>
              <a:rPr b="0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рекратяване на договор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за БФП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се </a:t>
            </a: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Arial"/>
              </a:rPr>
              <a:t>насочва </a:t>
            </a:r>
            <a:r>
              <a:rPr b="1" i="1" lang="bg-BG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към проекти от резервния списъ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1800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189080" y="69840"/>
            <a:ext cx="676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и в ОПРР след 1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6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-то заседание на КН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 (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52280" y="1397160"/>
            <a:ext cx="892044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Към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02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.2015 г. размерът на договорените средства възлиза на </a:t>
            </a:r>
            <a:r>
              <a:rPr b="1" lang="bg-BG" sz="1700" spc="-1" strike="noStrike">
                <a:solidFill>
                  <a:srgbClr val="000066"/>
                </a:solidFill>
                <a:latin typeface="Arial"/>
                <a:ea typeface="Arial"/>
              </a:rPr>
              <a:t>3,26</a:t>
            </a:r>
            <a:r>
              <a:rPr b="1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8</a:t>
            </a:r>
            <a:r>
              <a:rPr b="1" lang="bg-BG" sz="1700" spc="-1" strike="noStrike">
                <a:solidFill>
                  <a:srgbClr val="000066"/>
                </a:solidFill>
                <a:latin typeface="Arial"/>
                <a:ea typeface="Arial"/>
              </a:rPr>
              <a:t> млрд. лв. </a:t>
            </a:r>
            <a:r>
              <a:rPr b="1" lang="bg-BG" sz="1700" spc="-1" strike="noStrike">
                <a:solidFill>
                  <a:srgbClr val="a50021"/>
                </a:solidFill>
                <a:latin typeface="Arial"/>
                <a:ea typeface="Arial"/>
              </a:rPr>
              <a:t>(1,67 млрд. евро)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– 104% от бюджета на програм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Към 16-то заседание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на КН (05.06.2015 г.)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наличният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ресурс з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Северна скоростна тангент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е в размер на</a:t>
            </a:r>
            <a:r>
              <a:rPr b="1" lang="bg-BG" sz="1700" spc="-1" strike="noStrike">
                <a:solidFill>
                  <a:srgbClr val="000066"/>
                </a:solidFill>
                <a:latin typeface="Arial"/>
                <a:ea typeface="Arial"/>
              </a:rPr>
              <a:t> 179,4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млн. лв. 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700" spc="-1" strike="noStrike">
                <a:solidFill>
                  <a:srgbClr val="a50021"/>
                </a:solidFill>
                <a:latin typeface="Arial"/>
                <a:ea typeface="Arial"/>
              </a:rPr>
              <a:t>91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,7 млн. евро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Към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08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.2015 г.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допълнително освободеният и насочен към Северна скоростна тангент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ресурс е в размер на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6,9 млн. лв. 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700" spc="-1" strike="noStrike">
                <a:solidFill>
                  <a:srgbClr val="a50021"/>
                </a:solidFill>
                <a:latin typeface="Arial"/>
                <a:ea typeface="Arial"/>
              </a:rPr>
              <a:t>3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,53</a:t>
            </a:r>
            <a:r>
              <a:rPr b="1" lang="bg-BG" sz="17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млн. евро),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от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които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рамките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на схем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Подкрепа за рехабилитаци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и реконструкция н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второкласни и третокласни пътищ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общо 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свободен ресурс в размер на </a:t>
            </a:r>
            <a:r>
              <a:rPr b="1" lang="bg-BG" sz="1700" spc="-1" strike="noStrike">
                <a:solidFill>
                  <a:srgbClr val="000066"/>
                </a:solidFill>
                <a:latin typeface="Arial"/>
                <a:ea typeface="Arial"/>
              </a:rPr>
              <a:t>2,7 млн.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лв. 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700" spc="-1" strike="noStrike">
                <a:solidFill>
                  <a:srgbClr val="a50021"/>
                </a:solidFill>
                <a:latin typeface="Arial"/>
                <a:ea typeface="Arial"/>
              </a:rPr>
              <a:t>1,38 млн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. евро)</a:t>
            </a:r>
            <a:r>
              <a:rPr b="1" lang="bg-BG" sz="1700" spc="-1" strike="noStrike">
                <a:solidFill>
                  <a:srgbClr val="a50021"/>
                </a:solidFill>
                <a:latin typeface="Arial"/>
                <a:ea typeface="Arial"/>
              </a:rPr>
              <a:t>,</a:t>
            </a:r>
            <a:r>
              <a:rPr b="1" lang="en-US" sz="17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резултат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н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анексиране и приключване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на договори за БФП по схемат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от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останалите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ни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оси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към 31.08.2015 г.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е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освободен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пренасочен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финансов ресурс в размер на </a:t>
            </a:r>
            <a:r>
              <a:rPr b="1" lang="bg-BG" sz="17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r>
              <a:rPr b="1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,</a:t>
            </a:r>
            <a:r>
              <a:rPr b="1" lang="bg-BG" sz="17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млн. лв. 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700" spc="-1" strike="noStrike">
                <a:solidFill>
                  <a:srgbClr val="a50021"/>
                </a:solidFill>
                <a:latin typeface="Arial"/>
                <a:ea typeface="Arial"/>
              </a:rPr>
              <a:t>2,15 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млн. евро),</a:t>
            </a:r>
            <a:r>
              <a:rPr b="1" lang="en-US" sz="17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в резултат на наложени ПФК по приоритет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ни оси 1 и 3 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Оставащият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необходим ресурс за проекта е в размер на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33,8 млн. лв. 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(17,3 млн. евро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187280" y="388800"/>
            <a:ext cx="684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 (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34920" y="1446120"/>
            <a:ext cx="9037800" cy="47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енасочване на финансов ресурс от приоритетни оси 1 и 3 към схема с бенефициен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П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bg-BG" sz="2000" spc="-1" strike="noStrike">
                <a:solidFill>
                  <a:srgbClr val="a50021"/>
                </a:solidFill>
                <a:latin typeface="Arial"/>
                <a:ea typeface="Arial"/>
              </a:rPr>
              <a:t>2,15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 млн. ев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1,73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млн. евр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от Приоритетна ос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тойчиво 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ано градск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950 хи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евро от Операция 1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оциал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нфраструк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30 хил. евро от Операция 1.4 „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н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а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реда и превенция на риск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50 хил. евро от Операция 1.5 „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истеми за устойчив градс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420 хил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. евр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от Приоритетна ос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тойчиво развитие на туриз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410 хи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евр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 Операция 3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туристическите атра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вързаната с тя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фраструк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хил. евро от Операция 3.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я туристичес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дукт и маркетинг н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дестинаци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197000" y="338040"/>
            <a:ext cx="68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36520" y="1557360"/>
            <a:ext cx="8624880" cy="48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Пренасочване на финансов ресурс къ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оритетна ос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ъм схема „Зелена и достъпна градска среда” за финансиране на допълнителните обекти, включени в резервния списъ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т 15-то заседание на КН на ОПР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енасоч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на финансов ресурс о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анексиране, приключван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екрат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на договори за БФП в размер на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22,4 млн. ев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ъ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хема „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одкрепа за интегриран градски транспорт в 5-те голе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да” з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купуване на нови автобуси за проекта на Стара Загора, включени в резервния списък от 15-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седание на КН на ОПР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енасоч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на финансов ресурс о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анексиране, приключван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екрат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на договори за БФП в размер на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10,6 млн. ев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97000" y="338040"/>
            <a:ext cx="68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79280" y="1557360"/>
            <a:ext cx="8893440" cy="45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енасочване на финансов ресурс къ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ритетна ос 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хеми „Зелена и достъпна градска среда”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дкрепа за интегриран градски транспорт в 5-те голем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да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33 млн. евр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26,6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лн. евр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 Приоритетна ос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ойчиво 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тегрирано градск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3 мл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евро от Операция 1.1 „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оциал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нфраструкту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2,3 млн. евро от Операция 1.2 „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Жилищна поли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1,3 млн. евро от Операция 1.5 „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и за устойчив градс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00 хил. евр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 Приоритетна ос 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егионална и местна достъп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197000" y="338040"/>
            <a:ext cx="68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 (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4920" y="1290600"/>
            <a:ext cx="903780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енасочване на финансов ресурс къ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ритетна ос 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хеми „Зелена и достъпна градска среда”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одкрепа за интегриран градски транспорт в 5-те голе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да”)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33 млн. евр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2,9 млн. евро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т Приоритетна ос 3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„Устойчиво развитие на туризм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2,4 млн. евро от Операция 3.1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туристическите атракци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свързаната с тях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инфраструктур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0,5 млн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. евро от Операция 3.2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я туристически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продукт и маркетинг н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дестинациите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500 хил. евро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т Приоритетна ос 4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Местно развитие и сътрудничество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2,7 млн. евро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от Приоритетна ос 5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Техническа помощ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900 хил. евро по Операция 5.1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Програмиране, управление, мониторинг, оценка и контрол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400 хил. евро по Операция 5.2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Комуникация, информация и публичност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1,4 млн. евро по Операция 5.3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Изграждане на капацитет на бенефициентит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на ОПРР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189080" y="388800"/>
            <a:ext cx="68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 (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490760"/>
          <a:ext cx="4446720" cy="4530600"/>
        </p:xfrm>
        <a:graphic>
          <a:graphicData uri="http://schemas.openxmlformats.org/drawingml/2006/table">
            <a:tbl>
              <a:tblPr/>
              <a:tblGrid>
                <a:gridCol w="2784600"/>
                <a:gridCol w="166212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Бюджет ОПРР към 16-то заседание на КН от 5 юни 2015 г. (евр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2808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1: Устойчиво и интегрирано градско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6 705 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2: Регионална и местна достъп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411 858 6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3: Устойчиво развитие на тур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141 800 9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Местно развитие и сътрудн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96 816 5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5: Техническа помо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54 093 3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438800" y="1441440"/>
          <a:ext cx="4643280" cy="4508640"/>
        </p:xfrm>
        <a:graphic>
          <a:graphicData uri="http://schemas.openxmlformats.org/drawingml/2006/table">
            <a:tbl>
              <a:tblPr/>
              <a:tblGrid>
                <a:gridCol w="2735280"/>
                <a:gridCol w="1908000"/>
              </a:tblGrid>
              <a:tr h="64620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 на реалокациите (евр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на ОПРР към 31.08.2015 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2808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1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Устойчиво и интегрирано градско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01 353 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+4 648 39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1468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2:           Регионална и местна достъп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3 734 6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+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 876 0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380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3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Устойчиво развитие на   тур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8 491 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309 3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2224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Местно развитие и сътрудн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6 336 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-480 24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1372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5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Техническа помо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1 358 5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-2 734 8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197000" y="338040"/>
            <a:ext cx="68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 (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6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54160" y="1773360"/>
            <a:ext cx="872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В съответствие с решенията 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Н и дадения мандат на Ръководителя на УО на ОПРР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сички промен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ОП “Регионално развитие” 2007-2013 г. съгласно извършените реалокации в периода след третото изменение на програмата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а отразени в последната ревизия на програм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бюджет на ОПРР към 31.08.2015 г.), която е изпратена към Европейската комисия за одоб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6-01T12:38:15Z</cp:lastPrinted>
  <dcterms:modified xsi:type="dcterms:W3CDTF">2015-10-02T09:47:20Z</dcterms:modified>
  <cp:revision>928</cp:revision>
  <dc:subject/>
  <dc:title>Diapositiva 1</dc:title>
</cp:coreProperties>
</file>