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902-9C99-47F8-8AD5-0C89DEFB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ABF-4D73-4C0F-BC9A-627DCA68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5EA-E69A-4889-9210-B3158DBC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70C-9B32-4C37-870C-443ED8D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FD7-6189-4567-BD79-2A3B47D6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1E49-B00E-464B-B379-573F96D8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4E11-B755-4588-908A-552FAB94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3345-23CF-48FF-82F8-6BB6A63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AFF9-7F59-4B2D-9DEA-87B42EF2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8ED-80ED-40B8-8661-A204FBDF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A6B-5BFA-4CD5-9B46-B2F1229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A56-D9BB-4919-9D28-55A4637A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B7D2-7FE7-4281-A469-06E17A4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542A-2498-4FB1-A176-A29822D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C04-B491-41D4-9B0D-F9C2CBC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FF1F-7C0D-46EA-B2E2-15092FA7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8EB3-DCE9-4CA4-88B2-18D2C74E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AF44-E80C-4098-BB07-E38CFCA3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8B4E-EBB0-41D7-A3D9-4EC612F9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3F5E-0155-4A97-8C01-6059199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6E20-A087-4020-A55E-AD32052F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2BC1-6E09-4326-A73D-5BD44B0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07C-1436-4947-8C89-59244703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F297-4F95-4774-B8BD-B43E07C6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EB58-10ED-4955-9437-A9191DD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EB07-AAE4-4BF2-9024-033ADF5D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4F25-2114-415D-864C-BAC1DA2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4D0D-B4DF-47CD-8B8F-7F5C8B5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C0AC-04A6-4BA4-B617-3665BA7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7CC4-1D85-4443-AFDE-591FF348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5EC-ED40-4E6E-B419-6E98AC0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21B-65B8-42D2-924C-6A58ADE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F8A-8BEB-4E52-B7EC-9072B86A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E24-10F5-4B8C-AFED-3BC1950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B37-45EB-416F-B742-079CBB9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299-95EE-4643-89D1-D865355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C65A-B85B-4F92-8213-F9A7D2E677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454C-8E69-49B7-BB6C-A10D47B15A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0918-4F9B-4E9F-9564-333CE3C67DF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627372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324000" y="51894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лан за оценка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нтекст за разработването на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70000" y="1741320"/>
            <a:ext cx="480672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ващият орган съставя план за оценка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(чл. 56 от Регламент 1303/201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итетът за наблюдение разглежда и одобрява плана за оценка за оперативната програма и всяко негово изменение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(чл. 110 от Регламент 1303/201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ъответствие с Ръководството на ЕК за планове за оценки (от м. февруари 2015 г.) и с Ръководството на ЕК за концепции и препоръки за мониторинг и оценка (от м. март 2014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1" descr="C:\Users\StoyanovI\Desktop\Мониторинг-тендеров.jpg"/>
          <p:cNvPicPr/>
          <p:nvPr/>
        </p:nvPicPr>
        <p:blipFill>
          <a:blip r:embed="rId4"/>
          <a:stretch/>
        </p:blipFill>
        <p:spPr>
          <a:xfrm>
            <a:off x="5402160" y="2349360"/>
            <a:ext cx="2914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ъщност, цели и задачи на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341280" y="1863720"/>
            <a:ext cx="8478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не на индикативния брой, организацията, последователността и основния фокус на оценките на ОПРР 2014-20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здаване на необходимите условия за успешното планиране и извършване на качествени оценки през програмния пери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41280" y="3645000"/>
            <a:ext cx="8478720" cy="192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ейностите п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азделна част от процеса на изпълнение на програм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яване на качеството на изпълнението на програмата чрез набавяне, систематизиране и анализ на информация, свързана с изпълнението на програмата, в т.ч. по отношение на нейните ефикасност, ефективност и въз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ординация на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270000" y="1577880"/>
            <a:ext cx="8478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съждане на плана за оценка и извършените оценки в КН на ОПРР 2014-20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Направляващи групи за всяка оценка с представители на отделите в ГД „ПРР“ със следните основни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ординиране процеса по оценка на програм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не на коментари и препоръки по докладите от оценк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ране на работата на външните оценители от гл. т. спазване на изискванията на УО, записани в съответните технически спецификации за оц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съждане на оценките в постоянната работна група за оценка на ЕСИФ, координирана от ЦК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яне на информация за изпълнението и оценката на ОПРР 2014-2020 за целите на оценка на СП и на останалите оперативни прог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лючови елементи от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270000" y="1413000"/>
            <a:ext cx="8550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ички оценки на ОПРР 2014-2020 ще се извършват под формата на външни услуги. Изборът на външни оценители/изпълнители ще се осъществява по реда на З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лючова роля на отдел „ПОИП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готовка на технически спецификации и избор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ншни изпълни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трудничество с външните оценители и предоставяне на информ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изиране на резултатите от направените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те – подпомагане на УО при изготвяне на Годишни доклади за изпълнението – 2017 г. и 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сновни оценителни въпроси: изпълнение на интегрирания подход за градско развитие, постигане на етапните цели, принос на ОПРР за стойностите на индикаторите за резултат, хоризонтални принци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видени оценки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395280" y="1444680"/>
          <a:ext cx="8424720" cy="4360680"/>
        </p:xfrm>
        <a:graphic>
          <a:graphicData uri="http://schemas.openxmlformats.org/drawingml/2006/table">
            <a:tbl>
              <a:tblPr/>
              <a:tblGrid>
                <a:gridCol w="185760"/>
                <a:gridCol w="3440160"/>
                <a:gridCol w="985680"/>
                <a:gridCol w="987480"/>
                <a:gridCol w="987480"/>
                <a:gridCol w="898560"/>
                <a:gridCol w="939600"/>
              </a:tblGrid>
              <a:tr h="84924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готовка на документация за възлагане на 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ждане на процедура по ЗО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ериод на извършване на оцен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ъгласуване и приемане от страна на У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дикативен бюджет (в лев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6356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и проучвания, подпомагащи изготвянето на Годишния доклад за изпълнение на ОПРР 2014-2020, който трябва да бъде представен през 2017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16-март 2016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6-септември 2016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16 - март 2017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7-април 2017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и проучвания, подпомагащи изготвянето на Годишния доклад за изпълнение на ОПРР 2014-2020, който трябва да бъде представен през 2019 г. + първи екологичен доклад по ОПРР 2014-2020 (за периода 2015-2017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18-март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8-септември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18-март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9-април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на приноса на ОПРР 2014-2020 за социалното включване, в т.ч. маргинализирани групи и роми, както и оценка на прилагането на хоризонтални поли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18-март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8-септември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18-март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9-април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 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и проучвания на приноса на подкрепата от ЕСИФ за постигането на целите на приоритетите по ОПРР 2014-2020 + втори екологичен доклад по ОПРР 2014-2020 (за периода 2018-2020 г.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21-март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21-септември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21-март 202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22-юни 202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варителна и екологична оценка за програмен период след 202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й 2019-юли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вгуст 2019-януари 202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20-юни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юни 2021-юли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6">
                  <a:txBody>
                    <a:bodyPr lIns="46080" rIns="46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42920" y="1844640"/>
            <a:ext cx="72741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Началник на отдел „Програмиране, оценка, информация и публичност“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ГД „Програмиране на регионалното развитие“, МР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ИПопов</cp:lastModifiedBy>
  <dcterms:modified xsi:type="dcterms:W3CDTF">2015-09-15T15:06:49Z</dcterms:modified>
  <cp:revision>924</cp:revision>
  <dc:subject/>
  <dc:title>Diapositiva 1</dc:title>
</cp:coreProperties>
</file>