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C955-B6ED-4F78-BAFC-666FC1CE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4CCE-17FC-4ED1-AB71-953EA678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BB1-3E18-42E2-AFCB-64DCB855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63F-396E-4172-B652-D80F18A5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1AFB-56B5-4ADF-AF77-A8CC226FD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DBFE-D8DA-438E-9C7F-D468E307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172E-A058-464A-9C23-A9D3D8B8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D9F4-33D5-4E62-8CCA-4A172487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39DE-B079-4D92-99CC-E8DCC4E1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0A23-084A-4997-870A-4BF20ECD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720B-8A5F-4C2B-9BC4-A61A49BC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2AFA-A26F-4346-8A10-C99C40C9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6F1A-5214-4DCC-9878-7B336BAC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5E4C-7B47-4302-8DDC-B3173ADA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A37D-6E69-47EE-9FF1-4AA406EE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83FC-1641-43FE-ABCB-F8B47363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0ACC-26A9-409B-BE5C-E240418C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E6FA4-5BAE-435C-8B49-B25B46FA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4D198-43E6-440B-8588-5FF42A19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CB248-1A48-4EBA-AB44-652DEAA2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84319-46A2-4A8E-9DD6-909D6758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FC683-EA88-43AB-8170-2930E2CF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83A-53FF-4C9F-90D7-655126BA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7AFA3-E0DE-462E-99D7-95A94312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A1C43-4FC2-4EB6-9A49-B46BD2EE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B1EBE-162A-44D8-AD03-CACBA1BC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0D2E0-A41D-4DB8-918F-EDD77FDA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5A35A-1126-4EF5-895F-32595569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A997A-81A4-4924-8A5A-3928D3C5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ADD49-9113-424F-8DBE-71D038B3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B17C-F74D-4FD2-840D-90189DD8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CD63-F653-47AF-A4FC-D16003E1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0E51-6C24-43FA-955B-01E6E5BE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432A-A8DD-43B5-90F3-C02EABF1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1B67-6EF5-4393-AD08-2B57A3A4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4E1F-777E-44D5-A7B5-438E4D29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9ADE-5025-4674-832F-BCCC49EAAEB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2C39-651E-48CB-B8BE-BF0F86F3E86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12F3-3072-4061-A6EE-05BD14F2494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270000" y="3860640"/>
            <a:ext cx="559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Arial"/>
              </a:rPr>
              <a:t>Оперативна програма „Региони в растеж“ 2014-20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6273720"/>
            <a:ext cx="4572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6 окто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324000" y="518940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лан за оценка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онтекст за разработването на плана за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270000" y="1741320"/>
            <a:ext cx="4806720" cy="38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ващият орган съставя план за оценка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(чл. 56 от Регламент 1303/201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итетът за наблюдение разглежда и одобрява плана за оценка за оперативната програма и всяко негово изменение 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(чл. 110 от Регламент 1303/201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ъответствие с Ръководството на ЕК за планове за оценки (от м. февруари 2015 г.) и с Ръководството на ЕК за концепции и препоръки за мониторинг и оценка (от м. март 2014 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1" descr="C:\Users\StoyanovI\Desktop\Мониторинг-тендеров.jpg"/>
          <p:cNvPicPr/>
          <p:nvPr/>
        </p:nvPicPr>
        <p:blipFill>
          <a:blip r:embed="rId4"/>
          <a:stretch/>
        </p:blipFill>
        <p:spPr>
          <a:xfrm>
            <a:off x="5402160" y="2349360"/>
            <a:ext cx="29149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ъщност, цели и задачи на плана за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"/>
          <p:cNvSpPr/>
          <p:nvPr/>
        </p:nvSpPr>
        <p:spPr>
          <a:xfrm>
            <a:off x="341280" y="1863720"/>
            <a:ext cx="84787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не на индикативния брой, организацията, последователността и основния фокус на оценките на ОПРР 2014-20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ъздаване на необходимите условия за успешното планиране и извършване на качествени оценки през програмния пери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341280" y="3645000"/>
            <a:ext cx="8478720" cy="192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ейностите по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разделна част от процеса на изпълнение на програма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обряване на качеството на изпълнението на програмата чрез набавяне, систематизиране и анализ на информация, свързана с изпълнението на програмата, в т.ч. по отношение на нейните ефикасност, ефективност и въздейств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оординация на плана за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270000" y="1577880"/>
            <a:ext cx="8478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съждане на плана за оценка и извършените оценки в КН на ОПРР 2014-20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ъздаване на Направляващи групи за всяка оценка с представители на отделите в ГД „ПРР“ със следните основни фун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ординиране процеса по оценка на програма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аване на коментари и препоръки по докладите от оценка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нтролиране на работата на външните оценители от гл. т. спазване на изискванията на УО, записани в съответните технически спецификации за оц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съждане на оценките в постоянната работна група за оценка на ЕСИФ, координирана от ЦКЗ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оставяне на информация за изпълнението и оценката на ОПРР 2014-2020 за целите на оценка на СП и на останалите оперативни прог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лючови елементи от плана за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"/>
          <p:cNvSpPr/>
          <p:nvPr/>
        </p:nvSpPr>
        <p:spPr>
          <a:xfrm>
            <a:off x="270000" y="1413000"/>
            <a:ext cx="8550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сички оценки на ОПРР 2014-2020 ще се извършват под формата на външни услуги. Изборът на външни оценители/изпълнители ще се осъществява по реда на ЗО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лючова роля на отдел „ПОИП“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готовка на технически спецификации и избор н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ншни изпълнит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ътрудничество с външните оценители и предоставяне на информа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уляризиране на резултатите от направените оце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ите – подпомагане на УО при изготвяне на Годишни доклади за изпълнението – 2017 г. и 201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Основни оценителни въпроси: изпълнение на интегрирания подход за градско развитие, постигане на етапните цели, принос на ОПРР за стойностите на индикаторите за резултат, хоризонтални принцип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187280" y="260280"/>
            <a:ext cx="63327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едвидени оценки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395280" y="1444680"/>
          <a:ext cx="8424720" cy="4360680"/>
        </p:xfrm>
        <a:graphic>
          <a:graphicData uri="http://schemas.openxmlformats.org/drawingml/2006/table">
            <a:tbl>
              <a:tblPr/>
              <a:tblGrid>
                <a:gridCol w="185760"/>
                <a:gridCol w="3440160"/>
                <a:gridCol w="985680"/>
                <a:gridCol w="987480"/>
                <a:gridCol w="987480"/>
                <a:gridCol w="898560"/>
                <a:gridCol w="939600"/>
              </a:tblGrid>
              <a:tr h="84924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цен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дготовка на документация за възлагане на О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веждане на процедура по ЗОП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ериод на извършване на оценк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ъгласуване и приемане от страна на У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дикативен бюджет (в лева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6356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ценка и проучвания, подпомагащи изготвянето на Годишния доклад за изпълнение на ОПРР 2014-2020, който трябва да бъде представен през 2017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януари 2016-март 2016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рт 2016-септември 2016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ептември 2016 - март 2017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рт 2017-април 2017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ценка и проучвания, подпомагащи изготвянето на Годишния доклад за изпълнение на ОПРР 2014-2020, който трябва да бъде представен през 2019 г. + първи екологичен доклад по ОПРР 2014-2020 (за периода 2015-2017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януари 2018-март 2018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рт 2018-септември 2018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ептември 2018-март 2019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рт 2019-април 2019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ценка на приноса на ОПРР 2014-2020 за социалното включване, в т.ч. маргинализирани групи и роми, както и оценка на прилагането на хоризонтални поли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януари 2018-март 2018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рт 2018-септември 2018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ептември 2018-март 2019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рт 2019-април 2019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0 0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ценка и проучвания на приноса на подкрепата от ЕСИФ за постигането на целите на приоритетите по ОПРР 2014-2020 + втори екологичен доклад по ОПРР 2014-2020 (за периода 2018-2020 г.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януари 2021-март 2021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рт 2021-септември 2021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ептември 2021-март 2022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рт 2022-юни 2022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едварителна и екологична оценка за програмен период след 2020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й 2019-юли 2019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вгуст 2019-януари 2020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януари 2020-юни 2021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юни 2021-юли 2021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gridSpan="6">
                  <a:txBody>
                    <a:bodyPr lIns="46080" rIns="460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Щ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4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42920" y="1844640"/>
            <a:ext cx="72741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Иван Попов</a:t>
            </a: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Началник на отдел „Програмиране, оценка, информация и публичност“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ГД „Програмиране на регионалното развитие“, МРР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ИПопов</cp:lastModifiedBy>
  <dcterms:modified xsi:type="dcterms:W3CDTF">2015-09-15T15:06:49Z</dcterms:modified>
  <cp:revision>924</cp:revision>
  <dc:subject/>
  <dc:title>Diapositiva 1</dc:title>
</cp:coreProperties>
</file>