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D1E5-3390-4D7E-B2EC-0AEAAA7F75B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идно от таблиц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от началото на оперативната програма досега, най-висока е стойността на наложените финансови корекции по първа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д 58 млн. лв., следвана от втора приоритетна ос -16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От 2011 г. стойността на финансовите корекции по първа ос е с най-голямо съотношение в общо наложените финансови ко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ез 2014 г. рязко нарастват финансовите корекции, което е вследствие на предприетите мерки за подобряване на системите за управление и контрол и актуализираните процедури и контролни листове за осъществяване на предварителен и последващ контрол при възлагане на обществени поръчки - влезли в сила от 01.07.201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я на 2014г. Одитният орган ИА „ОСЕС“ извърши два тематични системни одита, при които провери адекватността и ефективността на прилаганите от УО процедури за контрол върху обществени поръчки. Заключението на Одитния орган в резултат на извършените тематични системни одити е, че УО е предприел всички необходими действия за подобряване на системите за управление и контрол и за осигуряване на ефективност на процедурите по верификация на разходи от обществени поръ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 последно място, в доклада е посочено, че отчитайки оценката на СУК, установеното ниво на грешка в сертифицираните през 2013г. разходи и предприетите адекватни действия от УО по осчетоводяване на всички финансови корекции от извършената повторна верификация на разходите по договори за обществени поръчки, ИА „ОСЕС“  категоризира цялостната оценка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К на ОПРР на ниво 2 „Работи, но са необходими някои подобрения“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ето съответства на високото ниво на сигурно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Графиката ясно показва развитието (тренда) на наложените финансови корекции през годините, където отново е видно рязкото увеличение в размера на наложените финансови корекции през 2014 г. – 31 млн. лв. в сравнение с 2013 г. (10,2 млн. л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чакванията за 2015 г. са за лек спад (-16,7%) в размера на наложените финансови корекции спрямо 2014 г., вследствие на регулярно провеждани от УО семинари и обучения, както на бенефициентите, така и на своите служители по верификация. Целта на обученията е да запознаят бенефициенти и служители с добрите практики и констатираните грешки при възлагане на обществени поръчки, както и предприемането на превантивни действия за недопускане на нарушения. Не на последно място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во с цел засилване на превенцията, на интернет сайта на ОПРР са публикувани „Допълнителни указания към бенефициентите относно идентифицирани нарушения, допускани от бенефициентите на ОПРР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я на програмния период 2007 - 2013 г. УО на ОПРР започна подготовката и планирането на процеса на приключване на програмата. Успешното приключване на програмата зависи от изпълнението в срок и с необходимото качество на всички сключени договори за БФ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В тази връзка се извършва регулярно актуализиране на вътрешен анализ относно изпълнението на ОПРР на проектно ниво, с цел определяне на степента на риск за всеки конкретен прое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14.08.2015 г. е извършена актуализация на анализа на изпълнението на проектите по ОПРР за идентифициране на високо рисковите проекти по Оперативната програма по променената методология. Общият брой проекти в изпълнение по програмата включени в анализа е 123 бр. на обща стойност 1,25 млрд. лв. В резултат от направения анализ, се идентифицираха 9 бр. високорискови проекти без сключен основен договор с изпълнител на обща стойност 23 млн.лв. и 52 бр. високорискови проекти на обща стойност 647 млн. л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оглед напредналия етап в изпълнението на договорите за безвъзмездна финансова помощ в рамките на Оперативна програма „Регионално развитие“ 2007 – 2013 г. и съобразно оставащите месеци до приключване на програмата, се извърши промяна в Методология за извършване на вътрешен анализ (определяне на риска) на проектите по Оперативна програма „Регионално развитие“ 2007 – 2013 г. по отношение на критериите за определяне на степента на риска на проект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2015 г. е извършена актуализация на анализа на изпълнението на проектите по ОПРР за идентифициране на високо рисковите проекти по Оперативната програма по променената методология. Общият брой проекти в изпълнение по програмата включени в анализа е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на обща стойност 1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рд. лв. В резултат от направения анализ, се идентифицира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високорискови проекти без сключен основен договор с изпълнител на обща стойнос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н.лв., като два от проектите са в процедура по прекратяване на договора за БФП и 43 бр. високорискови проекти на обща стойност 580 млн. лв. Основна причина за случаите на висок риск е липсата на сключени договори с изпълнители по основните дейности повече от 10 месеца след сключване на договора за БФП, основна дейност по договора е спряна и не се изпълнява (което води до застрашаване изпълнението в рамките на крайния срок на договора за БФП),  финансово усвояване - процент на изплатени средства под 50% и други причини застрашаващи в голяма степен изпълнението на крайните срокове на договора з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сновна причина за случаите на висок риск е липсата на сключени договори с изпълнители по основните дейности повече от 10 месеца след сключване на договора за БФП, основна дейност по договора е спряна и не се изпълнява (което води до застрашаване изпълнението в рамките на крайния срок на договора за БФП),  финансово усвояване - процент на изплатени средства под 50% и други причини застрашаващи в голяма степен изпълнението на крайните срокове на договора з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исокорисковите проекти са определени на база следните крите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сва сключен договор с изпълнител по основна дейност по про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 договор за БФП преди повече от 10 месе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и са част от основните договори с изпълнители, но за част от дейностите не е сключен договор с изпълнител (пример: сключени са договори за изпълнение на СМР по 4 обособени позиции, но по една позиция процедурата се обжалва) или не е сключен договор за доставка на оборудване. Според спецификата на дейността по договора за БФП и преценка за степента на риска за изпълнение на крайните срокове на договора за БФП, проектът се определя като високорисков проект без сключен основен договор с изпълнител или високо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говорът за БФП е временно спрян, изпълнението по основните дейности е в напреднала фаза и е застрашено  изпълнението на крайния срок на договора за БФ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финансово усвояване - процент на изплатени средства под 50% (процентното съотношение на стойност на изплатени средства по проекта спрямо стойност на БФП (100%) след анек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тановяване на разликата между стойност на подадени искания и стойност на изплатени средства над 25% (процентното съотношение на стойност на изплатени средства по проекта спрямо стойност на подадени искания за плащ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руги обстоятелства и проблеми, свързани със забава в изпълнението на проекта (липса на финансов ресурс от страна на бенефициента за разплащане с фирмите изпълнителки, възможност за неизпълнение/забава/форсмажор на предвиденото по договор с изпълнител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зултати от анализ на изпълнението на проектно ниво за всички проекти по ОПРР -  118 бр. на стойност 1,21 млрд.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Високорискови проекти без сключен основен договор с изпълнител (лилав цвят)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договора за БФП с висок риск за изпълнение на обща стойност около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млн. лв., т.е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% от общия обем договори в изпълнение (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бр. на стойност 1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млрд.л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Високорискови проекти (червен цвят)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3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договора за БФП на обща стойност около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млн. лв., т.е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% от общия обем договори в изпълнение (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бр. на стойност 1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млрд. лв.)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 определените високорискови проек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проекта са с включени допълнителни обекти по схема BG161PO001/1.4-09/2012 „Зелена и достъпна градска среда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по 1 проект на община Стара Загора за интегриран градски транспорт са включ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55 допълнителни автобуса и за 2 бр. проекта  допълнителна апаратура по схема BG161PO001/1.1-08/2010  „Подкрепа за реконструкция, обновяване и оборудване на държавни лечебни и здравни заведения в градските агломерации“ с бенефициент Министерство на здравеопазването по Решение на КН 15 -то заседа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процес на сключване на анекси са двата договора с М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Общата стойност на идентифицираните високорискови проекти с допълнителни обекти и апаратура е 66,7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Средно рискови проекти (жълт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договора за БФП на обща стойност окол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4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млн. лв., т.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,2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% от общия обем договори в изпълнение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8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на стойност 1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рд. л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 без установени рискове (зелен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договора за БФП на обща стойност около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7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н. лв., т.е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% от общия обем договори в изпълнение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8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бр. на стойност 1,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млрд. л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ащият размер за плащане за високорисковите проекти без сключен основен договор с изпълнител (лилав цвят) за всички приоритетни оси е в размер на 8 334 653,92 лв. (оставащ процент за усвояване 84,9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ащият размер за плащане за високорисковите проекти (червен цвят) за всички приоритетни оси е в размер на 372 278 982,44 лв.(оставащ процент за усвояване 64,2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оритетна ос 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587 740 314,27 лв.(общото финансово усвояване е  65,36%), оставащи плащания спрямо общата стойност е в размер на 311 512 160,85 лв.( оставащ процент за усвояване 34,64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иоритетна ос 2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108 871 737,06 лв.(общото финансово усвояване е  36,26%), оставащи плащания спрямо общата стойност е в размер на 191 394 196,13 лв.( оставащ процент за усвояване 63,74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иоритетна ос 3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34 361 658,85 лв.(общото финансово усвояване е  53,13%), оставащи плащания спрямо общата стойност е в размер на 30 311 599,37 лв.( оставащ процент за усвояване 46,87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иоритетна ос 4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3 128 373,96  лв.(общото финансово усвояване е  62,91%), оставащи плащания спрямо общата стойност е в размер на 1 844 304,08 лв.( оставащ процент за усвояване 37,09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ата стойност на изплатени средства з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иоритетна ос 5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договорите в изпълнение към датата на анализа е в размер на 11 156 018,88 лв.(общото финансово усвояване е  48,74%), оставащи плащания спрямо общата стойност е в размер на 11 731 827,34 лв.( оставащ процент за усвояване 51,26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 цел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коряване процеса на верифик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 осигуряване ритмичност на плащанията към бенефициентит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с оглед приключването на ОПРР 2007-2013 през 2015 г., 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О на ОПРР въведе нов подход, който предвижд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гистриране на служеб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кания з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междинн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лащан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При приключване на регистрирани сигнали за нередности с прекратяване поради липса на установена нередност, приключване с налагане на намалена финансова корекция или приключване поради наложена плоска финансова корекция (ПФК) следва да бъдат регистрирани служебни искания за плащане, с които задържаната /неверифицирана/ сума да бъде верифицирана и платена на бене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 цел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коряване на процеса на верифик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 осигуряване ритмичност на плащанията към бенефициентите, УО на ОПРР въведе нов подход, който предвижда „частична“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ерифика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 окончателните искания за плащане, а именно процедиране на искането за окончателно плащане при наличие на активни сигнали със съмнения за нередности по някои от договорите по проекта, чрез неверифициране на разходи във връзка с тези сигн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01.10.2015 г броят на необработените сигнали е около 5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E92E-2B61-48A2-A421-1E30CC10DD4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цел подобряване системите за контрол и уеднаквяване на практиката е въведена т.нар. „оценка на качеството“ върху контролната дейност на регионалните отдели, която се осъществява ежемесечно на централно ниво, като резултатите се обобщават в доклад. Въведени са ежемесечни срещи-обучения между експертите от РО и тези на централно ниво, с цел минимизиране на индивидуалните грешки при осъществявания контр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азширен и конкретизиран е обхвата на контрола за законосъобразност на контролните листове за последващ контрол при възлагане на обществени поръчки, като са включени нови контроли, с акцент върху сроковете за: получаване на оферти; за закупуване или получаване на документацията за участие; допълнително изискване за проследяване приложението на чл. 29 от ЗОП – относно разясненията по зададени въпроси от участници; включване на конкретни контроли относно изчерпателното посочване на показателите за оценка в обявлението и съответствието им с предвижданията на методика за оценка на офертите, част от документацията за участие и други. Въведена е подробна секция за установяване на наличието на рискови фактори за измама т.нар. „red flags“ в контролните лист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ктуализирането и въвеждането на новите, допълнителни и подробни контроли в контролните листове, за осъществяване на последващ контрол при възлагане на обществени поръчки, води до забава при осъществяването на контрола за законосъобразност при възлагането на обществените поръ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Контейнер за номер н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3E80-3D44-4A05-9192-4FF392D8511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2CA-15FD-4FF7-9C6C-3E294213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4EC-9E72-4C17-95AC-C7354371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ED26-15F5-4624-8B62-2CEECA5C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89D-4D69-417D-8880-8B9C9D23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D36E-64EF-4006-A40A-F85439DA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ACF3-6DA9-46F2-8F58-8BD76CEB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7645-67EB-45C4-99CD-B8736A8B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8C7B-4DA1-48C8-9884-44EDF9C5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4034-969E-4405-9CAC-040919CE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C9CF-9F74-4563-AF4F-7AAF0C7A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1FBA-CFF2-4DF9-93FD-51B88F4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D34-8E3C-46E4-B75D-8BBE54E1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09A9-F65C-478D-A837-68219C64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4E63-68D4-46F5-8E0D-683633FE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CA62-CEB9-4EC0-B945-400F75C6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A8F-058B-4186-80D9-AC2B8A7F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3C35-FA55-4352-A08B-56E919AA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55D-51F3-48D6-801A-0F51BB8C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225-963B-483C-BA56-83E2571E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3A2-3C80-4B09-9D9F-DB92503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9E5-A2E6-451C-93F8-12371A5A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B92-785B-4AD5-BE0E-874B04D5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112-A4FC-4687-A816-E204FD4C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6C3-10CD-4F8E-9282-D8E9F0E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6630-6AC9-4836-AC2B-E3A9A64065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3408-811B-4F4D-91ED-EB446492CD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62000" y="4076640"/>
            <a:ext cx="64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едизвикателства при  приключване на Програмата, анализ на риск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а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оектно ниво, мерки за успешното изпълнение на Програ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04760" y="5735520"/>
            <a:ext cx="63230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на КН на ОПРР 2007-2013 г. и КН на ОПРР 2014-2020 г.  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г. (прогноза) в 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4220640"/>
            <a:ext cx="7974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2060"/>
                </a:solidFill>
                <a:latin typeface="Arial"/>
              </a:rPr>
              <a:t>Посочените стойности на финансовите корекции не включват прекратените нередности както и наложени плоски финансови корекции (ПФК). </a:t>
            </a:r>
            <a:br>
              <a:rPr sz="1200"/>
            </a:br>
            <a:br>
              <a:rPr sz="1200"/>
            </a:br>
            <a:r>
              <a:rPr b="0" lang="bg-BG" sz="1200" spc="-1" strike="noStrike">
                <a:solidFill>
                  <a:srgbClr val="002060"/>
                </a:solidFill>
                <a:latin typeface="Arial"/>
              </a:rPr>
              <a:t>Стойността на ПФК е в размер на приблизително 109,4 млн. лв. върху всички сертифицирани и бъдещи разходи, подлежащи на сертификация по засегнатите договори по Приоритетни оси 1 и 3.</a:t>
            </a:r>
            <a:br>
              <a:rPr sz="1200"/>
            </a:br>
            <a:br>
              <a:rPr sz="1200"/>
            </a:br>
            <a:r>
              <a:rPr b="0" lang="bg-BG" sz="1200" spc="-1" strike="noStrike">
                <a:solidFill>
                  <a:srgbClr val="002060"/>
                </a:solidFill>
                <a:latin typeface="Arial"/>
              </a:rPr>
              <a:t>Посочените стойности включват индивидуални финансови корекции (по извадките и чл. 10), които ще се поемат от бюджета на МРРБ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"/>
          <p:cNvPicPr/>
          <p:nvPr/>
        </p:nvPicPr>
        <p:blipFill>
          <a:blip r:embed="rId3"/>
          <a:stretch/>
        </p:blipFill>
        <p:spPr>
          <a:xfrm>
            <a:off x="581040" y="1628640"/>
            <a:ext cx="7886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(прогноза) в 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250920" y="1844640"/>
            <a:ext cx="85834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г. (прогноза) в 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34880" y="5119560"/>
          <a:ext cx="6278760" cy="685800"/>
        </p:xfrm>
        <a:graphic>
          <a:graphicData uri="http://schemas.openxmlformats.org/drawingml/2006/table">
            <a:tbl>
              <a:tblPr/>
              <a:tblGrid>
                <a:gridCol w="6278760"/>
              </a:tblGrid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екратените нередности не са включени в анализ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За 2008 г. всички регистрирани нередности за прекратени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За 2009 г. има само две нередности на обща стойност 149 744 л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20" descr=""/>
          <p:cNvPicPr/>
          <p:nvPr/>
        </p:nvPicPr>
        <p:blipFill>
          <a:blip r:embed="rId3"/>
          <a:stretch/>
        </p:blipFill>
        <p:spPr>
          <a:xfrm>
            <a:off x="338040" y="1844640"/>
            <a:ext cx="84106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 окто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35000" y="1557360"/>
            <a:ext cx="878508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Забава във физическото изпълнение на проектит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Нерегулярно подаване на искания за плащане от страна на бенефициентите и некоректно попълнени докум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Изключително голям брой регистрирани сигнали за нередности, чиято обработка забавя процеса на верифик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Ангажиране на експертния потенциал на УО на ОПРР предимно в процеса на верификация и необходимост от вътрешно обучение на експертите, осъществяващи контрол на обществените поръ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22480" y="259920"/>
            <a:ext cx="6905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извикателства при приключване </a:t>
            </a:r>
            <a:br>
              <a:rPr sz="2000"/>
            </a:b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на Програма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35000" y="1557360"/>
            <a:ext cx="878508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УО извършва регулярно актуализиране на вътрешния анализ относно изпълнението на ОПРР 2007-2013 г. на проектно ниво, с цел определяне на степента на риск за всеки конкретен проек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Последна актуализация на анализ на риска  - към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.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.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ият брой проекти в изпълнение –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8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б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- обща стойност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млрд.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бр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сокорискови проекти без сключен основен договор -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млн.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3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бр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исокорискови проекти на обща стойност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80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млн.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С бенефициентите на рисковите проекти се провеждат регулярни срещи изготвят се индивидуални планове за действие и се проследява тяхното изпъ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480" y="259920"/>
            <a:ext cx="6905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анализ на риска (1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152360" y="112680"/>
            <a:ext cx="68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анализ на риска (2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1400" y="1585800"/>
            <a:ext cx="34639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сновни критерии, определящи проектите с  висок риск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Сключен договор за БФП преди повече от 10 месе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Липса на сключени договори с </a:t>
            </a:r>
            <a:r>
              <a:rPr b="0" sz="1600" spc="-1" strike="noStrike">
                <a:solidFill>
                  <a:srgbClr val="000036"/>
                </a:solidFill>
                <a:latin typeface="Arial"/>
              </a:rPr>
              <a:t>изпълнители</a:t>
            </a: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 по </a:t>
            </a:r>
            <a:r>
              <a:rPr b="0" lang="bg-BG" sz="1600" spc="-1" strike="noStrike">
                <a:solidFill>
                  <a:srgbClr val="000036"/>
                </a:solidFill>
                <a:latin typeface="Arial"/>
              </a:rPr>
              <a:t>основните</a:t>
            </a: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 дей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Спряна основна дейност по договора; не се изпълня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Финансово усвояване - процент на изплатени средства под 50%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6"/>
                </a:solidFill>
                <a:latin typeface="Arial"/>
              </a:rPr>
              <a:t>Други причини, застрашаващи изпълнението на крайните срокове на договора за БФ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Chart 11" descr=""/>
          <p:cNvPicPr/>
          <p:nvPr/>
        </p:nvPicPr>
        <p:blipFill>
          <a:blip r:embed="rId3"/>
          <a:stretch/>
        </p:blipFill>
        <p:spPr>
          <a:xfrm>
            <a:off x="3780000" y="1700280"/>
            <a:ext cx="52909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138320" y="171360"/>
            <a:ext cx="70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анализ на риска (3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39640" y="14414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иран вътрешен анализ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0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2015 г.  относно изпълнението на ОПРР на проектно н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Chart 10" descr=""/>
          <p:cNvPicPr/>
          <p:nvPr/>
        </p:nvPicPr>
        <p:blipFill>
          <a:blip r:embed="rId3"/>
          <a:stretch/>
        </p:blipFill>
        <p:spPr>
          <a:xfrm>
            <a:off x="396720" y="2084400"/>
            <a:ext cx="84981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65080" y="189000"/>
            <a:ext cx="75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анализ на риска (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стоящи плаща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hart 11" descr=""/>
          <p:cNvPicPr/>
          <p:nvPr/>
        </p:nvPicPr>
        <p:blipFill>
          <a:blip r:embed="rId3"/>
          <a:stretch/>
        </p:blipFill>
        <p:spPr>
          <a:xfrm>
            <a:off x="-19080" y="1414440"/>
            <a:ext cx="9144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187280" y="68400"/>
            <a:ext cx="68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 - изпълнение на одобрен от ЕК план за дейст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0160" y="1628640"/>
          <a:ext cx="8694720" cy="4075200"/>
        </p:xfrm>
        <a:graphic>
          <a:graphicData uri="http://schemas.openxmlformats.org/drawingml/2006/table">
            <a:tbl>
              <a:tblPr/>
              <a:tblGrid>
                <a:gridCol w="4733640"/>
                <a:gridCol w="3961080"/>
              </a:tblGrid>
              <a:tr h="175320">
                <a:tc>
                  <a:txBody>
                    <a:bodyPr lIns="20520" rIns="20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рки за ускоряване изпълнението на ОПРР 2007 - 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тус на изпълнение към 05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28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цел гарантиране изпълнение на всички дейности и извършване на окончателни плащания по всички договора за предоставяне на БФП в рамките на установените крайни срокове, както и осигуряване на успешно приключване на програмния период 2007 – 2013, УО предприе следните действия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ждане на писмена кореспонденция с бенефициентите с идентифицирани високорискови проекти. Бенефициентите бяха уведомени, че след извършен анализ на проектно ниво, УО е идентифицирал проекти, за които своевременното изпълнение на заложените дейности по съответните ДБФП е поставено под риск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ждане на срещи с бенефициентите, чийто проекти са идентифицирани като високорискови, подготовка на индивидуални планове за действия, ускоряване на изпълнението на проектните дейности и регулярно подаване на искания за плащан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 вътрешен риск анализ – август 2015 г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 срещи с бенефициентите с идентифицирани високорискови проекти – 09.09.2015 – 23.09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ени индивидуални планове за действия с препоръки към бенефициентите с конкретни крайни срокове за изпълн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а писмена кореспонденция с бенефициентите с идентифицирани високорискови проект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уализиране на анализа на риска – септември 2015 г. – 6 броя високо рискови проекта без сключен основен договор и 47 броя високорискови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ане на одобрените резервни проекти на конкретни бенефициенти с възможност за физическо приключване до 31.12.2015 т. УО на ОПРР ще извърш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телен анализ на спестените ресурси по програмата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телен анализ за напредъка на процедурите за избор на изпълнители с оглед иницииране на предложение до Комитета за наблюдение за окончателна приоритизация на списък с резервни проек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ане на одобрените резервни проекти на конкретни бенефициенти - 31.12.2015 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на спестения финансов ресурс и анализ на напредъка на процедурите за избор на изпълнители  по отношение на списъка с резервните проек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разпределение на налични ресур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ущо преразпределение на налични ресур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писване на договори за резервни проекти, в съответствие със спестените финансови ресурс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кущо сключване/анексиране на договори по проектни от резервните списъц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93600" y="665316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9280" y="1628640"/>
            <a:ext cx="889344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С цел ускоряване процеса на верификация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осигуряване ритмичност на плащанията към бенефициентите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и успешно приключване на ОПРР 2007-2013 г., УО на ОПРР предприе следните мер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Прилагане на процедури за извършване на „частична“ и „условна“ верификация на искания за  плащане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Прилагане на процедури по регистриране и верификация на служебни искания за  плащ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Обработка на сигнали за нередности на първа стъпка от Регионалните отдели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Към 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.10.2015 г. необработените сигнали са около 500 б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22480" y="259920"/>
            <a:ext cx="6905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нови процедури в процеса на вер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22480" y="259920"/>
            <a:ext cx="6905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Предприети мерки за успешното приключване на програмата – подобрен контрол за законосъобраз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4480" y="1699920"/>
            <a:ext cx="8780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Въведена е „оценка на качеството“ върху контролната дейност на регионалните отдел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Провеждане на регулярни срещ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обучения между експертите от РО и тези на централно ни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Разширен и конкретизиран е обхвата на контрола за законосъобразност на контролните листове за последващ контрол при възлагане на обществени поръ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14480" y="87480"/>
            <a:ext cx="1008000" cy="1099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5-10-02T10:19:44Z</dcterms:modified>
  <cp:revision>994</cp:revision>
  <dc:subject/>
  <dc:title>Diapositiva 1</dc:title>
</cp:coreProperties>
</file>