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wmf" ContentType="image/x-wmf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39599-9E64-4B85-924A-9052CFFB8D98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Видно от таблицат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от началото на оперативната програма досега, най-висока е стойността на наложените финансови корекции по първа ос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над 58 млн. лв., следвана от втора приоритетна ос -16 млн. л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- От 2011 г. стойността на финансовите корекции по първа ос е с най-голямо съотношение в общо наложените финансови корек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- През 2014 г. рязко нарастват финансовите корекции, което е вследствие на предприетите мерки за подобряване на системите за управление и контрол и актуализираните процедури и контролни листове за осъществяване на предварителен и последващ контрол при възлагане на обществени поръчки - влезли в сила от 01.07.2014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рая на 2014г. Одитният орган ИА „ОСЕС“ извърши два тематични системни одита, при които провери адекватността и ефективността на прилаганите от УО процедури за контрол върху обществени поръчки. Заключението на Одитния орган в резултат на извършените тематични системни одити е, че УО е предприел всички необходими действия за подобряване на системите за управление и контрол и за осигуряване на ефективност на процедурите по верификация на разходи от обществени поръч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на последно място, в доклада е посочено, че отчитайки оценката на СУК, установеното ниво на грешка в сертифицираните през 2013г. разходи и предприетите адекватни действия от УО по осчетоводяване на всички финансови корекции от извършената повторна верификация на разходите по договори за обществени поръчки, ИА „ОСЕС“  категоризира цялостната оценка н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УК на ОПРР на ниво 2 „Работи, но са необходими някои подобрения“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ето съответства на високото ниво на сигурнос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Графиката ясно показва развитието (тренда) на наложените финансови корекции през годините, където отново е видно рязкото увеличение в размера на наложените финансови корекции през 2014 г. – 31 млн. лв. в сравнение с 2013 г. (10,2 млн. лв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Очакванията за 2015 г. са за лек спад (-16,7%) в размера на наложените финансови корекции спрямо 2014 г., вследствие на регулярно провеждани от УО семинари и обучения, както на бенефициентите, така и на своите служители по верификация. Целта на обученията е да запознаят бенефициенти и служители с добрите практики и констатираните грешки при възлагане на обществени поръчки, както и предприемането на превантивни действия за недопускане на нарушения. Не на последно място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во с цел засилване на превенцията, на интернет сайта на ОПРР са публикувани „Допълнителни указания към бенефициентите относно идентифицирани нарушения, допускани от бенефициентите на ОПРР“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рая на програмния период 2007 - 2013 г. УО на ОПРР започна подготовката и планирането на процеса на приключване на програмата. Успешното приключване на програмата зависи от изпълнението в срок и с необходимото качество на всички сключени договори за БФП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36"/>
                </a:solidFill>
                <a:latin typeface="Calibri"/>
              </a:rPr>
              <a:t>В тази връзка се извършва регулярно актуализиране на вътрешен анализ относно изпълнението на ОПРР на проектно ниво, с цел определяне на степента на риск за всеки конкретен проек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Към 14.08.2015 г. е извършена актуализация на анализа на изпълнението на проектите по ОПРР за идентифициране на високо рисковите проекти по Оперативната програма по променената методология. Общият брой проекти в изпълнение по програмата включени в анализа е 123 бр. на обща стойност 1,25 млрд. лв. В резултат от направения анализ, се идентифицираха 9 бр. високорискови проекти без сключен основен договор с изпълнител на обща стойност 23 млн.лв. и 52 бр. високорискови проекти на обща стойност 647 млн. л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С оглед напредналия етап в изпълнението на договорите за безвъзмездна финансова помощ в рамките на Оперативна програма „Регионално развитие“ 2007 – 2013 г. и съобразно оставащите месеци до приключване на програмата, се извърши промяна в Методология за извършване на вътрешен анализ (определяне на риска) на проектите по Оперативна програма „Регионално развитие“ 2007 – 2013 г. по отношение на критериите за определяне на степента на риска на проектит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Към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.0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.2015 г. е извършена актуализация на анализа на изпълнението на проектите по ОПРР за идентифициране на високо рисковите проекти по Оперативната програма по променената методология. Общият брой проекти в изпълнение по програмата включени в анализа е 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бр. на обща стойност 1,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млрд. лв. В резултат от направения анализ, се идентифицирах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бр. високорискови проекти без сключен основен договор с изпълнител на обща стойност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млн.лв., като два от проектите са в процедура по прекратяване на договора за БФП и 43 бр. високорискови проекти на обща стойност 580 млн. лв. Основна причина за случаите на висок риск е липсата на сключени договори с изпълнители по основните дейности повече от 10 месеца след сключване на договора за БФП, основна дейност по договора е спряна и не се изпълнява (което води до застрашаване изпълнението в рамките на крайния срок на договора за БФП),  финансово усвояване - процент на изплатени средства под 50% и други причини застрашаващи в голяма степен изпълнението на крайните срокове на договора за БФ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Основна причина за случаите на висок риск е липсата на сключени договори с изпълнители по основните дейности повече от 10 месеца след сключване на договора за БФП, основна дейност по договора е спряна и не се изпълнява (което води до застрашаване изпълнението в рамките на крайния срок на договора за БФП),  финансово усвояване - процент на изплатени средства под 50% и други причини застрашаващи в голяма степен изпълнението на крайните срокове на договора за БФ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Високорисковите проекти са определени на база следните критер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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псва сключен договор с изпълнител по основна дейност по проек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сключен договор за БФП преди повече от 10 месец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сключени са част от основните договори с изпълнители, но за част от дейностите не е сключен договор с изпълнител (пример: сключени са договори за изпълнение на СМР по 4 обособени позиции, но по една позиция процедурата се обжалва) или не е сключен договор за доставка на оборудване. Според спецификата на дейността по договора за БФП и преценка за степента на риска за изпълнение на крайните срокове на договора за БФП, проектът се определя като високорисков проект без сключен основен договор с изпълнител или високорис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договорът за БФП е временно спрян, изпълнението по основните дейности е в напреднала фаза и е застрашено  изпълнението на крайния срок на договора за БФП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финансово усвояване - процент на изплатени средства под 50% (процентното съотношение на стойност на изплатени средства по проекта спрямо стойност на БФП (100%) след анек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установяване на разликата между стойност на подадени искания и стойност на изплатени средства над 25% (процентното съотношение на стойност на изплатени средства по проекта спрямо стойност на подадени искания за плаща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други обстоятелства и проблеми, свързани със забава в изпълнението на проекта (липса на финансов ресурс от страна на бенефициента за разплащане с фирмите изпълнителки, възможност за неизпълнение/забава/форсмажор на предвиденото по договор с изпълнител и д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Резултати от анализ на изпълнението на проектно ниво за всички проекти по ОПРР -  118 бр. на стойност 1,21 млрд.л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Calibri"/>
              </a:rPr>
              <a:t>Високорискови проекти без сключен основен договор с изпълнител (лилав цвят) </a:t>
            </a: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 договора за БФП с висок риск за изпълнение на обща стойност около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 млн. лв., т.е.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% от общия обем договори в изпълнение (1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8</a:t>
            </a: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 бр. на стойност 1,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 млрд.лв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Calibri"/>
              </a:rPr>
              <a:t>Високорискови проекти (червен цвят) </a:t>
            </a: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43</a:t>
            </a: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 договора за БФП на обща стойност около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580</a:t>
            </a: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 млн. лв., т.е.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45</a:t>
            </a: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% от общия обем договори в изпълнение (1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8</a:t>
            </a: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 бр. на стойност 1,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 млрд. лв.).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От определените високорискови проект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бр. проекта са с включени допълнителни обекти по схема BG161PO001/1.4-09/2012 „Зелена и достъпна градска среда”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по 1 проект на община Стара Загора за интегриран градски транспорт са включен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55 допълнителни автобуса и за 2 бр. проекта  допълнителна апаратура по схема BG161PO001/1.1-08/2010  „Подкрепа за реконструкция, обновяване и оборудване на държавни лечебни и здравни заведения в градските агломерации“ с бенефициент Министерство на здравеопазването по Решение на КН 15 -то заседание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в процес на сключване на анекси са двата договора с М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. Общата стойност на идентифицираните високорискови проекти с допълнителни обекти и апаратура е 66,7 млн. л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Calibri"/>
              </a:rPr>
              <a:t>Средно рискови проекти (жълт цвят)</a:t>
            </a: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- 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договора за БФП на обща стойност около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54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млн. лв., т.е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5,2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% от общия обем договори в изпълнение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8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бр. на стойност 1,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млрд. лв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Calibri"/>
              </a:rPr>
              <a:t>Проекти без установени рискове (зелен цвят)</a:t>
            </a: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договора за БФП на обща стойност около 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7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млн. лв., т.е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% от общия обем договори в изпълнение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8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бр. на стойност 1,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млрд. лв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аващият размер за плащане за високорисковите проекти без сключен основен договор с изпълнител (лилав цвят) за всички приоритетни оси е в размер на 8 334 653,92 лв. (оставащ процент за усвояване 84,9%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аващият размер за плащане за високорисковите проекти (червен цвят) за всички приоритетни оси е в размер на 372 278 982,44 лв.(оставащ процент за усвояване 64,2%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ата стойност на изплатени средства з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оритетна ос 1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договорите в изпълнение към датата на анализа е в размер на 587 740 314,27 лв.(общото финансово усвояване е  65,36%), оставащи плащания спрямо общата стойност е в размер на 311 512 160,85 лв.( оставащ процент за усвояване 34,64%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Общата стойност на изплатени средства за </a:t>
            </a: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приоритетна ос 2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на договорите в изпълнение към датата на анализа е в размер на 108 871 737,06 лв.(общото финансово усвояване е  36,26%), оставащи плащания спрямо общата стойност е в размер на 191 394 196,13 лв.( оставащ процент за усвояване 63,74%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Общата стойност на изплатени средства за </a:t>
            </a: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приоритетна ос 3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на договорите в изпълнение към датата на анализа е в размер на 34 361 658,85 лв.(общото финансово усвояване е  53,13%), оставащи плащания спрямо общата стойност е в размер на 30 311 599,37 лв.( оставащ процент за усвояване 46,87%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Общата стойност на изплатени средства за </a:t>
            </a: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приоритетна ос 4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на договорите в изпълнение към датата на анализа е в размер на 3 128 373,96  лв.(общото финансово усвояване е  62,91%), оставащи плащания спрямо общата стойност е в размер на 1 844 304,08 лв.( оставащ процент за усвояване 37,09%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Общата стойност на изплатени средства за </a:t>
            </a: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приоритетна ос 5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на договорите в изпълнение към датата на анализа е в размер на 11 156 018,88 лв.(общото финансово усвояване е  48,74%), оставащи плащания спрямо общата стойност е в размер на 11 731 827,34 лв.( оставащ процент за усвояване 51,26 %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 цел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ускоряване процеса на верификаци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и осигуряване ритмичност на плащанията към бенефициентите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и с оглед приключването на ОПРР 2007-2013 през 2015 г., 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УО на ОПРР въведе нов подход, който предвижда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регистриране на служебн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искания за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междинно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лащане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. При приключване на регистрирани сигнали за нередности с прекратяване поради липса на установена нередност, приключване с налагане на намалена финансова корекция или приключване поради наложена плоска финансова корекция (ПФК) следва да бъдат регистрирани служебни искания за плащане, с които задържаната /неверифицирана/ сума да бъде верифицирана и платена на бенефици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 цел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ускоряване на процеса на верификаци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и осигуряване ритмичност на плащанията към бенефициентите, УО на ОПРР въведе нов подход, който предвижда „частична“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верификация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на окончателните искания за плащане, а именно процедиране на искането за окончателно плащане при наличие на активни сигнали със съмнения за нередности по някои от договорите по проекта, чрез неверифициране на разходи във връзка с тези сигна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Към 01.10.2015 г броят на необработените сигнали е около 500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7C3AA-AD17-43C4-8A6D-6C8F77421A43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С цел подобряване системите за контрол и уеднаквяване на практиката е въведена т.нар. „оценка на качеството“ върху контролната дейност на регионалните отдели, която се осъществява ежемесечно на централно ниво, като резултатите се обобщават в доклад. Въведени са ежемесечни срещи-обучения между експертите от РО и тези на централно ниво, с цел минимизиране на индивидуалните грешки при осъществявания контро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Разширен и конкретизиран е обхвата на контрола за законосъобразност на контролните листове за последващ контрол при възлагане на обществени поръчки, като са включени нови контроли, с акцент върху сроковете за: получаване на оферти; за закупуване или получаване на документацията за участие; допълнително изискване за проследяване приложението на чл. 29 от ЗОП – относно разясненията по зададени въпроси от участници; включване на конкретни контроли относно изчерпателното посочване на показателите за оценка в обявлението и съответствието им с предвижданията на методика за оценка на офертите, част от документацията за участие и други. Въведена е подробна секция за установяване на наличието на рискови фактори за измама т.нар. „red flags“ в контролните листо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Актуализирането и въвеждането на новите, допълнителни и подробни контроли в контролните листове, за осъществяване на последващ контрол при възлагане на обществени поръчки, води до забава при осъществяването на контрола за законосъобразност при възлагането на обществените поръч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Контейнер за номер н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38DBD-7FBF-4B82-B72F-251846A0AA6E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9498-1223-4C0E-9386-1C24338AC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B84E-0680-4727-981F-5A92E79AD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3615-34D5-48B2-8F31-3F7196046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A0EC-BB9C-4116-B5AC-B3550B522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78D7C-D1D2-45FE-A699-1B886F43F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49138-F2DA-40D9-954A-CB740F644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D3A1C-3308-471A-A3A4-7199FC1E8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3A263-0CE3-4E7F-908D-427A6A74C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0B94F-88B0-4F79-95B0-248097E21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EAFD0-DB78-4248-B981-BF5CBBAC0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77A30-166C-4256-9755-E330D75F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3246-25B2-4182-BF97-E1C04E2BC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92F23-C681-4BCC-B86D-2C7C72A3C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1EEFE-F031-48B3-9B6C-852EF803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EB803-9EC3-48ED-A8A1-E3CE34613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7F40D-EEA8-422F-AD73-E8DCCF385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0E527-44E2-4327-9906-FE625D1DD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E6BE-CEBE-4631-99D3-190642203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477B-13B6-4357-BC19-58F5E1194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EA31-19E2-4DE4-86DC-5C1F4A16D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1BAC-2328-49D0-9CDC-B0ABCEB4E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E261-1D74-46A8-93E2-A148C256B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E2EA-5909-46C7-8F5C-ED15A10A6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7092-E875-4A12-908B-7F998AA3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20008-D508-4E7D-B66A-0432CA21F5B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9AB1F-F175-4592-A699-A4571F8C7A4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"/>
          <p:cNvPicPr/>
          <p:nvPr/>
        </p:nvPicPr>
        <p:blipFill>
          <a:blip r:embed="rId2"/>
          <a:stretch/>
        </p:blipFill>
        <p:spPr>
          <a:xfrm>
            <a:off x="395280" y="71280"/>
            <a:ext cx="1152360" cy="1224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"/>
          <p:cNvPicPr/>
          <p:nvPr/>
        </p:nvPicPr>
        <p:blipFill>
          <a:blip r:embed="rId3"/>
          <a:stretch/>
        </p:blipFill>
        <p:spPr>
          <a:xfrm>
            <a:off x="7885080" y="11592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4576680" y="6175440"/>
            <a:ext cx="4572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2160720" y="40464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2d2d8a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162000" y="4076640"/>
            <a:ext cx="646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Предизвикателства при  приключване на Програмата, анализ на риска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800000"/>
                </a:solidFill>
                <a:latin typeface="Arial"/>
              </a:rPr>
              <a:t>на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проектно ниво, мерки за успешното изпълнение на Програм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270000" y="1447920"/>
            <a:ext cx="862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НИСТЕРСТВО НА РЕГИОНАЛНОТО РАЗВИТИЕ И БЛАГОУСТРОЙ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ВНА ДИРЕКЦИЯ “ПРОГРАМИРАНЕ НА РЕГИОНАЛНОТО РАЗВИТИЕ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104760" y="5735520"/>
            <a:ext cx="632304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Sylfaen"/>
              </a:rPr>
              <a:t>Първо заседание </a:t>
            </a:r>
            <a:r>
              <a:rPr b="1" lang="ru-RU" sz="2000" spc="-1" strike="noStrike">
                <a:solidFill>
                  <a:srgbClr val="000066"/>
                </a:solidFill>
                <a:latin typeface="Sylfaen"/>
              </a:rPr>
              <a:t>на КН на ОПРР 2007-2013 г. и КН на ОПРР 2014-2020 г.  </a:t>
            </a:r>
            <a:r>
              <a:rPr b="1" lang="en-US" sz="2000" spc="-1" strike="noStrike">
                <a:solidFill>
                  <a:srgbClr val="000066"/>
                </a:solidFill>
                <a:latin typeface="Sylfae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6 октомври </a:t>
            </a:r>
            <a:r>
              <a:rPr b="0" i="1" lang="en-US" sz="1800" spc="-1" strike="noStrike">
                <a:solidFill>
                  <a:srgbClr val="000066"/>
                </a:solidFill>
                <a:latin typeface="Sylfaen"/>
              </a:rPr>
              <a:t>201</a:t>
            </a: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5 г.</a:t>
            </a:r>
            <a:r>
              <a:rPr b="0" i="1" lang="en-US" sz="1800" spc="-1" strike="noStrike">
                <a:solidFill>
                  <a:srgbClr val="000066"/>
                </a:solidFill>
                <a:latin typeface="Sylfaen"/>
              </a:rPr>
              <a:t>, </a:t>
            </a: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гр. Со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1332000" y="9540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Наложени финансови корекции по приоритетни  оси за периода 2010 – 2015 г. (прогноза) в ле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4220640"/>
            <a:ext cx="797400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2060"/>
                </a:solidFill>
                <a:latin typeface="Arial"/>
              </a:rPr>
              <a:t>Посочените стойности на финансовите корекции не включват прекратените нередности както и наложени плоски финансови корекции (ПФК). </a:t>
            </a:r>
            <a:br>
              <a:rPr sz="1200"/>
            </a:br>
            <a:br>
              <a:rPr sz="1200"/>
            </a:br>
            <a:r>
              <a:rPr b="0" lang="bg-BG" sz="1200" spc="-1" strike="noStrike">
                <a:solidFill>
                  <a:srgbClr val="002060"/>
                </a:solidFill>
                <a:latin typeface="Arial"/>
              </a:rPr>
              <a:t>Стойността на ПФК е в размер на приблизително 109,4 млн. лв. върху всички сертифицирани и бъдещи разходи, подлежащи на сертификация по засегнатите договори по Приоритетни оси 1 и 3.</a:t>
            </a:r>
            <a:br>
              <a:rPr sz="1200"/>
            </a:br>
            <a:br>
              <a:rPr sz="1200"/>
            </a:br>
            <a:r>
              <a:rPr b="0" lang="bg-BG" sz="1200" spc="-1" strike="noStrike">
                <a:solidFill>
                  <a:srgbClr val="002060"/>
                </a:solidFill>
                <a:latin typeface="Arial"/>
              </a:rPr>
              <a:t>Посочените стойности включват индивидуални финансови корекции (по извадките и чл. 10), които ще се поемат от бюджета на МРРБ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3" descr=""/>
          <p:cNvPicPr/>
          <p:nvPr/>
        </p:nvPicPr>
        <p:blipFill>
          <a:blip r:embed="rId3"/>
          <a:stretch/>
        </p:blipFill>
        <p:spPr>
          <a:xfrm>
            <a:off x="581040" y="1628640"/>
            <a:ext cx="78865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1332000" y="9540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800000"/>
                </a:solidFill>
                <a:latin typeface="Arial"/>
              </a:rPr>
              <a:t>Наложени финансови корекции по приоритетни  оси за периода 2010 – 2015 (прогноза) в ле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1" descr=""/>
          <p:cNvPicPr/>
          <p:nvPr/>
        </p:nvPicPr>
        <p:blipFill>
          <a:blip r:embed="rId3"/>
          <a:stretch/>
        </p:blipFill>
        <p:spPr>
          <a:xfrm>
            <a:off x="250920" y="1844640"/>
            <a:ext cx="858348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1332000" y="9540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Наложени финансови корекции по приоритетни  оси за периода 2010 – 2015 г. (прогноза) в ле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434880" y="5119560"/>
          <a:ext cx="6278760" cy="685800"/>
        </p:xfrm>
        <a:graphic>
          <a:graphicData uri="http://schemas.openxmlformats.org/drawingml/2006/table">
            <a:tbl>
              <a:tblPr/>
              <a:tblGrid>
                <a:gridCol w="6278760"/>
              </a:tblGrid>
              <a:tr h="314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Прекратените нередности не са включени в анализа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85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За 2008 г. всички регистрирани нередности за прекратени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85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За 2009 г. има само две нередности на обща стойност 149 744 лв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pic>
        <p:nvPicPr>
          <p:cNvPr id="186" name="Picture 20" descr=""/>
          <p:cNvPicPr/>
          <p:nvPr/>
        </p:nvPicPr>
        <p:blipFill>
          <a:blip r:embed="rId3"/>
          <a:stretch/>
        </p:blipFill>
        <p:spPr>
          <a:xfrm>
            <a:off x="338040" y="1844640"/>
            <a:ext cx="8410680" cy="31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0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179280" y="1484280"/>
            <a:ext cx="8785440" cy="48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ahoma"/>
              </a:rPr>
              <a:t>ГЛАВНА ДИРЕКЦИЯ „ПРОГРАМИРАНЕ НА РЕГИОНАЛНОТО РАЗВИТИЕ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500" spc="-1" strike="noStrike">
                <a:solidFill>
                  <a:srgbClr val="336699"/>
                </a:solidFill>
                <a:latin typeface="Tahoma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a50021"/>
                </a:solidFill>
                <a:latin typeface="Tahoma"/>
              </a:rPr>
              <a:t>БЛАГОДАРЯ ЗА ВНИМАНИЕТ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Arial"/>
              </a:rPr>
              <a:t>Деница Нико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Arial"/>
              </a:rPr>
              <a:t>Заместник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- </a:t>
            </a:r>
            <a:r>
              <a:rPr b="1" lang="bg-BG" sz="2000" spc="-1" strike="noStrike">
                <a:solidFill>
                  <a:srgbClr val="000066"/>
                </a:solidFill>
                <a:latin typeface="Arial"/>
              </a:rPr>
              <a:t>министър и Ръководител на УО на ОПР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000066"/>
                </a:solidFill>
                <a:latin typeface="Tahoma"/>
              </a:rPr>
              <a:t>ИНВЕСТИРАМЕ ВЪВ ВАШЕТО БЪДЕЩ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6 октомври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01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5 г.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гр. Соф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2160720" y="260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МИНИСТЕРСТВО НА РЕГИОНАЛНОТО РАЗВИТИЕ И БЛАГОУСТРОЙ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135000" y="1557360"/>
            <a:ext cx="8785080" cy="43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spcBef>
                <a:spcPts val="1125"/>
              </a:spcBef>
              <a:buClr>
                <a:srgbClr val="00003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1125"/>
              </a:spcBef>
              <a:buClr>
                <a:srgbClr val="00003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36"/>
                </a:solidFill>
                <a:latin typeface="Arial"/>
              </a:rPr>
              <a:t>Забава във физическото изпълнение на проектит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1125"/>
              </a:spcBef>
              <a:buClr>
                <a:srgbClr val="00003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36"/>
                </a:solidFill>
                <a:latin typeface="Arial"/>
              </a:rPr>
              <a:t>Нерегулярно подаване на искания за плащане от страна на бенефициентите и некоректно попълнени докумен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1125"/>
              </a:spcBef>
              <a:buClr>
                <a:srgbClr val="00003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36"/>
                </a:solidFill>
                <a:latin typeface="Arial"/>
              </a:rPr>
              <a:t>Изключително голям брой регистрирани сигнали за нередности, чиято обработка забавя процеса на верификац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1125"/>
              </a:spcBef>
              <a:buClr>
                <a:srgbClr val="00003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36"/>
                </a:solidFill>
                <a:latin typeface="Arial"/>
              </a:rPr>
              <a:t>Ангажиране на експертния потенциал на УО на ОПРР предимно в процеса на верификация и необходимост от вътрешно обучение на експертите, осъществяващи контрол на обществените поръч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1125"/>
              </a:spcBef>
              <a:buClr>
                <a:srgbClr val="00003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1125"/>
              </a:spcBef>
              <a:buClr>
                <a:srgbClr val="00003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1125"/>
              </a:spcBef>
              <a:buClr>
                <a:srgbClr val="00003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22480" y="259920"/>
            <a:ext cx="690552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800000"/>
                </a:solidFill>
                <a:latin typeface="Arial"/>
              </a:rPr>
              <a:t>Предизвикателства при приключване </a:t>
            </a:r>
            <a:br>
              <a:rPr sz="2000"/>
            </a:br>
            <a:r>
              <a:rPr b="1" lang="bg-BG" sz="2000" spc="-1" strike="noStrike">
                <a:solidFill>
                  <a:srgbClr val="800000"/>
                </a:solidFill>
                <a:latin typeface="Arial"/>
              </a:rPr>
              <a:t>на Програмат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135000" y="1557360"/>
            <a:ext cx="8785080" cy="39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spcBef>
                <a:spcPts val="1125"/>
              </a:spcBef>
              <a:buClr>
                <a:srgbClr val="00003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36"/>
                </a:solidFill>
                <a:latin typeface="Arial"/>
              </a:rPr>
              <a:t>УО извършва регулярно актуализиране на вътрешния анализ относно изпълнението на ОПРР 2007-2013 г. на проектно ниво, с цел определяне на степента на риск за всеки конкретен проект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1125"/>
              </a:spcBef>
              <a:buClr>
                <a:srgbClr val="00003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36"/>
                </a:solidFill>
                <a:latin typeface="Arial"/>
              </a:rPr>
              <a:t>Последна актуализация на анализ на риска  - към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30</a:t>
            </a:r>
            <a:r>
              <a:rPr b="0" lang="bg-BG" sz="1800" spc="-1" strike="noStrike">
                <a:solidFill>
                  <a:srgbClr val="000066"/>
                </a:solidFill>
                <a:latin typeface="Arial"/>
              </a:rPr>
              <a:t>.0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9</a:t>
            </a:r>
            <a:r>
              <a:rPr b="0" lang="bg-BG" sz="1800" spc="-1" strike="noStrike">
                <a:solidFill>
                  <a:srgbClr val="000066"/>
                </a:solidFill>
                <a:latin typeface="Arial"/>
              </a:rPr>
              <a:t>.2015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Общият брой проекти в изпълнение – </a:t>
            </a:r>
            <a:r>
              <a:rPr b="1" lang="bg-BG" sz="18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8</a:t>
            </a:r>
            <a:r>
              <a:rPr b="1" lang="bg-BG" sz="1800" spc="-1" strike="noStrike">
                <a:solidFill>
                  <a:srgbClr val="000066"/>
                </a:solidFill>
                <a:latin typeface="Arial"/>
              </a:rPr>
              <a:t> бр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. - обща стойност </a:t>
            </a:r>
            <a:r>
              <a:rPr b="0" lang="bg-BG" sz="1800" spc="-1" strike="noStrike">
                <a:solidFill>
                  <a:srgbClr val="000066"/>
                </a:solidFill>
                <a:latin typeface="Arial"/>
              </a:rPr>
              <a:t>1,2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0" lang="bg-BG" sz="1800" spc="-1" strike="noStrike">
                <a:solidFill>
                  <a:srgbClr val="000066"/>
                </a:solidFill>
                <a:latin typeface="Arial"/>
              </a:rPr>
              <a:t> млрд. л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1125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6</a:t>
            </a:r>
            <a:r>
              <a:rPr b="1" lang="bg-BG" sz="1800" spc="-1" strike="noStrike">
                <a:solidFill>
                  <a:srgbClr val="000066"/>
                </a:solidFill>
                <a:latin typeface="Arial"/>
              </a:rPr>
              <a:t> бр.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исокорискови проекти без сключен основен договор -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10</a:t>
            </a:r>
            <a:r>
              <a:rPr b="0" lang="bg-BG" sz="1800" spc="-1" strike="noStrike">
                <a:solidFill>
                  <a:srgbClr val="000066"/>
                </a:solidFill>
                <a:latin typeface="Arial"/>
              </a:rPr>
              <a:t> млн.л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1125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43</a:t>
            </a:r>
            <a:r>
              <a:rPr b="1" lang="bg-BG" sz="1800" spc="-1" strike="noStrike">
                <a:solidFill>
                  <a:srgbClr val="000066"/>
                </a:solidFill>
                <a:latin typeface="Arial"/>
              </a:rPr>
              <a:t> бр.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исокорискови проекти на обща стойност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580</a:t>
            </a:r>
            <a:r>
              <a:rPr b="0" lang="bg-BG" sz="1800" spc="-1" strike="noStrike">
                <a:solidFill>
                  <a:srgbClr val="000066"/>
                </a:solidFill>
                <a:latin typeface="Arial"/>
              </a:rPr>
              <a:t> млн. л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1125"/>
              </a:spcBef>
              <a:buClr>
                <a:srgbClr val="00003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36"/>
                </a:solidFill>
                <a:latin typeface="Arial"/>
              </a:rPr>
              <a:t>С бенефициентите на рисковите проекти се провеждат регулярни срещи изготвят се индивидуални планове за действие и се проследява тяхното изпъл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1125"/>
              </a:spcBef>
              <a:buClr>
                <a:srgbClr val="00003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22480" y="259920"/>
            <a:ext cx="690552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800000"/>
                </a:solidFill>
                <a:latin typeface="Arial"/>
              </a:rPr>
              <a:t>Предприети мерки за успешното приключване на програмата – анализ на риска (1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1152360" y="112680"/>
            <a:ext cx="687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800000"/>
                </a:solidFill>
                <a:latin typeface="Arial"/>
              </a:rPr>
              <a:t>Предприети мерки за успешното приключване на програмата – анализ на риска (2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41400" y="1585800"/>
            <a:ext cx="3463920" cy="38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Основни критерии, определящи проектите с  висок риск</a:t>
            </a:r>
            <a:r>
              <a:rPr b="0" lang="bg-BG" sz="16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3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36"/>
                </a:solidFill>
                <a:latin typeface="Arial"/>
              </a:rPr>
              <a:t>Сключен договор за БФП преди повече от 10 месец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3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36"/>
                </a:solidFill>
                <a:latin typeface="Arial"/>
              </a:rPr>
              <a:t>Липса на сключени договори с </a:t>
            </a:r>
            <a:r>
              <a:rPr b="0" sz="1600" spc="-1" strike="noStrike">
                <a:solidFill>
                  <a:srgbClr val="000036"/>
                </a:solidFill>
                <a:latin typeface="Arial"/>
              </a:rPr>
              <a:t>изпълнители</a:t>
            </a:r>
            <a:r>
              <a:rPr b="0" lang="ru-RU" sz="1600" spc="-1" strike="noStrike">
                <a:solidFill>
                  <a:srgbClr val="000036"/>
                </a:solidFill>
                <a:latin typeface="Arial"/>
              </a:rPr>
              <a:t> по </a:t>
            </a:r>
            <a:r>
              <a:rPr b="0" lang="bg-BG" sz="1600" spc="-1" strike="noStrike">
                <a:solidFill>
                  <a:srgbClr val="000036"/>
                </a:solidFill>
                <a:latin typeface="Arial"/>
              </a:rPr>
              <a:t>основните</a:t>
            </a:r>
            <a:r>
              <a:rPr b="0" lang="ru-RU" sz="1600" spc="-1" strike="noStrike">
                <a:solidFill>
                  <a:srgbClr val="000036"/>
                </a:solidFill>
                <a:latin typeface="Arial"/>
              </a:rPr>
              <a:t> дейно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3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36"/>
                </a:solidFill>
                <a:latin typeface="Arial"/>
              </a:rPr>
              <a:t>Спряна основна дейност по договора; не се изпълняв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3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36"/>
                </a:solidFill>
                <a:latin typeface="Arial"/>
              </a:rPr>
              <a:t>Финансово усвояване - процент на изплатени средства под 50%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3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36"/>
                </a:solidFill>
                <a:latin typeface="Arial"/>
              </a:rPr>
              <a:t>Други причини, застрашаващи изпълнението на крайните срокове на договора за БФП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Chart 11" descr=""/>
          <p:cNvPicPr/>
          <p:nvPr/>
        </p:nvPicPr>
        <p:blipFill>
          <a:blip r:embed="rId3"/>
          <a:stretch/>
        </p:blipFill>
        <p:spPr>
          <a:xfrm>
            <a:off x="3780000" y="1700280"/>
            <a:ext cx="5290920" cy="41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1138320" y="171360"/>
            <a:ext cx="702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800000"/>
                </a:solidFill>
                <a:latin typeface="Arial"/>
              </a:rPr>
              <a:t>Предприети мерки за успешното приключване на програмата – анализ на риска (3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539640" y="144144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туализиран вътрешен анализ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към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0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2015 г.  относно изпълнението на ОПРР на проектно ни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Chart 10" descr=""/>
          <p:cNvPicPr/>
          <p:nvPr/>
        </p:nvPicPr>
        <p:blipFill>
          <a:blip r:embed="rId3"/>
          <a:stretch/>
        </p:blipFill>
        <p:spPr>
          <a:xfrm>
            <a:off x="396720" y="2084400"/>
            <a:ext cx="8498160" cy="37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865080" y="189000"/>
            <a:ext cx="759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800000"/>
                </a:solidFill>
                <a:latin typeface="Arial"/>
              </a:rPr>
              <a:t>Предприети мерки за успешното приключване на програмата – анализ на риска (4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800000"/>
                </a:solidFill>
                <a:latin typeface="Arial"/>
              </a:rPr>
              <a:t>Предстоящи плащания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Chart 11" descr=""/>
          <p:cNvPicPr/>
          <p:nvPr/>
        </p:nvPicPr>
        <p:blipFill>
          <a:blip r:embed="rId3"/>
          <a:stretch/>
        </p:blipFill>
        <p:spPr>
          <a:xfrm>
            <a:off x="-19080" y="1414440"/>
            <a:ext cx="914400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1187280" y="68400"/>
            <a:ext cx="687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800000"/>
                </a:solidFill>
                <a:latin typeface="Arial"/>
              </a:rPr>
              <a:t>Предприети мерки за успешното приключване на програмата  - изпълнение на одобрен от ЕК план за действ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00160" y="1628640"/>
          <a:ext cx="8694720" cy="4075200"/>
        </p:xfrm>
        <a:graphic>
          <a:graphicData uri="http://schemas.openxmlformats.org/drawingml/2006/table">
            <a:tbl>
              <a:tblPr/>
              <a:tblGrid>
                <a:gridCol w="4733640"/>
                <a:gridCol w="3961080"/>
              </a:tblGrid>
              <a:tr h="175320">
                <a:tc>
                  <a:txBody>
                    <a:bodyPr lIns="20520" rIns="20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рки за ускоряване изпълнението на ОПРР 2007 - 20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0520" marR="2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атус на изпълнение към 05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.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.20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79280">
                <a:tc>
                  <a:txBody>
                    <a:bodyPr lIns="20520" rIns="205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 цел гарантиране изпълнение на всички дейности и извършване на окончателни плащания по всички договора за предоставяне на БФП в рамките на установените крайни срокове, както и осигуряване на успешно приключване на програмния период 2007 – 2013, УО предприе следните действия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веждане на писмена кореспонденция с бенефициентите с идентифицирани високорискови проекти. Бенефициентите бяха уведомени, че след извършен анализ на проектно ниво, УО е идентифицирал проекти, за които своевременното изпълнение на заложените дейности по съответните ДБФП е поставено под риск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веждане на срещи с бенефициентите, чийто проекти са идентифицирани като високорискови, подготовка на индивидуални планове за действия, ускоряване на изпълнението на проектните дейности и регулярно подаване на искания за плащане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0520" marR="2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веден вътрешен риск анализ – август 2015 г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ведени срещи с бенефициентите с идентифицирани високорискови проекти – 09.09.2015 – 23.09.20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зработени индивидуални планове за действия с препоръки към бенефициентите с конкретни крайни срокове за изпълнен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ведена писмена кореспонденция с бенефициентите с идентифицирани високорискови проекти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ктуализиране на анализа на риска – септември 2015 г. – 6 броя високо рискови проекта без сключен основен договор и 47 броя високорискови проек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4160">
                <a:tc>
                  <a:txBody>
                    <a:bodyPr lIns="20520" rIns="205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дентифициране на одобрените резервни проекти на конкретни бенефициенти с възможност за физическо приключване до 31.12.2015 т. УО на ОПРР ще извърши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кончателен анализ на спестените ресурси по програмата 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кончателен анализ за напредъка на процедурите за избор на изпълнители с оглед иницииране на предложение до Комитета за наблюдение за окончателна приоритизация на списък с резервни проекти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0520" marR="2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дентифициране на одобрените резервни проекти на конкретни бенефициенти - 31.12.2015 т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нализ на спестения финансов ресурс и анализ на напредъка на процедурите за избор на изпълнители  по отношение на списъка с резервните проек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20520" rIns="205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разпределение на налични ресурс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0520" marR="2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кущо преразпределение на налични ресурс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440">
                <a:tc>
                  <a:txBody>
                    <a:bodyPr lIns="20520" rIns="205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дписване на договори за резервни проекти, в съответствие със спестените финансови ресурси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0520" marR="2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кущо сключване/анексиране на договори по проектни от резервните списъц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1"/>
          <p:cNvSpPr/>
          <p:nvPr/>
        </p:nvSpPr>
        <p:spPr>
          <a:xfrm>
            <a:off x="93600" y="665316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179280" y="1628640"/>
            <a:ext cx="8893440" cy="40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66"/>
                </a:solidFill>
                <a:latin typeface="Arial"/>
              </a:rPr>
              <a:t>С цел ускоряване процеса на верификация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lang="bg-BG" sz="1800" spc="-1" strike="noStrike">
                <a:solidFill>
                  <a:srgbClr val="000066"/>
                </a:solidFill>
                <a:latin typeface="Arial"/>
              </a:rPr>
              <a:t>осигуряване ритмичност на плащанията към бенефициентите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66"/>
                </a:solidFill>
                <a:latin typeface="Arial"/>
              </a:rPr>
              <a:t>и успешно приключване на ОПРР 2007-2013 г., УО на ОПРР предприе следните мер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66"/>
                </a:solidFill>
                <a:latin typeface="Arial"/>
              </a:rPr>
              <a:t>Прилагане на процедури за извършване на „частична“ и „условна“ верификация на искания за  плащане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;</a:t>
            </a:r>
            <a:r>
              <a:rPr b="0" lang="bg-BG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66"/>
                </a:solidFill>
                <a:latin typeface="Arial"/>
              </a:rPr>
              <a:t>Прилагане на процедури по регистриране и верификация на служебни искания за  плащан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66"/>
                </a:solidFill>
                <a:latin typeface="Arial"/>
              </a:rPr>
              <a:t>Обработка на сигнали за нередности на първа стъпка от Регионалните отдели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. </a:t>
            </a:r>
            <a:r>
              <a:rPr b="0" lang="bg-BG" sz="1800" spc="-1" strike="noStrike">
                <a:solidFill>
                  <a:srgbClr val="000066"/>
                </a:solidFill>
                <a:latin typeface="Arial"/>
              </a:rPr>
              <a:t>Към 0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0" lang="bg-BG" sz="1800" spc="-1" strike="noStrike">
                <a:solidFill>
                  <a:srgbClr val="000066"/>
                </a:solidFill>
                <a:latin typeface="Arial"/>
              </a:rPr>
              <a:t>.10.2015 г. необработените сигнали са около 500 б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22480" y="259920"/>
            <a:ext cx="690552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800000"/>
                </a:solidFill>
                <a:latin typeface="Arial"/>
              </a:rPr>
              <a:t>Предприети мерки за успешното приключване на програмата – нови процедури в процеса на верифик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22480" y="259920"/>
            <a:ext cx="690552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800000"/>
                </a:solidFill>
                <a:latin typeface="Arial"/>
              </a:rPr>
              <a:t>Предприети мерки за успешното приключване на програмата – подобрен контрол за законосъобразно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14480" y="1699920"/>
            <a:ext cx="87804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66"/>
                </a:solidFill>
                <a:latin typeface="Arial"/>
              </a:rPr>
              <a:t>Въведена е „оценка на качеството“ върху контролната дейност на регионалните отдел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66"/>
                </a:solidFill>
                <a:latin typeface="Arial"/>
              </a:rPr>
              <a:t>Провеждане на регулярни срещи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66"/>
                </a:solidFill>
                <a:latin typeface="Arial"/>
              </a:rPr>
              <a:t>–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66"/>
                </a:solidFill>
                <a:latin typeface="Arial"/>
              </a:rPr>
              <a:t>обучения между експертите от РО и тези на централно нив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66"/>
                </a:solidFill>
                <a:latin typeface="Arial"/>
              </a:rPr>
              <a:t>Разширен и конкретизиран е обхвата на контрола за законосъобразност на контролните листове за последващ контрол при възлагане на обществени поръч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" descr=""/>
          <p:cNvPicPr/>
          <p:nvPr/>
        </p:nvPicPr>
        <p:blipFill>
          <a:blip r:embed="rId1"/>
          <a:stretch/>
        </p:blipFill>
        <p:spPr>
          <a:xfrm>
            <a:off x="114480" y="87480"/>
            <a:ext cx="1008000" cy="1099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Dariya Shamonina</cp:lastModifiedBy>
  <dcterms:modified xsi:type="dcterms:W3CDTF">2015-10-02T10:19:44Z</dcterms:modified>
  <cp:revision>994</cp:revision>
  <dc:subject/>
  <dc:title>Diapositiva 1</dc:title>
</cp:coreProperties>
</file>