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7A1D-608C-43E7-B327-BC27CBBE9A6A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1010-A000-4F96-B223-883D1CFA636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9AC-B4BD-46BC-95B2-C1C45573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2BFD-DB7C-4BE0-A061-3BAEF012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AE9-C574-482B-82F1-AC26771C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379-EA48-4911-B2C7-99C798FB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8078-04D0-4766-83AB-D91E4512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7448-1387-451D-A76C-FACCE339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0103-B9CC-4779-A6FA-EB43A413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1798-0BCC-4438-8603-F8E87035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B2B0-1051-474A-8581-D22C79AA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EFAC-9CA0-45EE-997A-20C3572E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A3D2-6BCA-48AA-A55E-EA5854F3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0F6-58E7-4C0D-BBCF-32EABCAB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572A-AB1A-4D7B-806D-BBA6672B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F5CD-7EAD-4755-A8AC-23EAEA9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B5F5-0B73-4418-A1D6-9F4F722B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0BAE-0C59-4E10-8FB5-5E7CF01F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1471-8A6D-4BCA-AA6D-45A53CE7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2B174-B4A3-41C5-AF72-840E3DE7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4D2C-F270-4D8B-B571-9FED5D9A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48355-F56B-443B-8549-0204A8AF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AFCB2-9F6A-4619-BF99-93973BE7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94D22-620A-430E-B4EF-DBAE592E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BE9-737A-4FD8-ACB0-736A5C2A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A525F-4FF3-45B5-B75D-25C5ED26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224DF-B4FE-49F7-A0E7-4465432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8FA81-E68E-430B-B444-67F17751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65711-08BF-477C-9265-CA3B94D5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2349B-C19B-43F3-9E62-9E5CA845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B671C-D841-4455-BAE1-D920AAA3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6E2ED-3BDF-4683-8AA6-9051083A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AC808-257C-4AD2-AAC4-8B70A67E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512A4-A408-4CAA-86E7-6189609B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9409C-BC8D-4AA6-A755-CBCE57EE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C72-762C-41F7-847C-9C69C8E7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2837C-681F-4D16-96F4-782C0BDE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B4FB2-F9DE-4EB9-BF9E-BB04230B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D39DC-21D3-493F-A72E-F0C6D749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046EB-205F-44B6-B031-BB20D409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29CFD-2DE2-41CA-906E-B2029E76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B59CA-A3EE-4AFC-8D8B-DD4CF671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42036-C2C7-4E2D-AC49-D4013BCA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C8C00-B457-4B92-B71E-33953E38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88E49-C645-44B3-889A-C990617E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DE69A-6D07-4AFD-90F2-73A2A71E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85A-F7F1-4A8B-8E6A-4D6FDAF6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D5889-D9CE-4A11-A306-12F569DA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B6147-4C5F-412F-924B-E8276589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0EFEF-8F01-47B6-942E-D4382FED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D32AD-64F5-4E25-BA65-B1CA3CC3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74F4D-4A41-4CF0-A34C-20BAE9F3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02D17-3E85-44FE-836A-DFD02C9A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5A095-F92D-4946-8C93-CAF69699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4B70C-C5B5-40D1-ADD7-44C986CC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CED94-E91A-4BD4-A92D-98FB0E70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7E454-D6B4-4769-AA2B-7E1A1763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B67-7F54-4F4C-84E3-FFE0014B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E13BC-22CE-4025-BD10-1478D388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FC1-DE93-40B5-B969-728DBDD1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938-0F55-443A-8168-8687BB00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EF0-D2F2-4A53-8C46-95BDFA3B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17F4-BF8E-4720-B8F5-F4F27DBAF48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0FA1-F70B-4FBE-97B6-F368E4A5087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602D-A067-4400-B413-9CC0329FBBB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5F42-2D27-43A7-AA18-4C77B0E13A9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9AC5-CF8D-422E-80A9-1D0CEF36310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0"/>
          <p:cNvSpPr/>
          <p:nvPr/>
        </p:nvSpPr>
        <p:spPr>
          <a:xfrm>
            <a:off x="146160" y="4005360"/>
            <a:ext cx="622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70"/>
          <p:cNvSpPr/>
          <p:nvPr/>
        </p:nvSpPr>
        <p:spPr>
          <a:xfrm>
            <a:off x="647640" y="4149720"/>
            <a:ext cx="518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НАПРЕДЪК В ИЗПЪЛНЕНИЕТО НА ОПРР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654120" y="5870520"/>
            <a:ext cx="54306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ърв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на КН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1042920" y="1844640"/>
            <a:ext cx="727416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Зам.министър на РРБ и 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Актуално състояние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108000" y="1413000"/>
            <a:ext cx="896472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заседанието на 09.12.2014 г., в гр.Пловдив, КН на ОПРР 2014-2020 г. 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одобри ИГРП за 2015 г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 Решение на КН по ОПРР 2014-2020 от 23.06.2015, взето чрез писмена процедура, е одобрено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изменение на ИГРП за 2015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ъгласно изменената през юни 2015 г. ИГРП, през 2015 г. следва да бъдат обявени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7 процедури за БФП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настоящото заседание на КН се предлага второ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изменение на ИГРП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за 2015г., което предвижда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обявяване на общо 9 процедури през 2015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размер на БФП за всички 9 процедури съгласно новото изменение на ИГРП -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2,284 млрд. лв. или 76% от общият бюджет на програм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момента са обявени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4 процедури за БФП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1 «Устойчиво и интегрирано градско развитие» (ПО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39" name="Diagram 3" descr=""/>
          <p:cNvPicPr/>
          <p:nvPr/>
        </p:nvPicPr>
        <p:blipFill>
          <a:blip r:embed="rId4"/>
          <a:stretch/>
        </p:blipFill>
        <p:spPr>
          <a:xfrm>
            <a:off x="85680" y="1347840"/>
            <a:ext cx="89852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417680" y="33804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О 1 - Процедура по структуриране на Междинните зв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34920" y="1341360"/>
            <a:ext cx="9037800" cy="6476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 Решение №421/09.06.2015 на МС е даден мандат на РУО да делегира функциите по оценка и избор на проектни предложения от Междинни звена по Приоритетна ос 1 – 39 общин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градовете от 1-во до 3-то ниво, съгласно НКП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4920" y="2278080"/>
            <a:ext cx="9037800" cy="430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а 22.06.2015 г. са сключени Споразумения между УО и всяко Междинно зв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own Arrow 26"/>
          <p:cNvSpPr/>
          <p:nvPr/>
        </p:nvSpPr>
        <p:spPr>
          <a:xfrm>
            <a:off x="4292640" y="1989000"/>
            <a:ext cx="48564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wn Arrow 21"/>
          <p:cNvSpPr/>
          <p:nvPr/>
        </p:nvSpPr>
        <p:spPr>
          <a:xfrm>
            <a:off x="4322880" y="2708280"/>
            <a:ext cx="485640" cy="289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34920" y="2997360"/>
            <a:ext cx="9037800" cy="936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На 10.07.2015 г. УО публикува Инструкция за определяне на структурата и състава на на МЗ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рок до 30 работни дни от публикуване на Инструкция общината следва да представи в УО информация за определеното МЗ и документите/акта за неговото определяне/създаване. УО извършва оценка на функционалната структура и административния капацитет на М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Down Arrow 24"/>
          <p:cNvSpPr/>
          <p:nvPr/>
        </p:nvSpPr>
        <p:spPr>
          <a:xfrm>
            <a:off x="4292640" y="3908520"/>
            <a:ext cx="485640" cy="32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34920" y="4232160"/>
            <a:ext cx="9037800" cy="6368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олучени са документи от всички 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общини. Одобрени са структурата и състава на МЗ 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общини. В процес на оценка са структурите на МЗ на останалите общин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own Arrow 27"/>
          <p:cNvSpPr/>
          <p:nvPr/>
        </p:nvSpPr>
        <p:spPr>
          <a:xfrm>
            <a:off x="4322880" y="4869000"/>
            <a:ext cx="485640" cy="325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34920" y="5194440"/>
            <a:ext cx="9037800" cy="8618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ед одобряване на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труктурата и състава на МЗ, УО ще подготви допълнителни анекси към Споразуменията за делегиране на функции, в които ще бъдат отразени одобрените документи, свързани с определяне на Междинното зв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2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крепа за енергийна ефективност в опорни центрове в периферните райони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65" name="Diagram 3" descr=""/>
          <p:cNvPicPr/>
          <p:nvPr/>
        </p:nvPicPr>
        <p:blipFill>
          <a:blip r:embed="rId4"/>
          <a:stretch/>
        </p:blipFill>
        <p:spPr>
          <a:xfrm>
            <a:off x="85680" y="1341360"/>
            <a:ext cx="89424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8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ехническа помощ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74" name="Diagram 3" descr=""/>
          <p:cNvPicPr/>
          <p:nvPr/>
        </p:nvPicPr>
        <p:blipFill>
          <a:blip r:embed="rId4"/>
          <a:stretch/>
        </p:blipFill>
        <p:spPr>
          <a:xfrm>
            <a:off x="85680" y="1365120"/>
            <a:ext cx="894888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8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Техническа помощ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83" name="Diagram 3" descr=""/>
          <p:cNvPicPr/>
          <p:nvPr/>
        </p:nvPicPr>
        <p:blipFill>
          <a:blip r:embed="rId4"/>
          <a:stretch/>
        </p:blipFill>
        <p:spPr>
          <a:xfrm>
            <a:off x="85680" y="1371600"/>
            <a:ext cx="8929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1187280" y="115920"/>
            <a:ext cx="6332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ПОДКРЕПА ЗА БЕНЕФИЦИЕНТИТЕ ПО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ontent Placeholder 2"/>
          <p:cNvSpPr/>
          <p:nvPr/>
        </p:nvSpPr>
        <p:spPr>
          <a:xfrm>
            <a:off x="66600" y="1413000"/>
            <a:ext cx="9006120" cy="48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проекти на Насоки за кандидатстване се публикуват за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широко обсъждане на интернет-страницата на ОПР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проекти на Насоки за кандидатстван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е съгласуват с дирекция „Държавни помощи и реален сектор“ при МФ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за съответствие с приложимия режим на държавна помощ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ествена поръчка с предмет  „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редоставяне на специализирана експертна помощ във връзка с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осигуряването на съответствие на Оперативна програма „Регионално развитие” 2007-2013 и Оперативна програма „Региони в растеж” 2014-2020 (ОПРР) с приложимия режим по държавни помощи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“ се извършва анализ на приоритетните оси на ОПРР 2014-2020 по отношение на приложимия режим по държавните помощи, като съответните изисквания и указания се разписват в Насоките за кандидатстван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15.09.2015 г. е публикуван за широко обсъждане проект н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ИГРП за 2016 г. Краен срок за приемане на коментари по проекта – 15.10.2015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1187280" y="115920"/>
            <a:ext cx="6332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УЧЕНИЕ НА БЕНЕФИЦИЕНТИТЕ ПО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ontent Placeholder 2"/>
          <p:cNvSpPr/>
          <p:nvPr/>
        </p:nvSpPr>
        <p:spPr>
          <a:xfrm>
            <a:off x="66600" y="1290600"/>
            <a:ext cx="900612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2"/>
          <p:cNvSpPr/>
          <p:nvPr/>
        </p:nvSpPr>
        <p:spPr>
          <a:xfrm>
            <a:off x="130320" y="1557360"/>
            <a:ext cx="4946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28.07.2015 г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-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информационен де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процедура „Изпълнение на Интегрирани планове за градско възстановяване и развитие 2014-2020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14.08.2015 г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, -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бучение за структурирането на Междинните зве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ериода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08-10 септември 2015 г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обучение за бенефициенти (4 групи) за електронно подаване на проектни предложения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чрез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СУН 20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 приоритетна ос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7.09.2015 г.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- информационен ден по процедура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Енергийна ефективност в периферните райони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28.09.2015 г. и 02.10.2015 г. –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 обучение на Междинните звена по ос 1 (2 групи) по въпросит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ържавните помощ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4" descr="\\oprd-nfs\DG_PRD 2\-=Public=-\-=Photos=-\събития ОПРР 2015\14-15.04.2015 работна среща ЗОРН\IMG_9580.JPG"/>
          <p:cNvPicPr/>
          <p:nvPr/>
        </p:nvPicPr>
        <p:blipFill>
          <a:blip r:embed="rId4"/>
          <a:stretch/>
        </p:blipFill>
        <p:spPr>
          <a:xfrm>
            <a:off x="5148360" y="3970440"/>
            <a:ext cx="2952720" cy="175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" descr="C:\Users\StanevskaM\AppData\Local\Microsoft\Windows\Temporary Internet Files\Content.Outlook\8L5KGAH3\phpThumb_generated_thumbnailjpg.jpg"/>
          <p:cNvPicPr/>
          <p:nvPr/>
        </p:nvPicPr>
        <p:blipFill>
          <a:blip r:embed="rId5"/>
          <a:stretch/>
        </p:blipFill>
        <p:spPr>
          <a:xfrm>
            <a:off x="5148360" y="1576440"/>
            <a:ext cx="39243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imitrina Nikolova</cp:lastModifiedBy>
  <cp:lastPrinted>2015-04-28T17:44:28Z</cp:lastPrinted>
  <dcterms:modified xsi:type="dcterms:W3CDTF">2015-11-06T14:41:28Z</dcterms:modified>
  <cp:revision>1197</cp:revision>
  <dc:subject/>
  <dc:title>Diapositiva 1</dc:title>
</cp:coreProperties>
</file>