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28A4-E905-495B-8B2E-9C8C0ADAB5AE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5E0C-225E-4D53-ABAE-053E5F3C1C1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7E8-5B6B-480E-ABC7-9118A38B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6CC-CC0F-4BD2-A053-0B8C8052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738-B2CA-477C-AA80-FD3A285A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2E1-9F66-4887-854C-4EFA9887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D114-FCE2-4D37-AAE5-AFD7D974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0420-E269-4497-9F60-DB993858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7C14-B35E-4077-BB39-2C5F50B1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1637-AABE-41E7-A369-E3035B22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58C0-EFE0-4EC7-BFB9-600F9719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4E10-CE87-4F19-8B9F-7FC6C92C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2378-7FD8-40A0-842D-ABC7E21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06B-E18C-4B49-A521-6B7D75B2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4FB3-47F8-43C2-A5D1-45EA059F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4334-B337-4D53-ACF3-711B0C0F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7D74-7C44-40F3-ABCE-5944DD1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2FF7-DBD9-4ADD-850B-A1564194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87BA-631C-4B42-996F-EF33CCB5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987F-C409-41B9-B528-FCD19F41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836B-6401-447F-B9BC-B7475D5D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3B6D-1273-46F3-A699-42F0F57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AEC45-244E-409C-9371-79068C48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0288-F679-4837-A738-3EC68281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8A2-C07C-4AED-A9E5-09AD3323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B035-1B16-4906-9D20-2A7F4101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C982-B2BA-4915-B2C2-A4142EBE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58B9-62E8-46C4-BE4F-6626A554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E87C-624B-4C3C-88CE-856B139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BFBC-0313-4720-8FD8-F0CD9BCB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0383-0A42-4D4E-A50C-1320D025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5D19-0A91-4930-AB13-49764109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C97B9-8CED-4848-AC02-760F773D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2F4C-8067-4459-9097-5DC933CB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B9AD4-8303-49A3-AEF7-110E5E3F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7CA-5155-4C9D-A100-4F73E683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9A3AC-CAFA-4489-BABA-D28BBF26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E9FDE-E893-4B77-BF48-E3A80FA2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D557-1F22-434B-9225-FAAC60C9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9748-03D6-47B7-9720-44BBA5D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9471-A893-4113-989D-4F0676C0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4DF69-FE71-47D1-BF78-A2B864C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CC653-14D9-4326-8216-F0A18C10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0F8B2-BF61-4020-8850-D14B3B9F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8EFCF-372D-41FC-BCBB-FD1CAF5D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8F83E-D2DA-4343-B9AD-92E9406D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9AA-F0AD-4D36-8422-2F4240AC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BA414-0A36-48A7-9D3E-BF285FD5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1AE8A-2748-4A5D-A812-EF4CD93E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0F053-39F2-4DBA-BC94-EE321045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0A55-DCC8-4280-A8B5-070B827E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8D77-7920-459E-B36B-ED29AD8F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D8958-7DD9-4B37-82FA-026DE80C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67BE6-8F0F-4CA7-BA3A-E94F8536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B291-DD1B-4E68-817F-58022E0F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CE64D-F5FB-44BD-A5B0-7F79CEB5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4C5C-88E8-44CB-AA45-4B889CC7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832-E758-471B-9622-E917F652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CBBA9-DB67-4B58-919C-E50B7BDC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EC3-7331-4805-A28C-1ECD7EE9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07C-6D79-4FE1-BE76-FC50DAE3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B09-F285-4FBF-AD8B-E21EAD82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8AA8-C225-4FB5-BDD9-48DF46D84F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A853-5301-430F-B8CC-FA344CB5E44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EB7-E1BF-463F-9A50-BCB0FAF821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80E0-E826-4F9C-9AA8-A9FD906EF11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D7BF-7058-4DBE-9748-0C7ED96C7A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0"/>
          <p:cNvSpPr/>
          <p:nvPr/>
        </p:nvSpPr>
        <p:spPr>
          <a:xfrm>
            <a:off x="146160" y="4005360"/>
            <a:ext cx="622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70"/>
          <p:cNvSpPr/>
          <p:nvPr/>
        </p:nvSpPr>
        <p:spPr>
          <a:xfrm>
            <a:off x="647640" y="4149720"/>
            <a:ext cx="518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НАПРЕДЪК В ИЗПЪЛНЕНИЕТО НА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654120" y="5870520"/>
            <a:ext cx="54306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на КН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042920" y="1844640"/>
            <a:ext cx="7274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Зам.министър на РРБ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Актуално състояние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108000" y="1413000"/>
            <a:ext cx="896472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заседанието на 09.12.2014 г., в гр.Пловдив, КН на ОПРР 2014-2020 г. 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добри ИГРП за 2015 г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 Решение на КН по ОПРР 2014-2020 от 23.06.2015, взето чрез писмена процедура, е одобрено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зменение на ИГРП за 2015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ъгласно изменената през юни 2015 г. ИГРП, през 2015 г. следва да бъдат обявени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7 процедури за БФП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настоящото заседание на КН се предлага второ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зменение на ИГРП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за 2015г., което предвижда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бявяване на общо 9 процедури през 2015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БФП за всички 9 процедури съгласно новото изменение на ИГРП -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2,284 млрд. лв. или 76% от общият бюджет на програм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момента са обявени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4 процедури за БФП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1 «Устойчиво и интегрирано градско развитие» (ПО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39" name="Diagram 3" descr=""/>
          <p:cNvPicPr/>
          <p:nvPr/>
        </p:nvPicPr>
        <p:blipFill>
          <a:blip r:embed="rId4"/>
          <a:stretch/>
        </p:blipFill>
        <p:spPr>
          <a:xfrm>
            <a:off x="85680" y="1347840"/>
            <a:ext cx="89852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417680" y="33804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О 1 - Процедура по структуриране на Междинните зв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34920" y="1341360"/>
            <a:ext cx="903780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 Решение №421/09.06.2015 на МС е даден мандат на РУО да делегира функциите по оценка и избор на проектни предложения от Междинни звена по Приоритетна ос 1 – 39 общин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адовете от 1-во до 3-то ниво, съгласно НКП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4920" y="2278080"/>
            <a:ext cx="9037800" cy="43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а 22.06.2015 г. са сключени Споразумения между УО и всяко Междинно зв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own Arrow 26"/>
          <p:cNvSpPr/>
          <p:nvPr/>
        </p:nvSpPr>
        <p:spPr>
          <a:xfrm>
            <a:off x="4292640" y="1989000"/>
            <a:ext cx="48564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wn Arrow 21"/>
          <p:cNvSpPr/>
          <p:nvPr/>
        </p:nvSpPr>
        <p:spPr>
          <a:xfrm>
            <a:off x="4322880" y="2708280"/>
            <a:ext cx="48564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34920" y="2997360"/>
            <a:ext cx="9037800" cy="936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а 10.07.2015 г. УО публикува Инструкция за определяне на структурата и състава на на МЗ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рок до 30 работни дни от публикуване на Инструкция общината следва да представи в УО информация за определеното МЗ и документите/акта за неговото определяне/създаване. УО извършва оценка на функционалната структура и административния капацитет на М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own Arrow 24"/>
          <p:cNvSpPr/>
          <p:nvPr/>
        </p:nvSpPr>
        <p:spPr>
          <a:xfrm>
            <a:off x="4292640" y="3908520"/>
            <a:ext cx="48564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34920" y="4232160"/>
            <a:ext cx="9037800" cy="6368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олучени са документи от всички 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общини. Одобрени са структурата и състава на МЗ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общини. В процес на оценка са структурите на МЗ на останалите общин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own Arrow 27"/>
          <p:cNvSpPr/>
          <p:nvPr/>
        </p:nvSpPr>
        <p:spPr>
          <a:xfrm>
            <a:off x="4322880" y="4869000"/>
            <a:ext cx="485640" cy="32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34920" y="5194440"/>
            <a:ext cx="9037800" cy="8618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 одобряване на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труктурата и състава на МЗ, УО ще подготви допълнителни анекси към Споразуменията за делегиране на функции, в които ще бъдат отразени одобрените документи, свързани с определяне на Междинното зв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2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65" name="Diagram 3" descr=""/>
          <p:cNvPicPr/>
          <p:nvPr/>
        </p:nvPicPr>
        <p:blipFill>
          <a:blip r:embed="rId4"/>
          <a:stretch/>
        </p:blipFill>
        <p:spPr>
          <a:xfrm>
            <a:off x="85680" y="1341360"/>
            <a:ext cx="89424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8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ехническа помощ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74" name="Diagram 3" descr=""/>
          <p:cNvPicPr/>
          <p:nvPr/>
        </p:nvPicPr>
        <p:blipFill>
          <a:blip r:embed="rId4"/>
          <a:stretch/>
        </p:blipFill>
        <p:spPr>
          <a:xfrm>
            <a:off x="85680" y="1365120"/>
            <a:ext cx="894888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8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ехническа помощ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83" name="Diagram 3" descr=""/>
          <p:cNvPicPr/>
          <p:nvPr/>
        </p:nvPicPr>
        <p:blipFill>
          <a:blip r:embed="rId4"/>
          <a:stretch/>
        </p:blipFill>
        <p:spPr>
          <a:xfrm>
            <a:off x="85680" y="1371600"/>
            <a:ext cx="8929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187280" y="115920"/>
            <a:ext cx="6332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ПОДКРЕПА ЗА БЕНЕФИЦИЕНТИТЕ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ontent Placeholder 2"/>
          <p:cNvSpPr/>
          <p:nvPr/>
        </p:nvSpPr>
        <p:spPr>
          <a:xfrm>
            <a:off x="66600" y="1413000"/>
            <a:ext cx="9006120" cy="48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проекти на Насоки за кандидатстване се публикуват за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широко обсъждане на интернет-страницата на ОПР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проекти на Насоки за кандидатстван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е съгласуват с дирекция „Държавни помощи и реален сектор“ при МФ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съответствие с приложимия режим на държавна помощ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ествена поръчка с предмет  „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оставяне на специализирана експертна помощ във връзка с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сигуряването на съответствие на Оперативна програма „Регионално развитие” 2007-2013 и Оперативна програма „Региони в растеж” 2014-2020 (ОПРР) с приложимия режим по държавни помощ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“ се извършва анализ на приоритетните оси на ОПРР 2014-2020 по отношение на приложимия режим по държавните помощи, като съответните изисквания и указания се разписват в Насоките за кандидатстван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15.09.2015 г. е публикуван за широко обсъждане проект н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П за 2016 г. Краен срок за приемане на коментари по проекта – 15.10.2015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87280" y="115920"/>
            <a:ext cx="6332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УЧЕНИЕ НА БЕНЕФИЦИЕНТИТЕ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ntent Placeholder 2"/>
          <p:cNvSpPr/>
          <p:nvPr/>
        </p:nvSpPr>
        <p:spPr>
          <a:xfrm>
            <a:off x="66600" y="1290600"/>
            <a:ext cx="90061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2"/>
          <p:cNvSpPr/>
          <p:nvPr/>
        </p:nvSpPr>
        <p:spPr>
          <a:xfrm>
            <a:off x="130320" y="1557360"/>
            <a:ext cx="4946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28.07.2015 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-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нформационен де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процедура „Изпълнение на Интегрирани планове за градско възстановяване и развитие 2014-2020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14.08.2015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, -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бучение за структурирането на Междинните зв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иода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08-10 септември 2015 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бучение за бенефициенти (4 групи) за електронно подаване на проектни предложения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чрез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СУН 20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 приоритетна ос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7.09.2015 г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- информационен ден по процедура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Енергийна ефективност в периферните райони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28.09.2015 г. и 02.10.2015 г. –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 обучение на Междинните звена по ос 1 (2 групи) по въпросит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ържавните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4" descr="\\oprd-nfs\DG_PRD 2\-=Public=-\-=Photos=-\събития ОПРР 2015\14-15.04.2015 работна среща ЗОРН\IMG_9580.JPG"/>
          <p:cNvPicPr/>
          <p:nvPr/>
        </p:nvPicPr>
        <p:blipFill>
          <a:blip r:embed="rId4"/>
          <a:stretch/>
        </p:blipFill>
        <p:spPr>
          <a:xfrm>
            <a:off x="5148360" y="3970440"/>
            <a:ext cx="2952720" cy="175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C:\Users\StanevskaM\AppData\Local\Microsoft\Windows\Temporary Internet Files\Content.Outlook\8L5KGAH3\phpThumb_generated_thumbnailjpg.jpg"/>
          <p:cNvPicPr/>
          <p:nvPr/>
        </p:nvPicPr>
        <p:blipFill>
          <a:blip r:embed="rId5"/>
          <a:stretch/>
        </p:blipFill>
        <p:spPr>
          <a:xfrm>
            <a:off x="5148360" y="1576440"/>
            <a:ext cx="3924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imitrina Nikolova</cp:lastModifiedBy>
  <cp:lastPrinted>2015-04-28T17:44:28Z</cp:lastPrinted>
  <dcterms:modified xsi:type="dcterms:W3CDTF">2015-11-06T14:41:28Z</dcterms:modified>
  <cp:revision>1197</cp:revision>
  <dc:subject/>
  <dc:title>Diapositiva 1</dc:title>
</cp:coreProperties>
</file>