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AA56-0232-43A9-B9DA-FE56AC66590D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Брой подобрени туристически обекти/атракции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1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Брой проведени иновативни културни съб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Брой посетители на иновативните културни събития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978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хил.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Линейни метри изграде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съоръжения за превенция от наводнения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1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х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ил.л.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Дължина на почистените речни корита и дерета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68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хил.л.м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лощ на укрепени свлачищ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1,1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800000"/>
                </a:solidFill>
                <a:latin typeface="Calibri"/>
              </a:rPr>
              <a:t>млн</a:t>
            </a:r>
            <a:r>
              <a:rPr b="0" lang="en-US" sz="12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кв.м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Населени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,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облагодетелствано от укрепени свлачищ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624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хил.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19.06.2015 г. в Културен център „Морско казино“, зала „Георги Баев“, град Бургас се проведе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„Информационен ден по ОП „Региони в растеж“ 2014-2020 г.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рамките на събитието бяха разясни параметрите на новата програма, правилата и изискванията за кандидатстване за финансиране на проектни предложения. Бяха представени предизвикателствата и проблемите при изпълнението на проекти през изминалия програмен период, както и добри практики на базата на научените уроц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22.06.2015 г. в гр. София, Национална галерия „Квадрат 500“ се състоя 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циална церемония по подписване на споразумения за делегиране на функции по оценка и избор на проекти в изпълнение на Приоритетна ос 1 „Устойчиво и интегрирано градско развитие“ на Оперативна програма „Региони в растеж“ 2014-202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28.07.2015 г. в зала „Пресцентър“ в МРРБ се провед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ен ден по процедура BG16RFOP001-1.001-039 „Изпълнение на Интегрирани планове за градско възстановяване и развитие 2014-2020”, изчерпателно бях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дставени изискванията за подготовка и оценка на Инвестиционна програма и проектни предложения в рамките на процедурата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14.08.2015 г. в гр. София, зала „Пресцентър“ в МРРБ се проведе обучение за структурирането на Междинните звена по процедура за предоставяне на безвъзмездна финансова помощ BG16RFOP001-1.001-039 „Изпълнение на Интегрирани планове за градско възстановяване и развитие 2014-2020” по Приоритетна ос 1 „Устойчиво и интегрирано градско развитие“ на Оперативна програма „Региони в растеж“ 2014-202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периода 08-10.09.2015 г. се проведоха 4 бр. Обучения за електронно кандидатстване посредством Информационната система за управление и наблюдение на средствата от ЕС в България (ИСУН 2020), за служители на 39-те общини – бенефициенти по приоритетна ос 1 „Устойчиво и интегрирано градско развитие“ на ОПРР 2014-20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Ежемесечно се провеждат работни срещи - обучения на УО на ОПР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ъв връзка с осъществяването на последващ контрол по ОПРР 2007- 2013 г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О на ОПРР продължи да изпълнява основната си цел чрез достъпност и прозрачност да стимулира и мотивира бенефициентите и широката общественост, за ефективното усвояване на средствата от Европейските фондове. УО информира периодично бенефициентите на ОПРР за всички промени и постигнатият Напредък в изпълнението на ОПРР 2007 – 2013 г., както и за процеса на одобрение на Оперативна програма „Региони в растеж“ 2014 – 2020 г. Изпълнението на тази задача стана възможно чрез сключените договори с медиите. Реализираните материали, допринесоха не само за повишаване на информираността на широката общественост и на бенефициентите по Програмата, но и за поддържане на позитивния имидж на ОПРР. Във всяка публична дейност или публикация беше посочван приносът на Европейския съюз и на Европейския фонд за регионално развитие за подобряване качеството на живот в регионите на Бълг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F5A3-F7F9-4F06-9832-7C32AF54816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убликувани 48 схеми за предоставяне на БФП на обща стойност 3,131 млрд. лв. или 100 % от бюджета на ОПР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2090e"/>
                </a:solidFill>
                <a:latin typeface="Calibri"/>
              </a:rPr>
              <a:t>- 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Общ размер на плащанията по договори – 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,678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  млрд.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лв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. 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или </a:t>
            </a:r>
            <a:r>
              <a:rPr b="0" lang="en-US" sz="900" spc="-1" strike="noStrike">
                <a:solidFill>
                  <a:srgbClr val="800000"/>
                </a:solidFill>
                <a:latin typeface="Calibri"/>
              </a:rPr>
              <a:t>82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%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 от размера на договорираните средства и </a:t>
            </a:r>
            <a:r>
              <a:rPr b="0" lang="en-US" sz="900" spc="-1" strike="noStrike">
                <a:solidFill>
                  <a:srgbClr val="800000"/>
                </a:solidFill>
                <a:latin typeface="Calibri"/>
              </a:rPr>
              <a:t>86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%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 от бюджета на ОПРР</a:t>
            </a:r>
            <a:r>
              <a:rPr b="0" lang="en-US" sz="900" spc="-1" strike="noStrike">
                <a:solidFill>
                  <a:srgbClr val="02090e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2090e"/>
                </a:solidFill>
                <a:latin typeface="Calibri"/>
              </a:rPr>
              <a:t>- 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Към края на 201</a:t>
            </a:r>
            <a:r>
              <a:rPr b="0" lang="en-US" sz="900" spc="-1" strike="noStrike">
                <a:solidFill>
                  <a:srgbClr val="02090e"/>
                </a:solidFill>
                <a:latin typeface="Calibri"/>
              </a:rPr>
              <a:t>4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 г. очакван размер на плащанията – 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2,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4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65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 млрд.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лв.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 или </a:t>
            </a:r>
            <a:r>
              <a:rPr b="0" lang="bg-BG" sz="900" spc="-1" strike="noStrike">
                <a:solidFill>
                  <a:srgbClr val="800000"/>
                </a:solidFill>
                <a:latin typeface="Calibri"/>
              </a:rPr>
              <a:t>7</a:t>
            </a:r>
            <a:r>
              <a:rPr b="0" lang="en-US" sz="900" spc="-1" strike="noStrike">
                <a:solidFill>
                  <a:srgbClr val="800000"/>
                </a:solidFill>
                <a:latin typeface="Calibri"/>
              </a:rPr>
              <a:t>5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% 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от размера на договорените средства и 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79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%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 от бюджета на ОПРР</a:t>
            </a:r>
            <a:r>
              <a:rPr b="0" lang="bg-BG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 размер на сертифицираните разходи по договори – 2 103  млрд. лв. или 64,37 % от размера на договорираните средства и 67,16 % от бюджета на ОПРР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6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% - процентно изпълнение на плащанията спрямо бюджета на програмата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% - процентно изпълнение на договорени средства спрямо бюджета на програмата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2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% - процентно изпълнение на плащанията спрямо договорени средства по програ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Обща стойност на сертифицираните разходи към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  <a:ea typeface="Arial"/>
              </a:rPr>
              <a:t> 03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.0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  <a:ea typeface="Arial"/>
              </a:rPr>
              <a:t>6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.2015 г. –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845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млн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евро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 –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ЕФРР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  <a:ea typeface="Arial"/>
              </a:rPr>
              <a:t>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или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62,09 %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от бюджета на ОПРР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Прогноза за сертифицирани разходи към 30.04.2016 г. –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1 32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1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 млн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евро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– ЕФРР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Arial"/>
              </a:rPr>
              <a:t> или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97,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06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 % от бюджета на програмата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Очакван риск от неусвояване на средства по програмата -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40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 млн. евро – ЕФР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Изпълнение на ОПРР в Лот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ФРР – в ев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Договорени       Верифицира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Сертифицир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а ос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а ос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а ос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1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8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а ос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8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а ос 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65000" y="4211280"/>
            <a:ext cx="58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Инициативата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JESSICA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се прилага в България с подкрепа на средства от ОПРР, предоставени под формата на нисколихвени кредити, вместо чрез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БФП. Въпреки че инициативата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JESSICA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стартира на сравнително късен етап от изпълнението на програмата - едва през 2010 година, до момента е постигнат съществен напредък при прилагането на тази иновативна форма на подкреп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Средствата по JESSICA са насочени към развитие на градската среда, рехабилитация на индустриални зони, инвестиции в здравна, културна, спортна инфраструктура и др. Двата фонда са </a:t>
            </a:r>
            <a:r>
              <a:rPr b="0" lang="bg-BG" sz="900" spc="-1" strike="noStrike" u="sng">
                <a:solidFill>
                  <a:srgbClr val="ffff00"/>
                </a:solidFill>
                <a:uFillTx/>
                <a:latin typeface="Calibri"/>
              </a:rPr>
              <a:t>подписали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договори за финансиране на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33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проекта за градско развитие на обща стойност 1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90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млн. лв., от които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52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.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3 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млн. лв. по ОПРР,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79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.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3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млн. лв. – съфинансиране от страна на фондовия мениджър и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58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млн. лв. собствен капитал на проектните инициатори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00" spc="-1" strike="noStrike">
                <a:solidFill>
                  <a:srgbClr val="ffff00"/>
                </a:solidFill>
                <a:latin typeface="Calibri"/>
              </a:rPr>
              <a:t>Общото ниво на разплащанията по инициативата </a:t>
            </a:r>
            <a:r>
              <a:rPr b="1" lang="en-US" sz="900" spc="-1" strike="noStrike">
                <a:solidFill>
                  <a:srgbClr val="ffff00"/>
                </a:solidFill>
                <a:latin typeface="Calibri"/>
              </a:rPr>
              <a:t>JESSICA</a:t>
            </a:r>
            <a:r>
              <a:rPr b="1" lang="bg-BG" sz="900" spc="-1" strike="noStrike">
                <a:solidFill>
                  <a:srgbClr val="ffff00"/>
                </a:solidFill>
                <a:latin typeface="Calibri"/>
              </a:rPr>
              <a:t> от двата Фонда за градско развитие, постигнато към 30 септември</a:t>
            </a:r>
            <a:r>
              <a:rPr b="1" lang="en-US" sz="900" spc="-1" strike="noStrike">
                <a:solidFill>
                  <a:srgbClr val="ffff00"/>
                </a:solidFill>
                <a:latin typeface="Calibri"/>
              </a:rPr>
              <a:t> 2015 </a:t>
            </a:r>
            <a:r>
              <a:rPr b="1" lang="bg-BG" sz="900" spc="-1" strike="noStrike">
                <a:solidFill>
                  <a:srgbClr val="ffff00"/>
                </a:solidFill>
                <a:latin typeface="Calibri"/>
              </a:rPr>
              <a:t>г., е 68% от средствата по </a:t>
            </a:r>
            <a:r>
              <a:rPr b="1" lang="en-US" sz="900" spc="-1" strike="noStrike">
                <a:solidFill>
                  <a:srgbClr val="ffff00"/>
                </a:solidFill>
                <a:latin typeface="Calibri"/>
              </a:rPr>
              <a:t>JESSICA</a:t>
            </a:r>
            <a:r>
              <a:rPr b="1" lang="bg-BG" sz="900" spc="-1" strike="noStrike">
                <a:solidFill>
                  <a:srgbClr val="ffff00"/>
                </a:solidFill>
                <a:latin typeface="Calibri"/>
              </a:rPr>
              <a:t>.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9AA0-601A-4630-A8CB-A13B6AF01233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дкрепа за градския транспорт в големите град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 рамките на Приоритетна ос 1 „Устойчиво и интегрирано градско развитие”, Операция 1.5 „Системи за устойчив градски транспорт” по Оперативна програма „Регионално развитие” са предвидени 403 млн. лв. за развитието на интегриран градски транспорт в 7-те големи града на страната – София, Бургас, Варна, Пловдив, Плевен,  Стара Загора и Русе. Акцентира се върху създаване на по-ефективен и бърз градски транспорт с по-малко потребление на енергия, изграждане на по-достъпна вторична инфраструктура на обществените транспортни мрежи и въвеждане на природосъобразни видове градски транспор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Община Бург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щият размер възлиза на 131 млн. лв., от които: безвъзмездна финансова помощ - 101 млн. лв. и 30 млн. лв. – собствен принос на Община Бургас. Договорът за предоставяне на безвъзмездна финансова помощ е сключен на 26 ноември 2010 г. със срок на продължителност до юни 2016 г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ъм 14.09.2015 г. са доставени: 28 бр. дизелови съчленени автобуси  и 39 бр. метанови автобуса, които са в експлоатация;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ъведени в експлоатация 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втобусно депо, работилница, дизел и метан станция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овоизградената централна автобусна спирка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процес на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въвеждане в експлоатация е приключила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еконструкция и разширение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ерминал „Меден Рудник“ и прилежаща територия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 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граждат се: Бърза автобусна линия, терминали и система от велосипедни алеи Етап І и Етап ІІ; четири пешеходни надлези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и реконструкцията на Автогара „ЮГ“ и прилежаща територ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дстои публикуване на процедура за избор на изпълнител за извършване на проучвания за бъдещи инвестиции, които да надградят постигнатите резултати.  Подписан е договор за обществена услуга между „БУРГАСБУС“ ЕООД и Община Бургас в съответствие с изискванията на Регламент 1370/2007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 27.08.2015 г. община Бургас като конкретен бенефициент по схема BG161PO001/1.5-01/2010 ”Подкрепа за интегриран градски транспорт в община Бургас” представи пред УО на ОПРР искане за изменение на апликационна форма (АФ) за голям проект, касаещо следните по-важни пром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граждане на 38 бр. заслони за междинни и крайни спирки по трасето на бързата автобусна линия, които са извън обхвата на съществуващите договори за концесии, сключени между община Бургас и концесионера. Спирковите заслони са изцяло в нови за съществуващата транспортна схема трасета, а останалата част, като местоположение, не засягат съществуващите заслони – обект на концесионния договор, описан в А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величаване на размера на финансовия дефицит, на инвестиционните разходи на проекта и на стойността на БФ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оведена е писмена процедура за увеличаване на БФП с не повече от 4,8 млн. л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за изграждане на заслони за междинни и крайни спирки по трасето на Бързата автобусна линия в рамките на проект BG161PO001/1.5-01/2010/001 „Интегриран градски транспорт на Бургас" с бенефициент Община Бургас. Това е допустима дейност по схемата и е съобразена с концепцията за така наречената „висококачествена автобусна услуга“ в градска среда, която включва не само осигуряване на бързина на предвижване, но също така и безопасност и комфорт на пътуване. Разработен е технически инвестиционен проект и изпълнението може да бъде възложено в максимално кратки срокове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Ревизирана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пликационната форма на големия проект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нализ разходи и ползи,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пратена към Европейската комисия с цел изменение на Решението на ЕК за одобрение на обхвата на големия про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Соф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щият размер възлиза на 122 млн. лв., от които 98 млн. лв. – безвъзмездна финансова помощ и 25 млн. лв. – собствен принос на Столична община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лед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евизиран обхват на проекта, като новата обща стойност на проекта е 90,7 млн. лв., от които 78,3 млн. лв. – безвъзмездна финансова помощ и 12,4 млн. лв. – собствен принос на Столична общин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дписано е нов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поразумение към ДБФП с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намалените стой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говорът за предоставяне на безвъзмездна финансова помощ е сключен на 23 август 2011 г. Към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14.0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015 г. са доставени 50 бр. нови нископодови съчленени тролейбуса, които са в експлоатация, и е приключил етап 1 от реконструкцията на трамваен релсов път, контактна и кабелна мрежа по бул.”България”. Доставени и въведени в експлоатация са  600 бр. нови Електронни информационни табла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лед спестен ресурс е проведена втора процедура за доставка на допълнителни 420 ЕИТ към момента са доставени около 200 бр. ЕИТ. Изпълнява с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говор за доставка и монтаж на Интелигентна система за управление на т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оцедурата за избор на изпълнител за „Изграждане на нова трамвайна линия Семинарията – Дървеница“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е прекратена пора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 бжалването на плана за регулация на новото трамвайно трасе и несъгласието на местната общественост с реализацията на проект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като 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мпонент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е отпаднал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т обхвата на  проекта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 на 12.06.2015г. е изпратена ревизира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пликационната форма и подкрепящите документи до ЕК за одобрение на редуцирания обхват на проекта. и преобразуването му от голям в негол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дписан е договор за обществена услуга между Център за градска мобилност и Столична община в съответствие с изискванията на Регламент 1370/200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оекти за интегриран градски транспорт в петте големи гра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з юли и август 2012 г. са подписани договори с общините: Варна, Плевен, Пловдив, Русе и Стара Загора.  Общият размер на проектите възлиза на  125,9 млн. лв., от които 112,5 млн. лв. – безвъзмездна финансова помощ. Подписани са договори за обществена услуга между „Тролейбусен транспорт“ ЕООД Плевен и община Плевен, както и между „Тролейбусни превози“ ЕООД и община Стара Загора в съответствие с изискванията на Регламент 1370/200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Вар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говорът за предоставяне на безвъзмездна финансова помощ е сключен на 9 юли 2012 г. Общият му размер възлиза на 114 млн. лв., от които 91 млн. лв. – безвъзмездна финансова помощ и 23 млн. лв. - средства на общината, като след процедура по анексиране общата стойност на проекта възлиза на 107 млн. 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ъм 14.09.2015 са доставени 70 бр. нови нископодови автобуса, които са в експлоатация. Подписан е договор за обществена услуга (ДОУ) между община Варна и вътрешния оператор и партньор по проекта "Градски транспорт" А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ключени са всички основни договори с изпълнители за: изграждане на коридор за бърза автобусна линия (BRT); съоръжения за колоездене; подобрения на 3 крайни спирки; мерки за подобряване на достъпността; предимство на масов градски обществен транспорт (МГОТ) на кръстовища; система за информация на пътниците в реално време; център за контрол на МГОТ; автоматизирана билетна система; строителен надзор за  всички компоненти по проекта. Предстои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ъгласуван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 инвестиционни проекти и издаване на рашрешения за строеж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Пловд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ъм 14.09.2015 са сключени всички договори с изпълнители: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момента са изградени около 20 км от общ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8 км. велоалеи; внедряване и експлоатация на системата за управление на градския транспорт, изграждане и внедряване на Център за управление на трафика; Проучване за планиране на градския транспорт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движда се проекта да приключи до края на 2015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Стара Заг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ъм 14.09.2015 г. предстои въвеждането в експлоатация на обектите по градска пътна мрежа (вкл. велоалеи и рампи за хора с увреждания)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 В началото на месец август са подписани договорите за доставка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 бр. дизелови автобуса висок екологичен клас за нуждите на обществения градски транспорт в град Стара Загора, като част от проект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пълнен е договорът за ремонт и рехабилитация на тролейбусно депо и доставка на оборудване за депо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став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ени и въведени в експлоатация 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 броя нови нископодови тролейбуса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и специализиран автомоби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ключили са договорите за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емонт и рехабилитация на контактна мрежа и изграждане н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ъздушно-контактна мреж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ремонт и рехабилитация на токоизправителни станции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изграждане на информационна система (телематика)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движда се проекта да приключи до края на 2015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Плев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ъм 14.09.2015 г. се изпълняват сключените договори за процедури на инженеринг за следните компоненти: Облагородяване на спирките; Изграждане на велоалеи; Изграждане на тролейбусно депо; Рехабилитация и реконструкция на Въздушно контактна мрежа. Приключени и въведени в експлоатация са обектите от следните договори: Изграждане на Система за управление и контрол на МГОТ и Интелигентна система за управление на т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Ру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ъм 14.09.2015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г. се изпълняват договорите з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Реконструкция на кръгово кръстовище, изграждане на подлез и обособяване на бус ленти и лента за паркиране - бул. Цар Освободител - проектиране, СМР, авторски надзор;  Изграждане на подлез при ж/п линията за свързване на кв. Родина с центъра  проектиране, СМР, авторски надзор; Изграждане на система за контрол и управление на обществения транспорт (СКУОТ) - СМР и тролейбусна инфраструктура“; Подобряване достъпността до ОГТ в кв. Чародейка; Подобряване достъпа до спирките на ОГТ и безопасността за пешеходци и велосипедисти на бул. България - проектиране, СМР, авторски надзор; Оборудване на електронна  система за таксуване и на система за контрол и управление на обществения транспорт (СКУОТ)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 На спирките са поставени са около 50 бр. електронноинформационни табла от общо 100.  Предстои 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граждане н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14 км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елоал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готвен е план за изграждане на мрежа от велоалеи, проведени са обществени обсъждания за избор на трас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3DF5-1435-464F-A37B-CD6E40782F5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щ брой приключени проекти – 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9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новени/реконструира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гради на образователна, социална и културна инфраструктур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10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чилищ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4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53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сград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етски ясли и гради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- 3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88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сг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гради на културната инфраструктур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72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55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читалища 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1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7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сгради на държавни културни институци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- 3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училища в сферата на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културат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театр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, 3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опер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, 4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музея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1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концертна зал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оциална инфраструктур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83 ( 45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социални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институции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37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бюра по труд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новени/реконструира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гради на университети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43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3AD6-F594-45BB-A55E-9355561E12C2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дкрепа з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институционализация на децата в България –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изградени 11</a:t>
            </a:r>
            <a:r>
              <a:rPr b="0" lang="en-US" sz="1200" spc="-1" strike="noStrike">
                <a:solidFill>
                  <a:srgbClr val="800000"/>
                </a:solidFill>
                <a:latin typeface="Calibri"/>
              </a:rPr>
              <a:t>9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 ЦНСТ, 1</a:t>
            </a:r>
            <a:r>
              <a:rPr b="0" lang="en-US" sz="1200" spc="-1" strike="noStrike">
                <a:solidFill>
                  <a:srgbClr val="8000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 изградени, обзаведени и оборудвани защитени жилища и 5 бр. ремонтирани и оборудвани защитени жилищ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Рехабилитира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/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реконструирани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пътищ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1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116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добрена градска сре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зелени пло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етски площадк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3,1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млн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.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кв.м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селение, облагодетелствано от подобрената градска сре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,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млн.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Изграде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/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рехабилитира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пешеходни зо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,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велоалеи, тротоар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961 хил.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кв.м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F694-8EDB-484F-88A0-B3DF17DED1A2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58D-835C-47C7-A73B-9370A91F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129-73BE-437A-A54E-76D3EFF0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4216-3B4A-4526-9DFF-8094F925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7C1-D34D-4EF6-B138-CA3B886C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02F6-E7E9-42D3-BD49-A320B326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F78A-248F-4CF3-83AB-A560DC12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985F-3508-4409-A0AD-F4687892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2D66-E07F-4931-9B24-25F09094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CC36-6BAE-4E61-9963-1038C929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8134-7E9A-4268-A578-B717EC97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EED8-EACD-4972-A420-2493C425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63E-7DAC-40F5-B355-368D6406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809A-56C5-4328-A8DC-65CE339E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704C-79E6-4974-8615-8A336489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BB7A-0C45-44AF-849A-9D76ABC1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5AF5-5974-44C6-8A6B-27EE7320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3648-3CF1-4F43-8F5C-5A8682C9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6887B-9382-4A6C-840B-6937DE42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C384B-3553-4D6E-9478-64F51AEC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7AE4B-00B7-4A65-99FC-31EBFADA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04C0F-1824-439C-BB62-29BF1BB4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9BB14-BE1B-4D94-8D5F-C25F3FD2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30D-F78A-413C-87E2-09B75317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CB727-941F-4C08-AE9F-1538679C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DE1B5-21F3-42F2-965B-B7BAD536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AE36B-7549-4C39-9986-4A7108C5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28D85-20C6-4074-99BF-B0F02269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0875B-D22F-4B15-8D83-4981704C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2E64-B9F1-4E46-AD74-E790748F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6BB3A-B1DE-45CD-9ECB-1B801379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3E886-B101-4149-90C5-64A7AC04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AE93C-BB0C-4D74-A608-0B99FDD0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02F99-2D1A-4199-B2FF-EE28052B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716-B171-4E86-9A43-6D44B949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CB5AE-A99E-4215-AED4-FDC6F82D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22CAF-9913-4B3B-8178-17EC0DA8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9D78A-7C30-4C5E-BA90-7945A936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46875-2307-432F-A64F-ABA7A70B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3580E-E676-4136-9253-32641585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3984B-72F6-434A-A3A5-07A65761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32258-CDE3-45AF-B060-DE892884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153CD-DD02-466A-9462-CE2A16C9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BDDCE-1DB9-4776-9042-DD7EB21C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78F12-8DF6-427B-90C0-1C165639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8204-9E69-4C5F-86B2-3A40FB3B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46E7B-B723-493D-B0E3-0303A53E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EDFA2-790E-4ED1-8EE9-9FDB1D20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B537F-D24B-4E24-8F8D-57F0A6D8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60B9A-33EF-4A95-860C-10785236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B1514-DCE1-4A50-BA1E-F45A008C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BE3F3-C631-4829-AD69-AB29C97D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21130-9A3F-4AFA-BB01-F5956CE8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033C1-CC13-4A62-8AF9-6E2F2629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DF8C3-BCC7-43C4-A370-5EF77850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F649F-04F1-476A-A619-1FE90EA0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02B-3485-41B9-9CA7-7F77CA89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375F7-44D5-45E5-99A0-3ADC27FC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02C55-4E35-40DE-BA49-D34F29A2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6EC57-2197-4C20-9722-1C4AE6DB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B14EA-CF15-4F18-A706-B050386D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906BB-F158-4A03-BD79-09480DBE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37A62-CB00-443A-B922-1E119083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DC492-E974-45B6-A5D0-1EDDAB03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2485C-09DB-47C0-A852-E8ED8E0E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090BD-1416-4C53-8086-16950CDF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95613-33F3-4B06-8C92-C91F75C9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48C9-ED8F-47CD-A5C6-8110A355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0D3D6-3C55-4CB6-A006-C54360AB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F8BB6-6436-4DE1-8515-9E0BF804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C7B68-9BBF-4CAD-8C4A-4F171860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AE14B-4864-4A01-AD78-FE3D2F2F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2A305-982F-4F26-9164-0C152C08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F76B2-5E39-4282-9B0B-7B87141D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F29CD-F31E-4BFE-A962-F1AB4980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343E4-67E3-4979-81FE-3E4100D8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A3182-7F9C-4160-840A-607E00D9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25C64-A341-4043-9954-7E0A9532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C44-7095-437A-864E-DDF85C95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2E96F-393D-4CC5-A841-1851D09A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8AB17-DBA6-46AB-B17E-BE4DAE24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C176D-F442-473C-8A3F-3809D658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F21D0-09C3-447F-83F8-12355C68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BD0C5-11A5-4244-B862-1BF4091E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EE6E1-DA0D-496E-9ABF-13195D2A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4BD52-EFB6-4E12-BCA5-47D90F46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2DC28-D1E7-4447-AB83-4EE3DD3D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834E2-C9EF-4F65-9539-0F44503B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AD1B9-AE8A-4B49-8474-5BD50256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CBD-6E83-47CE-9047-685A67F1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F3E3A-40D9-4900-8088-1E2DA6A6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64C72-A3E8-4A6C-B2E8-886466DC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B31CA-9AEF-4F8F-AEE5-EC71E54F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11D2A-B20B-4429-81C4-594126A7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933DA-8C50-4FEF-992F-B49B84F6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B4D70-F95C-4554-9647-D5CF6443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E28AD-021D-4D75-B171-49B25C24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4576-CAF0-4E5D-89F5-5A496E1F27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EAA4-817C-49E6-AB4D-D0BC1C7E5EF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2CA8-B346-4209-8911-4E87F38E8B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2E43-9B81-4F9F-9191-B977F11E11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2249-B856-4C38-B83D-6F06F41F2F2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001C-38FF-49B4-8646-37E9F6055B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F5B3-7195-4282-87EB-94124AD4EC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CF7C-7674-4810-AFFB-249465FBAE5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14400" y="4653000"/>
            <a:ext cx="64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Аналитичен преглед на напредъка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ОП “Регионално развитие” 2007-201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104760" y="5987880"/>
            <a:ext cx="632304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Sylfaen"/>
              </a:rPr>
              <a:t>Първо заседание на КН на ОПРР 2007-2013 г. и КН на ОПРР 2014-2020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6 окто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1152360" y="422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507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добрени туристически обекти/атра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б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ведени иновативни културни събит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80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б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сетители на иновативните културни събит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78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хил. душ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Линейни метри изграде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ъоръжения за превенция от наводн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6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х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ил. л.м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ължина на почистените речни корита и дерет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68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хил. л.м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лощ на укрепени свлачищ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,1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млн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кв.м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лагодетелствано от укрепени свлачищ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624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хил.душ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3" descr="\\oprd-nfs\DG_PRD\-=Public=-\-= Photos =-\за календар 2015\СЗР\Белоградчик\002862932.jpg"/>
          <p:cNvPicPr/>
          <p:nvPr/>
        </p:nvPicPr>
        <p:blipFill>
          <a:blip r:embed="rId3"/>
          <a:stretch/>
        </p:blipFill>
        <p:spPr>
          <a:xfrm>
            <a:off x="4815000" y="3789360"/>
            <a:ext cx="4249800" cy="21733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437" name="TextBox 16"/>
          <p:cNvSpPr/>
          <p:nvPr/>
        </p:nvSpPr>
        <p:spPr>
          <a:xfrm>
            <a:off x="4805280" y="5707080"/>
            <a:ext cx="426888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Белоградчишка крепос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5" descr="C:\Users\IlievP\Desktop\DSC08155.jpg"/>
          <p:cNvPicPr/>
          <p:nvPr/>
        </p:nvPicPr>
        <p:blipFill>
          <a:blip r:embed="rId4"/>
          <a:stretch/>
        </p:blipFill>
        <p:spPr>
          <a:xfrm>
            <a:off x="4815000" y="1413000"/>
            <a:ext cx="4249800" cy="229212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6"/>
          <p:cNvSpPr/>
          <p:nvPr/>
        </p:nvSpPr>
        <p:spPr>
          <a:xfrm>
            <a:off x="4795920" y="3443400"/>
            <a:ext cx="426888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Иновативно културно събитие – гр. Бурга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1187280" y="388800"/>
            <a:ext cx="6697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Tahoma"/>
              </a:rPr>
              <a:t>Действия за информация и публично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3"/>
          <a:stretch/>
        </p:blipFill>
        <p:spPr>
          <a:xfrm>
            <a:off x="22320" y="1490760"/>
            <a:ext cx="9050400" cy="443052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2"/>
          <p:cNvSpPr/>
          <p:nvPr/>
        </p:nvSpPr>
        <p:spPr>
          <a:xfrm>
            <a:off x="130320" y="1479600"/>
            <a:ext cx="4946400" cy="52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нформацион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д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 ОП „Региони в растеж“ 2014-2020 г.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одписване на споразумения за делегиране на функции по оценка и избор на проекти в изпълнение на Приоритетна ос 1 „Устойчиво и интегрирано градско развитие“ на Оперативна програма „Региони в растеж“ 2014-2020 г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Информационен ден по процедура BG16RF OP001-1.001-039 „Изпълнение на Интегрирани планове за градско възстановяване и развитие 2014-2020”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бучение за структурирането на Междинните звена по Приоритетна ос 1 „Устойчиво и интегрирано градско развитие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бучения за електронно кандидатстване посредством Информационната система за управление и наблюдение на средствата от ЕС в България (ИСУН 202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оведени работни срещи и обучения на УО на ОПРР във връзка с осъществяването на последващ контрол по ОПРР 2007- 2013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- Изготвени рекламни и информационни материа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а изпълнението на ОПР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- Осигуряване на достъпност, публичност и прозрачност чрез електронни и печатни мед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4716360" y="4292640"/>
            <a:ext cx="4178520" cy="4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80000"/>
              </a:lnSpc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5" descr="C:\Users\DimitrovaTs\Desktop\SAIT\за презентацията за КН\от 28.07.2015-инфо ден.jpg"/>
          <p:cNvPicPr/>
          <p:nvPr/>
        </p:nvPicPr>
        <p:blipFill>
          <a:blip r:embed="rId4"/>
          <a:stretch/>
        </p:blipFill>
        <p:spPr>
          <a:xfrm>
            <a:off x="5268960" y="3800520"/>
            <a:ext cx="3406680" cy="2076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6" descr="C:\Users\DimitrovaTs\Desktop\SAIT\Pictures\2015\1.jpg"/>
          <p:cNvPicPr/>
          <p:nvPr/>
        </p:nvPicPr>
        <p:blipFill>
          <a:blip r:embed="rId5"/>
          <a:stretch/>
        </p:blipFill>
        <p:spPr>
          <a:xfrm>
            <a:off x="5724360" y="1514520"/>
            <a:ext cx="3338640" cy="21384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7" descr="C:\Users\DimitrovaTs\Desktop\SAIT\Pictures\2015\4.jpg"/>
          <p:cNvPicPr/>
          <p:nvPr/>
        </p:nvPicPr>
        <p:blipFill>
          <a:blip r:embed="rId6"/>
          <a:stretch/>
        </p:blipFill>
        <p:spPr>
          <a:xfrm>
            <a:off x="9325080" y="1554120"/>
            <a:ext cx="308916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Заместник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министър и Ръководител на У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октомвр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1332000" y="954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Общ преглед на изпълнението на ОПРР към 15.09.2015 г.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4560" y="1412640"/>
            <a:ext cx="8859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Публикувани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8 схеми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за предоставяне на БФП на обща стойност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3,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131 млрд.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лв.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100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 от бюджета на ОПРР </a:t>
            </a:r>
            <a:r>
              <a:rPr b="0" i="1" lang="bg-BG" sz="2200" spc="-1" strike="noStrike">
                <a:solidFill>
                  <a:srgbClr val="000066"/>
                </a:solidFill>
                <a:latin typeface="Arial"/>
              </a:rPr>
              <a:t>(3,131 млрд.</a:t>
            </a: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bg-BG" sz="2200" spc="-1" strike="noStrike">
                <a:solidFill>
                  <a:srgbClr val="000066"/>
                </a:solidFill>
                <a:latin typeface="Arial"/>
              </a:rPr>
              <a:t>лв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209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бщ брой сключени договори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1 109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с общ размер на предоставената БФП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3,267 млрд. лв.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104%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т бюджета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бщ размер на плащанията по договори –</a:t>
            </a:r>
            <a:r>
              <a:rPr b="0" lang="bg-BG" sz="2200" spc="-1" strike="noStrike">
                <a:solidFill>
                  <a:srgbClr val="02090e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,690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 млрд.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лв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.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</a:t>
            </a:r>
            <a:r>
              <a:rPr b="0" lang="bg-BG" sz="2200" spc="-1" strike="noStrike">
                <a:solidFill>
                  <a:srgbClr val="02090e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82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2090e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т размера на договорираните средства и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86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% от бюджета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бщ размер на сертифицираните разходи по договори –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2 103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  млрд. лв.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64,37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 от размера на договорираните средства и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67,16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 от бюджета на ОПРР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Финансово изпълнение на ОПРР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към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02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0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.2015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1"/>
          <p:cNvGraphicFramePr/>
          <p:nvPr/>
        </p:nvGraphicFramePr>
        <p:xfrm>
          <a:off x="685800" y="1557360"/>
          <a:ext cx="7943760" cy="4248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557360"/>
                    <a:ext cx="7943760" cy="4248000"/>
                  </a:xfrm>
                  <a:prstGeom prst="rect">
                    <a:avLst/>
                  </a:prstGeom>
                  <a:ln w="1908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865080" y="158760"/>
            <a:ext cx="7596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800000"/>
                </a:solidFill>
                <a:latin typeface="Arial"/>
              </a:rPr>
              <a:t>Прогноза за финансово изпълнение              към 30.04.2016 г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34720" y="1413000"/>
            <a:ext cx="828036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Обща стойност на сертифицираните разходи към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15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.0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9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.2015 г. – 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914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млн.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евро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 –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ЕФРР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или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67,16 %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от бюджета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Прогноза за сертифицирани разходи към 30.04.2016 г. –  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1 3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07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млн.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евро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– ЕФРР</a:t>
            </a:r>
            <a:r>
              <a:rPr b="0" lang="bg-BG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или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9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6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03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 % от бюджета на програмата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Очакван риск от неусвояване на средства по програмата - 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54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 млн. евро – ЕФ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1152360" y="42228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Изпълнение на ОПРР по приоритетни оси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        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LOTHAR system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 – ЕФРР ев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34920" y="1413000"/>
          <a:ext cx="9037800" cy="449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1413000"/>
                    <a:ext cx="903780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1189080" y="174600"/>
            <a:ext cx="6838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a50021"/>
                </a:solidFill>
                <a:latin typeface="Arial"/>
              </a:rPr>
              <a:t>Постигнат напредък от Фондовете за градско развитие по 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JESS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108000" y="1413000"/>
            <a:ext cx="5040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 за устойчиво градско развитие на София (ФУГРС) ЕАД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екта с общ бюджет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млн. лв., в т.ч.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,8 млн. 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 ОПР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,9 млн. лв.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съфинансиране от Фон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л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обствено съфинансиране от проектните инициато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оговорени по ОПРР:</a:t>
            </a:r>
            <a:r>
              <a:rPr b="1" lang="bg-BG" sz="1600" spc="-1" strike="noStrike">
                <a:solidFill>
                  <a:srgbClr val="a50021"/>
                </a:solidFill>
                <a:latin typeface="Arial"/>
              </a:rPr>
              <a:t>104,6%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; Разплатени: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78</a:t>
            </a:r>
            <a:r>
              <a:rPr b="1" lang="bg-BG" sz="1600" spc="-1" strike="noStrike">
                <a:solidFill>
                  <a:srgbClr val="a50021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гионален фонд за градско развитие (РФГР) АД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екта с общ бюджет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млн. лв., в т.ч.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5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млн. лв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 ОПР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млн. 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ъфинансиране от Фон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8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мл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обствено съфинансиране от проектните инициато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оговорени по ОПРР:</a:t>
            </a:r>
            <a:r>
              <a:rPr b="1" lang="bg-BG" sz="1600" spc="-1" strike="noStrike">
                <a:solidFill>
                  <a:srgbClr val="a50021"/>
                </a:solidFill>
                <a:latin typeface="Arial"/>
              </a:rPr>
              <a:t> 7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7</a:t>
            </a:r>
            <a:r>
              <a:rPr b="1" lang="bg-BG" sz="16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bg-BG" sz="16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; Разплатени: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56</a:t>
            </a:r>
            <a:r>
              <a:rPr b="1" lang="bg-BG" sz="1600" spc="-1" strike="noStrike">
                <a:solidFill>
                  <a:srgbClr val="a50021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Chart 13" descr=""/>
          <p:cNvPicPr/>
          <p:nvPr/>
        </p:nvPicPr>
        <p:blipFill>
          <a:blip r:embed="rId3"/>
          <a:stretch/>
        </p:blipFill>
        <p:spPr>
          <a:xfrm>
            <a:off x="4449600" y="1251000"/>
            <a:ext cx="4637160" cy="2693880"/>
          </a:xfrm>
          <a:prstGeom prst="rect">
            <a:avLst/>
          </a:prstGeom>
          <a:ln w="0">
            <a:noFill/>
          </a:ln>
        </p:spPr>
      </p:pic>
      <p:pic>
        <p:nvPicPr>
          <p:cNvPr id="380" name="Chart 14" descr=""/>
          <p:cNvPicPr/>
          <p:nvPr/>
        </p:nvPicPr>
        <p:blipFill>
          <a:blip r:embed="rId4"/>
          <a:stretch/>
        </p:blipFill>
        <p:spPr>
          <a:xfrm>
            <a:off x="4651200" y="3706920"/>
            <a:ext cx="4529160" cy="22622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6516720" y="3683160"/>
            <a:ext cx="898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Arial"/>
              </a:rPr>
              <a:t>РФГР А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1189080" y="23760"/>
            <a:ext cx="683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Успешни примери на ключови инвест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70000" y="1859040"/>
            <a:ext cx="45892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spcBef>
                <a:spcPts val="12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62673"/>
                </a:solidFill>
                <a:latin typeface="Arial"/>
              </a:rPr>
              <a:t>Интегриран градски 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2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62673"/>
                </a:solidFill>
                <a:latin typeface="Arial"/>
              </a:rPr>
              <a:t>Рехабилитация/реконструкция на второкласна и третокласна пътна мрежа, изграждане на пътна инфра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2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62673"/>
                </a:solidFill>
                <a:latin typeface="Arial"/>
              </a:rPr>
              <a:t>Обновяване и изграждане на зелена и достъпна градска с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2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62673"/>
                </a:solidFill>
                <a:latin typeface="Arial"/>
              </a:rPr>
              <a:t>Изграждане и възстановяване на културна инфра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2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73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Инициатива </a:t>
            </a:r>
            <a:r>
              <a:rPr b="0" lang="en-US" sz="2000" spc="-1" strike="noStrike">
                <a:solidFill>
                  <a:srgbClr val="262673"/>
                </a:solidFill>
                <a:latin typeface="Arial"/>
              </a:rPr>
              <a:t>JES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9" descr="C:\Users\StefanovZ\Desktop\Презентации\KRIB\11887943_10204904141109348_3219348515072407450_n[1].jpg"/>
          <p:cNvPicPr/>
          <p:nvPr/>
        </p:nvPicPr>
        <p:blipFill>
          <a:blip r:embed="rId3"/>
          <a:stretch/>
        </p:blipFill>
        <p:spPr>
          <a:xfrm>
            <a:off x="5148360" y="1484280"/>
            <a:ext cx="3746520" cy="2120760"/>
          </a:xfrm>
          <a:prstGeom prst="rect">
            <a:avLst/>
          </a:prstGeom>
          <a:ln w="0">
            <a:noFill/>
          </a:ln>
        </p:spPr>
      </p:pic>
      <p:sp>
        <p:nvSpPr>
          <p:cNvPr id="391" name="TextBox 7"/>
          <p:cNvSpPr/>
          <p:nvPr/>
        </p:nvSpPr>
        <p:spPr>
          <a:xfrm>
            <a:off x="5148360" y="3343320"/>
            <a:ext cx="374652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Ларгото - Соф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8" descr="C:\Users\StefanovZ\Desktop\tangenta 2.jpg"/>
          <p:cNvPicPr/>
          <p:nvPr/>
        </p:nvPicPr>
        <p:blipFill>
          <a:blip r:embed="rId4"/>
          <a:stretch/>
        </p:blipFill>
        <p:spPr>
          <a:xfrm>
            <a:off x="5148360" y="3741840"/>
            <a:ext cx="3746520" cy="20635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7"/>
          <p:cNvSpPr/>
          <p:nvPr/>
        </p:nvSpPr>
        <p:spPr>
          <a:xfrm>
            <a:off x="5129280" y="5543640"/>
            <a:ext cx="374652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Северна скоростна  танген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1152360" y="422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4572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щ брой приключени проекти –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902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б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новени/реконструира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гради на образователна, социална и културна инфраструктур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038 б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училищ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3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сград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етски ясли и градини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- 3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88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сград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гради на културната инфраструктур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72 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55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читалища 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1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7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сгради на държавни културни институци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- 3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училища в сферата на културата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театр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, 3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опер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, 4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музея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1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концертна зала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оциална инфраструктур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- 8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сг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45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социални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институции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37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бюра по труда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новени/реконструира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гради на университети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3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б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0" descr="C:\Users\DimitrovaTs\Pictures\за презентация\НМБИИ София.jpg"/>
          <p:cNvPicPr/>
          <p:nvPr/>
        </p:nvPicPr>
        <p:blipFill>
          <a:blip r:embed="rId3"/>
          <a:stretch/>
        </p:blipFill>
        <p:spPr>
          <a:xfrm>
            <a:off x="4572000" y="1444680"/>
            <a:ext cx="2286000" cy="1731960"/>
          </a:xfrm>
          <a:prstGeom prst="rect">
            <a:avLst/>
          </a:prstGeom>
          <a:ln w="0">
            <a:noFill/>
          </a:ln>
        </p:spPr>
      </p:pic>
      <p:sp>
        <p:nvSpPr>
          <p:cNvPr id="403" name="TextBox 7"/>
          <p:cNvSpPr/>
          <p:nvPr/>
        </p:nvSpPr>
        <p:spPr>
          <a:xfrm>
            <a:off x="4657680" y="1557360"/>
            <a:ext cx="211140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НМБИИ гр. Соф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4" descr="\\oprd-nfs\DG_PRD\-=Public=-\-= Photos =-\1_snimki+info_proekti_shemi_PRR\05-02-2013 Снимки приключили проекти ОПРР\Североизточен район\Ikonomicheski universitet Varna\Читалня - сега.JPG"/>
          <p:cNvPicPr/>
          <p:nvPr/>
        </p:nvPicPr>
        <p:blipFill>
          <a:blip r:embed="rId4"/>
          <a:stretch/>
        </p:blipFill>
        <p:spPr>
          <a:xfrm>
            <a:off x="4657680" y="3203640"/>
            <a:ext cx="2193840" cy="1377720"/>
          </a:xfrm>
          <a:prstGeom prst="rect">
            <a:avLst/>
          </a:prstGeom>
          <a:ln w="0">
            <a:noFill/>
          </a:ln>
        </p:spPr>
      </p:pic>
      <p:sp>
        <p:nvSpPr>
          <p:cNvPr id="405" name="TextBox 7"/>
          <p:cNvSpPr/>
          <p:nvPr/>
        </p:nvSpPr>
        <p:spPr>
          <a:xfrm>
            <a:off x="4657680" y="4151160"/>
            <a:ext cx="2192400" cy="4287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Икономически университет – гр. Вар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9" descr="\\oprd-nfs\DG_PRD\-=Public=-\-= Photos =-\1_snimki+info_proekti_shemi_PRR\1.4-09\СЦР\Зелена и достъпна гр. среда-Русе\_MG_6728 (Copy).JPG"/>
          <p:cNvPicPr/>
          <p:nvPr/>
        </p:nvPicPr>
        <p:blipFill>
          <a:blip r:embed="rId5"/>
          <a:stretch/>
        </p:blipFill>
        <p:spPr>
          <a:xfrm>
            <a:off x="6786720" y="1557360"/>
            <a:ext cx="2293920" cy="1530360"/>
          </a:xfrm>
          <a:prstGeom prst="rect">
            <a:avLst/>
          </a:prstGeom>
          <a:ln w="0">
            <a:noFill/>
          </a:ln>
        </p:spPr>
      </p:pic>
      <p:sp>
        <p:nvSpPr>
          <p:cNvPr id="407" name="TextBox 7"/>
          <p:cNvSpPr/>
          <p:nvPr/>
        </p:nvSpPr>
        <p:spPr>
          <a:xfrm>
            <a:off x="6786720" y="1557360"/>
            <a:ext cx="211104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Градска среда - гр. Рус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1" descr="\\oprd-nfs\DG_PRD\-=Public=-\-= Photos =-\1_snimki+info_proekti_shemi_PRR\3.1-02\асенова крепост\-1_1_~1.JPG"/>
          <p:cNvPicPr/>
          <p:nvPr/>
        </p:nvPicPr>
        <p:blipFill>
          <a:blip r:embed="rId6"/>
          <a:stretch/>
        </p:blipFill>
        <p:spPr>
          <a:xfrm>
            <a:off x="6872400" y="3174840"/>
            <a:ext cx="2200320" cy="14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409" name="TextBox 7"/>
          <p:cNvSpPr/>
          <p:nvPr/>
        </p:nvSpPr>
        <p:spPr>
          <a:xfrm>
            <a:off x="6877080" y="4317840"/>
            <a:ext cx="219240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Асенова крепос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1" descr="C:\Users\StefanovZ\Desktop\ЦНСТ кв. Трендафил 1 (4).JPG"/>
          <p:cNvPicPr/>
          <p:nvPr/>
        </p:nvPicPr>
        <p:blipFill>
          <a:blip r:embed="rId7"/>
          <a:stretch/>
        </p:blipFill>
        <p:spPr>
          <a:xfrm>
            <a:off x="6927840" y="4660920"/>
            <a:ext cx="2152800" cy="1287360"/>
          </a:xfrm>
          <a:prstGeom prst="rect">
            <a:avLst/>
          </a:prstGeom>
          <a:ln w="0">
            <a:noFill/>
          </a:ln>
        </p:spPr>
      </p:pic>
      <p:sp>
        <p:nvSpPr>
          <p:cNvPr id="411" name="TextBox 7"/>
          <p:cNvSpPr/>
          <p:nvPr/>
        </p:nvSpPr>
        <p:spPr>
          <a:xfrm>
            <a:off x="6927840" y="5686560"/>
            <a:ext cx="219060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ЦНСТ – гр. Габров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0" descr="\\oprd-nfs\DG_PRD\-=Public=-\-= Photos =-\1_snimki+info_proekti_shemi_PRR\1.1-09\ЮЦР\Panagyurishte_1.1-09 - Въвеждане на мерки за енергийна ефективност в общинска образователна инфраструктура, гр. Панагюрище\ОУ 20 Април\20_april\DSC_4141.JPG"/>
          <p:cNvPicPr/>
          <p:nvPr/>
        </p:nvPicPr>
        <p:blipFill>
          <a:blip r:embed="rId8"/>
          <a:stretch/>
        </p:blipFill>
        <p:spPr>
          <a:xfrm>
            <a:off x="4572000" y="4632480"/>
            <a:ext cx="2370240" cy="13446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7"/>
          <p:cNvSpPr/>
          <p:nvPr/>
        </p:nvSpPr>
        <p:spPr>
          <a:xfrm>
            <a:off x="4594320" y="4632480"/>
            <a:ext cx="234792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ОУ – гр. Панагюрищ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1152360" y="422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507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дкрепа за деинституционализация на децата в България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изградени 1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ЦНСТ, 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изградени, обзаведени и оборудвани защитени жилища и 5 бр. ремонтирани и оборудвани защитени жилищ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хабилитира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конструиран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ътищ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16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км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добрена градска сре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зелени площ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етски площадки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3,1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млн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кв.м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селение, облагодетелствано от подобрената градска сре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млн. душ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зграде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хабилитира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ешеходни зо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велоалеи, тротоар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961 хил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кв.м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6" descr="\\oprd-nfs\DG_PRD\-=Public=-\-= Photos =-\1_snimki+info_proekti_shemi_PRR\1.4-09\СИР\Добрич - гр.парк Св.Георги\10710954_308921519314703_567517781773639023_n.jpg"/>
          <p:cNvPicPr/>
          <p:nvPr/>
        </p:nvPicPr>
        <p:blipFill>
          <a:blip r:embed="rId3"/>
          <a:stretch/>
        </p:blipFill>
        <p:spPr>
          <a:xfrm>
            <a:off x="5205240" y="3573360"/>
            <a:ext cx="3711600" cy="23385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7"/>
          <p:cNvSpPr/>
          <p:nvPr/>
        </p:nvSpPr>
        <p:spPr>
          <a:xfrm>
            <a:off x="5251320" y="5649840"/>
            <a:ext cx="369108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Градска среда – гр. Добри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C:\Users\IlievP\Desktop\IMAG1976.jpg"/>
          <p:cNvPicPr/>
          <p:nvPr/>
        </p:nvPicPr>
        <p:blipFill>
          <a:blip r:embed="rId4"/>
          <a:stretch/>
        </p:blipFill>
        <p:spPr>
          <a:xfrm>
            <a:off x="7380360" y="1413000"/>
            <a:ext cx="1576440" cy="2087280"/>
          </a:xfrm>
          <a:prstGeom prst="rect">
            <a:avLst/>
          </a:prstGeom>
          <a:ln w="0">
            <a:noFill/>
          </a:ln>
        </p:spPr>
      </p:pic>
      <p:sp>
        <p:nvSpPr>
          <p:cNvPr id="425" name="TextBox 7"/>
          <p:cNvSpPr/>
          <p:nvPr/>
        </p:nvSpPr>
        <p:spPr>
          <a:xfrm>
            <a:off x="7367760" y="1438200"/>
            <a:ext cx="157464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Лот 18 - АП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3" descr="C:\Users\IlievP\Desktop\IMG_0642.JPG"/>
          <p:cNvPicPr/>
          <p:nvPr/>
        </p:nvPicPr>
        <p:blipFill>
          <a:blip r:embed="rId5"/>
          <a:stretch/>
        </p:blipFill>
        <p:spPr>
          <a:xfrm>
            <a:off x="5076720" y="1569960"/>
            <a:ext cx="2252880" cy="1787760"/>
          </a:xfrm>
          <a:prstGeom prst="rect">
            <a:avLst/>
          </a:prstGeom>
          <a:ln w="0">
            <a:noFill/>
          </a:ln>
        </p:spPr>
      </p:pic>
      <p:sp>
        <p:nvSpPr>
          <p:cNvPr id="427" name="TextBox 7"/>
          <p:cNvSpPr/>
          <p:nvPr/>
        </p:nvSpPr>
        <p:spPr>
          <a:xfrm>
            <a:off x="5076720" y="3311640"/>
            <a:ext cx="225288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Градска среда – Гоце Делче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Zlatko Stefanov</cp:lastModifiedBy>
  <dcterms:modified xsi:type="dcterms:W3CDTF">2015-10-02T07:46:15Z</dcterms:modified>
  <cp:revision>989</cp:revision>
  <dc:subject/>
  <dc:title>Diapositiva 1</dc:title>
</cp:coreProperties>
</file>