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B420-865D-4394-BCE4-BE0E77E03EEC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8CD6-584F-4B2D-86A0-DE5A8223924E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казанията имат единствено информативен и препоръчителен характер и имат за цел да подпомогнат бенефициентите при подготовка на качествени проектни предложения, което от своя страна да намали срока за оценката им, включително връщането им за отстраняване на нередовности, непълноти и/или несъответствия от страна на Междинните звена по ОПР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база натрупания до момента опит по контрол на оценката, която УО извършва са изведени слабостите и неточности, което води до връщане за корекции на подадените проекти, предоставяне на допълнителна информация и документи, както и повторна оценка, така че да се постигнат в максимална степен критериите за административно съответствие и допустимост и критериите за техническа и финансова оц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BAC9-C523-4AD1-B5D5-513B1105F7B7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8DE-FF6C-4241-BF0C-1DCB2AEF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C4F-6251-4D32-8C10-C56F96DD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6E3-48EC-42FD-BDDC-1884C83A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5A79-56A7-4722-8AC4-5AABF1BC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BE0B-BFCC-4BA7-BE44-7337F336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0E6D-4F29-403D-987A-8F9E31F3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F2DD-EC1B-44F0-BB88-C1B59A0D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687F-D318-45AC-A13E-725E4F47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2814-7CF0-4C54-99EC-D5D0AE43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D405-C15A-442A-AC5A-9FFE7731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FF5D-E788-406B-9C93-1D731210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33D-556F-4FD5-A51F-9FCA283D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5C27-B6AD-4D13-8EDB-13E77E37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8BDD-82A2-4F39-995A-09FE4A95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79EF-6D05-4A51-815F-40091DB2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C1C0-BFA6-4D8E-A71E-D8FB95E6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1746-04F8-4354-86CB-80FD3F22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65352-56A8-4B6F-82CD-8C412188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1C557-BC86-4128-ACB5-5376598B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4DF39-6738-43ED-A437-4DA53E1C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AEBD6-A678-4DD0-8CEC-207F6290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CE601-76DF-461C-8ECD-CD59E9E3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C9E3-FFEE-4746-8CD0-C85F9431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AABA4-5F1B-4529-9B9F-E98B5CE9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BE5B0-343D-46F5-B2E3-1415F6A4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E1FF4-A888-43AE-9DC0-7A9CCEF9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D0B6E-2605-482B-AB93-601DDCD2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D18A8-613B-4818-A8D2-96DAEA30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46F8-CEE9-4091-AA03-1029D81B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C268D-A74E-4BC4-996E-0ABADBB4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93A-93E1-4148-929A-FF2777FB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228-47FA-49FA-9689-73E78E2B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DB59-DA31-4107-B408-948335F4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8D7-1903-497B-B293-02156792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0DED-F468-478B-8A54-C9DF1C0B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E820-BBA5-4C72-A76F-7DAB2208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0685-E3CB-4587-B1A6-7838249EE79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6E07-B4E7-4BD1-8F7E-C4326324C79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0AB0-B071-4FB7-A7D0-8CFD9E24CA8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95280" y="3789360"/>
            <a:ext cx="5329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Често допускани пропуски и грешки при оценка на проектни предложения по ПО1, група дейности „Културна инфраструктура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гр. София,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25</a:t>
            </a: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09</a:t>
            </a: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.20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20</a:t>
            </a: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139" name="5-Point Star 3"/>
          <p:cNvSpPr/>
          <p:nvPr/>
        </p:nvSpPr>
        <p:spPr>
          <a:xfrm>
            <a:off x="6568920" y="364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00320" y="20952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Arial"/>
              </a:rPr>
              <a:t>Често допускани пропуски и грешки при оценка на проектни предложения по ПО1, група дейности „Културна инфраструктура“</a:t>
            </a:r>
            <a:r>
              <a:rPr b="1" lang="bg-BG" sz="1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539640" y="1628640"/>
            <a:ext cx="82090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Основна</a:t>
            </a: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 цел </a:t>
            </a:r>
            <a:r>
              <a:rPr b="0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е </a:t>
            </a:r>
            <a:r>
              <a:rPr b="0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представяне</a:t>
            </a:r>
            <a:r>
              <a:rPr b="0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 на обобщена информация за </a:t>
            </a:r>
            <a:r>
              <a:rPr b="0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най-често</a:t>
            </a:r>
            <a:r>
              <a:rPr b="0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допусканите</a:t>
            </a:r>
            <a:r>
              <a:rPr b="0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 пропуски и неточности по </a:t>
            </a:r>
            <a:r>
              <a:rPr b="0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подадените проектни предложения по процедура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spcBef>
                <a:spcPts val="1199"/>
              </a:spcBef>
              <a:buClr>
                <a:srgbClr val="0b2e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по отношение на попълване </a:t>
            </a:r>
            <a:r>
              <a:rPr b="1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на формуляр</a:t>
            </a: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а </a:t>
            </a:r>
            <a:r>
              <a:rPr b="1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50000"/>
              </a:lnSpc>
              <a:spcBef>
                <a:spcPts val="1199"/>
              </a:spcBef>
              <a:buClr>
                <a:srgbClr val="0b2e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при подадените документи </a:t>
            </a:r>
            <a:r>
              <a:rPr b="0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към проектните предлож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което води до връщане за корекции на подадените проектни предложения, предоставяне на допълнителна информация и документи, както и повторна оц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4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tent Placeholder 2"/>
          <p:cNvSpPr/>
          <p:nvPr/>
        </p:nvSpPr>
        <p:spPr>
          <a:xfrm>
            <a:off x="324000" y="1773360"/>
            <a:ext cx="8351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Недопустимите разходи включени в раздел 5 „Бюджет“ от ФК са разбити по отделни видове дейности и обекти, вкл. отделно е посочено ДД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В раздел 7 „План за изпълнение/Дейности по проекта“ на ПП са включени дейности за всички разходи, включително недопустимите и тези, финансирани с финансов инстр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1392120" y="303120"/>
            <a:ext cx="61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пуски/ Неточности по отношение на попълване на формуляр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214280" y="270000"/>
            <a:ext cx="6120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пуски/Неточности по отношение на попълване на формуляр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468360" y="1422360"/>
            <a:ext cx="8136000" cy="38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2e9d"/>
                </a:solidFill>
                <a:latin typeface="Arial"/>
                <a:ea typeface="Times New Roman"/>
              </a:rPr>
              <a:t>В раздел 9 „Екип“ на ПП не се разписва екип п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b2e9d"/>
                </a:solidFill>
                <a:latin typeface="Arial"/>
                <a:ea typeface="Times New Roman"/>
              </a:rPr>
              <a:t>В раздел 10 „План за външно възлагане“ на ФК не се описват процедури, </a:t>
            </a:r>
            <a:r>
              <a:rPr b="1" lang="ru-RU" sz="2400" spc="-1" strike="noStrike">
                <a:solidFill>
                  <a:srgbClr val="0b2e9d"/>
                </a:solidFill>
                <a:latin typeface="Arial"/>
                <a:ea typeface="Times New Roman"/>
              </a:rPr>
              <a:t>които ще се финансират с Ф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214280" y="270000"/>
            <a:ext cx="6120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пуски/Неточности по отношение на попълване на формуляр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433440" y="1628640"/>
            <a:ext cx="813420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b2e9d"/>
                </a:solidFill>
                <a:latin typeface="Arial"/>
                <a:ea typeface="Times New Roman"/>
              </a:rPr>
              <a:t>Пропуски в раздел 11 “Допълнителна информация, необходима за оценка на проектното предложение“ от Формуляра за кандидатств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b2e9d"/>
                </a:solidFill>
                <a:latin typeface="Arial"/>
                <a:ea typeface="Times New Roman"/>
              </a:rPr>
              <a:t>Несъответствие между отделните раздели от Формуляра за кандидатстване и приложените деклар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63327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пуски/неточности в документите към формуляра за кандидатств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94920" y="1520640"/>
            <a:ext cx="820908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Към окончателния вариант на ПП са прикачени документи, които не се изискват съгласно Насоките за кандидатстване по процедурата за проекти по група дейности „Културна инфраструктура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Представената финансова обосновка за реалистичност и съответствие с пазарните цени не съответства в цялост на заложените в бюджета на проекта разх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7280" y="223560"/>
            <a:ext cx="619128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опуски/неточности в документите към формуляра за кандидатств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86920" y="1628640"/>
            <a:ext cx="8317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Н</a:t>
            </a:r>
            <a:r>
              <a:rPr b="1" lang="en-US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e</a:t>
            </a: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коректно попълнена декларацията от кандидата за съответствие с изискванията по процедурата - Приложение В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Специфик</a:t>
            </a:r>
            <a:r>
              <a:rPr b="1" lang="bg-BG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а</a:t>
            </a: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 при представяне на Декларация Приложение В5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b2e9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2e9d"/>
                </a:solidFill>
                <a:latin typeface="Arial"/>
                <a:ea typeface="Times New Roman"/>
              </a:rPr>
              <a:t>Декларация за проектна гото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ontent Placeholder 2"/>
          <p:cNvSpPr/>
          <p:nvPr/>
        </p:nvSpPr>
        <p:spPr>
          <a:xfrm>
            <a:off x="250920" y="1628640"/>
            <a:ext cx="856908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Назначаване на оценителна комис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 срок до </a:t>
            </a: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5 работни дн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получаване на проектното предлож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Помощник-оценители</a:t>
            </a:r>
            <a:r>
              <a:rPr b="0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ключване при необходимост с конректна задача; предоставяне на достъп до ИСУН и получаване на становище през ИСУ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buClr>
                <a:srgbClr val="25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ОАС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попълване на информация в оценителните листове за всеки крите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ТФ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ръщане на ПП за доработване, в случай че не е получило максималния брой точки по определени критер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buClr>
                <a:srgbClr val="250e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Електронни образци на документ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следва да се използват приложения спрямо Вътрешните правила за работа на МЗ при оценката на ПП </a:t>
            </a:r>
            <a:r>
              <a:rPr b="1" lang="ru-RU" sz="1800" spc="-1" strike="noStrike">
                <a:solidFill>
                  <a:srgbClr val="250eb2"/>
                </a:solidFill>
                <a:latin typeface="Arial"/>
                <a:ea typeface="Times New Roman"/>
              </a:rPr>
              <a:t>в приложимия форм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1415880" y="42840"/>
            <a:ext cx="597708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Важни моменти в работата на оценителната коми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1042920" y="1844640"/>
            <a:ext cx="727416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2060"/>
                </a:solidFill>
                <a:latin typeface="Arial"/>
              </a:rPr>
              <a:t>БЛАГОДАРЯ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bg-BG" sz="2800" spc="-1" strike="noStrike">
                <a:solidFill>
                  <a:srgbClr val="002060"/>
                </a:solidFill>
                <a:latin typeface="Arial"/>
              </a:rPr>
              <a:t>ЗА ВНИМАНИЕ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SVETELINA IVANOVA DJURINA</cp:lastModifiedBy>
  <cp:lastPrinted>2015-05-05T13:25:48Z</cp:lastPrinted>
  <dcterms:modified xsi:type="dcterms:W3CDTF">2020-09-25T12:09:46Z</dcterms:modified>
  <cp:revision>1542</cp:revision>
  <dc:subject/>
  <dc:title>Diapositiva 1</dc:title>
</cp:coreProperties>
</file>