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A64D-5CD7-4619-A777-F700D8E52B4F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5C74-2E40-4BA3-95AA-858BBDF0943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75D-2D22-4BB6-A9E4-F694C046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14A-C637-4286-96E0-A633E5F5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07F-1FB5-4C98-9A47-780F65F8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E87-4432-4E66-B1AD-FE19903E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F886-4801-49B2-9605-24ED6807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E6F2-2EB1-4C22-B798-7C258828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8842-D4EA-46FD-9C2F-72DEC51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DBFA-A21D-407A-A03D-0137E599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0E55-48A5-4BD7-98BE-73E28AA3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7178-7D9E-4883-BA26-8B025F42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69F0-D0C7-4EE2-A28B-C87AA362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9E1-77C0-46DE-9381-7FD8710E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E716-D84E-46E1-A0B4-128AE8E3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1592-DC6B-48FD-B9B8-4651B783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7681-AB2E-47AC-B791-649F63AE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419F-D4C9-40E5-8075-9C4F2782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1177-D31B-4BB1-B84B-244AA09B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4F66-9055-41F0-A015-805E3FFF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B047-FD2A-4CFE-8D96-11E83314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8815-223A-470B-BE6C-EDF19D1B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AA62-0424-4A07-A17C-7B42D14A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6B56-22D7-45B9-BD5B-DE0737B8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949-F223-446A-A16A-C5AE4A1F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C67D-D196-4DF1-81DA-36F93460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F0348-8E1E-4D53-9756-35B0A243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20B3-DCCE-428B-AD19-66DDE3FC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FF66-CD0A-49B9-A9EF-15FFD69D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D374-D5F3-472D-94F9-544E2634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7566-134B-43EE-B731-9DB3CAD6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F323-FCF4-4518-901E-4EFC39B9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CF2-5E02-4AF7-801E-73180D14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916-2736-4505-87D9-E6D3FCCE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4CD-8F86-4F68-A44E-86DC272F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253-2F98-4A31-8AC7-365DC4E3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51C-5C34-4862-BA1C-1C447FC1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CC0-8DD5-4781-A0CF-375A7946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9679-7912-4B9C-8923-D77B5036A37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139A-4472-4C81-93D7-74C0F6DF9F3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CEC3-AB76-4AA0-829A-5CC9FE947A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146160" y="3500280"/>
            <a:ext cx="6226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0"/>
          <p:cNvSpPr/>
          <p:nvPr/>
        </p:nvSpPr>
        <p:spPr>
          <a:xfrm>
            <a:off x="395280" y="4221000"/>
            <a:ext cx="583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Sylfaen"/>
              </a:rPr>
              <a:t>ПРЕДЛОЖЕНИЕ ЗА ИЗМЕНЕНИЕ НА ИГРП ЗА 2015 Г. НА ОПРР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95280" y="5870520"/>
            <a:ext cx="52563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ърво заседание на КН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3 «Регионлана образователна инфраструктура» (ПО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0" y="1484280"/>
            <a:ext cx="900576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Култура и спорт в училищ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оември 2015 г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ва компонен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подкрепа за училища по културата и изкуства и за спортни уч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14,8 млн.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инистерство на култур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Министерство на младежта и сп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Строителство, реконструкция и ремонт на държавни училища от национално и регионално значение, включително прилежащото дворно пространство и общежитията към тях, осъществяване на мерки за енергийна ефективн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оставка и монтаж на оборудване и обзавеждане за сградите на спортните училища и училищата по култура и изку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3 «Регионлана образователна инфраструктура» (ПО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-1440" y="1395360"/>
            <a:ext cx="90057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Подкрепа за професионалните училища в РБългария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декември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66 478 880 млн.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МОН, МЗХ и общи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 чиято територия са разположени професионални уч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Строителство, реконструкция и ремонт на държавни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ински професионални училища от национално и регионално 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ително прилежащото дворно пространство и общежитията към тях, осъществяване на мерки за енергийна ефективн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оставка и монтаж на оборудване и обзавеждане за горепосочените сг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вления: „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етеринарна медицина, Горско стопанство и Растениевъдство и животновъ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 и „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фесионални гимназии с изключение на доминиращите на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етеринарна медицина, Горско стопанство и Растениевъдство и животновъдство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3 «Регионална образователна инфраструктура» (ПО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0" y="1407960"/>
            <a:ext cx="90057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Подкрепа за висшите училища в РБългария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декември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43 028 260 млн.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висши училищ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Строителство, реконструкция и ремонт на  висши училища, включително прилежащото дворно пространство, конструктивни обследвания на съответните сгради, подобряване на достъпа за хора с увреждания до сградите на висшите училища, доставка и монтаж на оборудване и обзавеждане за горепосочените сг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крепата за висшите училища ще се предоставя в съответствие с методология, изготвена от МОН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сноваваща се на рейтинговата система за висшите училища в Република 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88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8 «Техническа помощ» (ПО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33480" y="1557360"/>
            <a:ext cx="900720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„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Бюджетна линия за 28- общини на малки градове от 4-то ниво, съгласно НКПР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ктомври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 111 359,48 млн.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8 общини на малки градове от 4-то ниво на националната полицентрична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ие в  програми за обмен на опит и добри практик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изирани обучения, обмяна на опит и участие в конференции в областта 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енергийната ефективност в страни от Северна и Централна 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042920" y="1844640"/>
            <a:ext cx="7274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ч.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4-28T17:44:28Z</cp:lastPrinted>
  <dcterms:modified xsi:type="dcterms:W3CDTF">2015-10-02T09:38:04Z</dcterms:modified>
  <cp:revision>1185</cp:revision>
  <dc:subject/>
  <dc:title>Diapositiva 1</dc:title>
</cp:coreProperties>
</file>