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524D-22EF-43DB-8065-57D2688BEAC3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EEF1-A8D7-4F5A-B7A1-2052C7D3EDD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47DD-3B8C-4191-B2EA-FFF21A4A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90C-A090-49EE-A8B2-BFF780C2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A2E-D338-4D3B-B02D-0E440740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DEC-2DF8-4F98-9C06-5E469961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64D8-532C-47CB-BE14-B28AEE35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AF7C-4960-4524-BFE8-9BF02F60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A7BA-E635-4617-9B4C-5FB0EBB3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DB35-2717-44AB-88A4-825AC151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E6C8-B1AD-44B4-9A5B-188D1BCC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E89B-6A40-4E00-9C31-3DC5B2AC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78F3-D8AA-4E33-93B9-1C5C376D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6AE-B829-4183-B486-6BE4614A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1871-5404-45F4-AA40-5BA0828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767E-DCA5-4CE6-9793-843CAF0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AC2C-3E7E-45FF-9A00-11E21678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B4B4-DF87-43CA-A3D9-BC5FEA29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8DEA-B6DA-41B8-917B-4CB58D5A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95B7-0408-4E9B-94AE-26D7FCE5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4A19-6931-4E3C-9627-0DECD553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37FAA-91B7-49C0-BD77-B11C3E44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D3F7-5DDE-426C-BDB5-55556AA8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7C5D-E6D5-4BC3-8EB5-E1DC7822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9EB-5F58-44B5-97FA-8CD88F69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5ABC-8AF2-41B2-B400-9FC38FC9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41495-E976-46EA-9A9E-D4C50364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D2F54-8E67-4560-B4AB-F829C855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9467-A792-4F75-A593-2DDD605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5068D-5252-4E97-AECA-1A789BBA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2417-C9D0-4CB7-9ECA-956194C4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2EC89-E2B7-48CE-ADD0-6823C881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7482-74ED-4B24-9841-B2A81615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9B40-6772-42B0-8EA3-A1E83111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73C-682D-4D86-9E04-D2A378B0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82D-9A9A-407D-8CD2-E5CEFC11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88E-B3C6-435A-80A7-5792FE3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EE6-AC27-456C-8D39-A91B5967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CCC2-030F-4D3A-9721-31AE3C14CD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550-5A35-44D6-83AD-7DFED87DAEE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741B-E40A-4B88-A7CB-78E45A930B1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3500280"/>
            <a:ext cx="6226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395280" y="4221000"/>
            <a:ext cx="583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Sylfaen"/>
              </a:rPr>
              <a:t>ПРЕДЛОЖЕНИЕ ЗА ИЗМЕНЕНИЕ НА ИГРП ЗА 2015 Г. НА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95280" y="5870520"/>
            <a:ext cx="52563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 на КН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3 «Регионлана образователна инфраструктура» (ПО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0" y="1484280"/>
            <a:ext cx="900576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Култура и спорт в училищ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оември 2015 г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ва компонен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подкрепа за училища по културата и изкуства и за спортни уч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14,8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Министерство на култур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Министерство на младежта и 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Строителство, реконструкция и ремонт на държавни училища от национално и регионално значение, включително прилежащото дворно пространство и общежитията към тях, осъществяване на мерки за енергийна ефективн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ставка и монтаж на оборудване и обзавеждане за сградите на спортните училища и училищата по култура и изку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3 «Регионлана образователна инфраструктура» (ПО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-1440" y="139536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Подкрепа за професионалните училища в РБългария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декември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66 478 880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МОН, МЗХ и общи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 чиято територия са разположени професионални уч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Строителство, реконструкция и ремонт на държавни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ински професионални училища от национално и регионално 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ително прилежащото дворно пространство и общежитията към тях, осъществяване на мерки за енергийна ефективн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ставка и монтаж на оборудване и обзавеждане за горепосочените сг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авления: „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етеринарна медицина, Горско стопанство и Растениевъдство и животновъд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“ и „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фесионални гимназии с изключение на доминиращите на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етеринарна медицина, Горско стопанство и Растениевъдство и животновъдство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3 «Регионална образователна инфраструктура» (ПО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0" y="1407960"/>
            <a:ext cx="900576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цедура „Подкрепа за висшите училища в РБългария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декември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43 028 260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исши училищ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Строителство, реконструкция и ремонт на  висши училища, включително прилежащото дворно пространство, конструктивни обследвания на съответните сгради, подобряване на достъпа за хора с увреждания до сградите на висшите училища, доставка и монтаж на оборудване и обзавеждане за горепосочените сг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крепата за висшите училища ще се предоставя в съответствие с методология, изготвена от МОН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сноваваща се на рейтинговата система за висшите училища в Република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8 «Техническа помощ» (ПО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33480" y="1557360"/>
            <a:ext cx="900720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„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Бюджетна линия за 28- общини на малки градове от 4-то ниво, съгласно НКПР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ктомври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процедур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 111 359,48 млн.л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8 общини на малки градове от 4-то ниво на националната полицентрична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тими де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ие в  програми за обмен на опит и добри практи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ециализирани обучения, обмяна на опит и участие в конференции в областта 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нергийната ефективност в страни от Северна и Централна Евро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042920" y="1844640"/>
            <a:ext cx="7274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ч.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4-28T17:44:28Z</cp:lastPrinted>
  <dcterms:modified xsi:type="dcterms:W3CDTF">2015-10-02T09:38:04Z</dcterms:modified>
  <cp:revision>1185</cp:revision>
  <dc:subject/>
  <dc:title>Diapositiva 1</dc:title>
</cp:coreProperties>
</file>