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B0C3-640F-471E-ADA2-5CC083C120E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838D-50DA-480D-A5C3-B4AE71DA9A8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5DC-4C45-4FDF-BEBB-74413BFD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012-2DDA-43E6-9E1B-4732F12A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6DE-7051-4C66-A41A-B6178F20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C35-8588-42A4-927B-E80A21B4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DE2-BE6A-4A96-B728-E285AF25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DB22-5837-4EA0-86DA-98F750EA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7032-963E-431D-9DF8-F1B2DDB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D5C3-E1F8-4590-8E5F-A1A02648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21FB-7E73-4EAF-96A2-97A6CE7B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EE58-7EAC-44D0-8387-443A1729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8579-DCCC-4D12-A754-47DD7CDD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3AA-1D8D-4315-AA5F-4679EB5F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12C8-8767-44D4-B108-79A58D05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13E0-61AF-44AF-82AA-053C84F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FCAB-95D4-4DF0-8125-2BFF7A90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C8BF-4C0F-4819-B4CC-836AA500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9FB3-C25E-409A-B110-C8FA8944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78FD-6BDA-4298-88F1-FA1C947B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166A-D0AD-4C47-A606-8FB901F5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DA00-4787-4431-9B39-56CF974E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5A55-C391-41EA-9495-661956A7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4DB44-D783-4378-B5D6-B71E544B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12D-9657-40C9-9FD9-97ED1625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BCC8-622D-4893-A683-5A09FFAE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80D2-D6E4-4720-8839-3A7BD0D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05FD-D550-4C00-8333-71255E4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BB08-48E3-41E5-BCEB-764008BB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8965-1476-4BB1-9532-4026EF45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1C54-AA4D-4709-84AA-31A9E44E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DC4E-F700-471F-BDDF-6FD08612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AC9-D0CE-43EE-96AA-DD755F77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113-B375-4ECF-AD0B-2C137785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A6C-0BC2-4BBE-942F-5FBAA224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3B1-6E9C-407F-83A3-B2AE4630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EBF-B3A0-41BA-9A10-4A7BD2F9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45D-515A-482D-96A4-9D250F3B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5DAB-5711-4960-9B63-3B6E24D0C3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E66C-DAA1-41AF-963B-81BFFE51FD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D025-79FC-4CF4-8975-ADA5D88E84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3500280"/>
            <a:ext cx="6226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666720" y="4653000"/>
            <a:ext cx="57056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ПРОЕКТ НА ИНДИКАТИВНА ГОДИШНА РАБОТНА ПРОГРАМА ЗА 201</a:t>
            </a: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6</a:t>
            </a: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54120" y="5870520"/>
            <a:ext cx="55022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 на КН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«Регионлана здравна инфраструктура» (ПО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-7920" y="140652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егионална здрав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септември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63 502 132,68 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ен 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фици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инистерство на здравеопазване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рнизацията на системата за спешна медицинска помощ ще се извърши с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дин голям прое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ъответствие с член 100 от Регламент (ЕС) № 1303/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магане на спешните отделения в областните многопрофилни болници да развият капацитет за оказване на спешна медицинска помощ, строителство, реконструкция, ремонт, оборудване и обзавеждане  на ЦСМП и техните филиали, 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купуване на съвременни санитарни превозни средства, техническа подкрепа за изпълнението на големия проект и на имащите отношение критерии на предварително условие 9.3 и осигуряване на усточйивост на инвестици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5 «Регион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лна социална инфраструктура» (ПО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0" y="1407960"/>
            <a:ext cx="910908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егионална социал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й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99 468 980,19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щини и МЗ з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мове за медико-социални гри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ната инфраструктур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дец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дкрепя в съответствие с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ционалната стратегия „Визия за деинституционализация на децата в Република България“ с хоризонт 2025 и Планът за действие за изпълнението 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то на социалната инфраструктур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възрастни хор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дкрепя в съответствие с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ционалната стратегия за дългосрочна гриж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вестициите ще бъдат предхождани от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нализ на потребностите и на обхвата на ползвателите на предлаганите социални услуг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Анализът се изготвя от Министерство на труда и социалната политика, което е отговорна институция за провеждане на цялостната национална политика в социалната сф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6 «Регионален туризъ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ПО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0" y="139536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азвитие на туристически атракци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рт 2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инансова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крепа се осигурява чрез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омбинирано финансиране на БФП и финансови инструмен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Общият размер на средствата за подкрепа на регионалния туризъм по ОПРР 2014-2020 се разпределя в съотношение 50% БФП и 50% финансов инстр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за БФ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98 530 688,35 млн.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средствата за туризъм (БФП+фин.инструмент) – 197 млн.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МК, общини, институции на вероизповеданията и техни местни по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Развитие на обекти н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ултурното наследство от национално и световно знач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магане развитието на туристически продукти, развитие на туристическата инфраструктура, необходима за нуждите на атракциите, развитие на допълнителна дребномащабна техническа инфраструктура 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042920" y="1844640"/>
            <a:ext cx="7274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ч.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4-28T17:44:28Z</cp:lastPrinted>
  <dcterms:modified xsi:type="dcterms:W3CDTF">2015-10-01T11:31:05Z</dcterms:modified>
  <cp:revision>1182</cp:revision>
  <dc:subject/>
  <dc:title>Diapositiva 1</dc:title>
</cp:coreProperties>
</file>