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9FEF-1ED2-4295-B16B-22721002A1FD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021E-3FDA-4183-B45F-2965DEDED80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F14-5547-41AE-9031-9BCD090B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85A-BA1C-4E4E-9EA5-B7C8409A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C07C-02E5-4791-AA03-81E52F01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C3F-09BC-4FE6-96B9-2E401FB3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4BC8-0884-4A86-BFCA-E8A18CBB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8E16-BAC7-48DA-B3CB-D86F1B60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0F43-8F81-419A-A9E0-997478AD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DE67-C97D-4D48-90EE-D8B0B85F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2302-DD7B-4F94-B4EE-588AA81D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0740-0D79-4589-8C11-E0D17460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64D8-B225-42FD-A52C-87EB8E0F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812-74BD-4B4A-AE6C-98C2850B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A910-E6EF-4F29-8872-213C4A2F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55B9-396B-43C9-8741-FCD000DA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0293-9A7E-402E-A6F4-55871AD3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4C4A-D000-459E-8E6D-6FBEB30D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94E8-21DF-4C23-8267-9061014F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DB6DF-6A49-4344-BAEC-9CE6EB03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A5C2B-D5AF-4623-B917-C242D204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EDE00-22CD-40AA-87CB-5E613F93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6FE85-499A-4AA5-B4A8-6D28CB24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692BD-9093-4B68-9A9B-B29A7354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916-7F4B-4502-9AF4-24642768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0DAF5-73AD-4C29-953B-9079D154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37BA8-01C4-4AD7-8EED-09145ADD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3B23A-51BF-4443-9439-941DD346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E6033-CB02-402C-836E-E3980BEA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257A8-7965-4C45-9A9A-4EEFCAF2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CA4DD-E6EB-4770-AC55-E6D5EF2B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C26A9-B610-46A8-8A6D-F8B591FB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0756-9D1E-477E-AECA-651062AB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44B-7DFB-47B9-897E-806067C0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58C-B3F0-4B0E-9368-A329DA91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E9A5-DE75-4F68-A3CA-4352795C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D65-D9EB-4400-83B4-0362F356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B70-961E-4596-B6E9-9CEE8C6E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34D0-1C2E-44DD-9410-3C47BD4395B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4803-BBC0-47D9-889B-004F17B7CAD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E82A-2051-4C9E-BD58-683777F2017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0"/>
          <p:cNvSpPr/>
          <p:nvPr/>
        </p:nvSpPr>
        <p:spPr>
          <a:xfrm>
            <a:off x="146160" y="3500280"/>
            <a:ext cx="6226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70"/>
          <p:cNvSpPr/>
          <p:nvPr/>
        </p:nvSpPr>
        <p:spPr>
          <a:xfrm>
            <a:off x="666720" y="4653000"/>
            <a:ext cx="57056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Sylfaen"/>
              </a:rPr>
              <a:t>ПРОЕКТ НА ИНДИКАТИВНА ГОДИШНА РАБОТНА ПРОГРАМА ЗА 201</a:t>
            </a:r>
            <a:r>
              <a:rPr b="1" lang="en-US" sz="2400" spc="-1" strike="noStrike">
                <a:solidFill>
                  <a:srgbClr val="ff0000"/>
                </a:solidFill>
                <a:latin typeface="Sylfaen"/>
              </a:rPr>
              <a:t>6</a:t>
            </a:r>
            <a:r>
              <a:rPr b="1" lang="bg-BG" sz="2400" spc="-1" strike="noStrike">
                <a:solidFill>
                  <a:srgbClr val="ff0000"/>
                </a:solidFill>
                <a:latin typeface="Sylfaen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54120" y="5870520"/>
            <a:ext cx="55022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Първо заседание на КН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06 окто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«Регионлана здравна инфраструктура» (ПО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-7920" y="1406520"/>
            <a:ext cx="900576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Регионална здравна инфраструктура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септември 2016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63 502 132,68  млн.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ен б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нефици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инистерство на здравеопазване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дернизацията на системата за спешна медицинска помощ ще се извърши с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един голям проек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ъответствие с член 100 от Регламент (ЕС) № 1303/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омагане на спешните отделения в областните многопрофилни болници да развият капацитет за оказване на спешна медицинска помощ, строителство, реконструкция, ремонт, оборудване и обзавеждане  на ЦСМП и техните филиали, 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купуване на съвременни санитарни превозни средства, техническа подкрепа за изпълнението на големия проект и на имащите отношение критерии на предварително условие 9.3 и осигуряване на усточйивост на инвестици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5 «Регион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лна социална инфраструктура» (ПО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0" y="1407960"/>
            <a:ext cx="910908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Регионална социална инфраструктура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ай 2016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99 468 980,19 млн.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енефициен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общини и МЗ з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мове за медико-социални гри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циалната инфраструктур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дец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ще се подкрепя в съответствие с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ационалната стратегия „Визия за деинституционализация на децата в Република България“ с хоризонт 2025 и Планът за действие за изпълнението 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то на социалната инфраструктур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възрастни хор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ще се подкрепя в съответствие с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ационалната стратегия за дългосрочна гриж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нвестициите ще бъдат предхождани от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анализ на потребностите и на обхвата на ползвателите на предлаганите социални услуг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Анализът се изготвя от Министерство на труда и социалната политика, което е отговорна институция за провеждане на цялостната национална политика в социалната сф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6 «Регионален туризъм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(ПО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0" y="1395360"/>
            <a:ext cx="900576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Развитие на туристически атракци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арт 20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инансоват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крепа се осигурява чрез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комбинирано финансиране на БФП и финансови инструмент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Общият размер на средствата за подкрепа на регионалния туризъм по ОПРР 2014-2020 се разпределя в съотношение 50% БФП и 50% финансов инстру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за БФП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98 530 688,35 млн.л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средствата за туризъм (БФП+фин.инструмент) – 197 млн.л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бенефициен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МК, общини, институции на вероизповеданията и техни местни по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Развитие на обекти на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културното наследство от национално и световно значени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омагане развитието на туристически продукти, развитие на туристическата инфраструктура, необходима за нуждите на атракциите, развитие на допълнителна дребномащабна техническа инфраструктура  и д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042920" y="1844640"/>
            <a:ext cx="72741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Мария Стане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Нач.отдел „Изпълнение на програмните приоритет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4-28T17:44:28Z</cp:lastPrinted>
  <dcterms:modified xsi:type="dcterms:W3CDTF">2015-10-01T11:31:05Z</dcterms:modified>
  <cp:revision>1182</cp:revision>
  <dc:subject/>
  <dc:title>Diapositiva 1</dc:title>
</cp:coreProperties>
</file>